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8DF-CBE3-438F-8485-08930F1C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392-32B5-4A79-A291-E3668C7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C24-1FED-4B91-9FF9-7DD68F64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AE2-DE8C-4F22-BF41-5C152E22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60A6-8D04-4C56-8281-6DA24BCC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F49-0C7E-4AE2-8AA7-F0A0E74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8834-EA60-4710-A480-7F8BF6AD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8146-BE57-45E5-8A11-1BE7708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8813-2D3F-48B8-BFB0-FA10448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52A-BA91-479C-914E-6C2B563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F159-4F3B-4B12-88C4-D47D2EB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71-B410-402F-9FBE-C964643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A09-0DB7-4CE9-8D22-1F724F1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756F-3D4B-4A12-9B4C-53D63D1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DBBA-46D9-4CC4-8C1A-917ADC9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02DE-A732-41C9-A558-B4FA0119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94E-DFBC-4CD3-BB77-368FD831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185-94A4-4F1F-A073-BB64F1F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279-89AB-440D-950D-25987B89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2F8-695A-4653-9CE2-F46C5843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A92-478D-4274-8536-D145430D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066-3FA0-42BE-82B6-E77A2700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1A3-EE17-4181-B08E-1A57BB4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3DF-BF76-4DE2-B73A-E445FCB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B76-D6E3-498E-9048-8346283EC8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3e26"/>
            </a:gs>
            <a:gs pos="100000">
              <a:srgbClr val="918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523e26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6a5a4c"/>
                </a:gs>
                <a:gs pos="100000">
                  <a:srgbClr val="7463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1dfa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c793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E07-165C-4862-A48C-CEAA3FBD46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(pg 204 #13,15,21)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15" name="Ink 5"/>
          <p:cNvSpPr/>
          <p:nvPr/>
        </p:nvSpPr>
        <p:spPr>
          <a:xfrm>
            <a:off x="1589040" y="1608120"/>
            <a:ext cx="768240" cy="258840"/>
          </a:xfrm>
          <a:custGeom>
            <a:avLst/>
            <a:gdLst/>
            <a:ahLst/>
            <a:rect l="l" t="t" r="r" b="b"/>
            <a:pathLst>
              <a:path w="2134" h="720">
                <a:moveTo>
                  <a:pt x="4490" y="4514"/>
                </a:moveTo>
                <a:cubicBezTo>
                  <a:pt x="4603" y="4514"/>
                  <a:pt x="4705" y="4506"/>
                  <a:pt x="4812" y="4490"/>
                </a:cubicBezTo>
                <a:cubicBezTo>
                  <a:pt x="4854" y="4490"/>
                  <a:pt x="4870" y="4498"/>
                  <a:pt x="4862" y="4465"/>
                </a:cubicBezTo>
              </a:path>
              <a:path w="2134" h="720">
                <a:moveTo>
                  <a:pt x="4490" y="4465"/>
                </a:moveTo>
                <a:cubicBezTo>
                  <a:pt x="4421" y="4617"/>
                  <a:pt x="4415" y="4636"/>
                  <a:pt x="4415" y="4787"/>
                </a:cubicBezTo>
                <a:cubicBezTo>
                  <a:pt x="4415" y="4849"/>
                  <a:pt x="4406" y="4864"/>
                  <a:pt x="4440" y="4887"/>
                </a:cubicBezTo>
                <a:cubicBezTo>
                  <a:pt x="4506" y="4868"/>
                  <a:pt x="4511" y="4840"/>
                  <a:pt x="4564" y="4787"/>
                </a:cubicBezTo>
                <a:cubicBezTo>
                  <a:pt x="4614" y="4737"/>
                  <a:pt x="4664" y="4719"/>
                  <a:pt x="4738" y="4738"/>
                </a:cubicBezTo>
                <a:cubicBezTo>
                  <a:pt x="4833" y="4762"/>
                  <a:pt x="4839" y="4817"/>
                  <a:pt x="4887" y="4887"/>
                </a:cubicBezTo>
                <a:cubicBezTo>
                  <a:pt x="4938" y="4961"/>
                  <a:pt x="4907" y="5032"/>
                  <a:pt x="4862" y="5110"/>
                </a:cubicBezTo>
                <a:cubicBezTo>
                  <a:pt x="4837" y="5154"/>
                  <a:pt x="4732" y="5178"/>
                  <a:pt x="4688" y="5184"/>
                </a:cubicBezTo>
                <a:cubicBezTo>
                  <a:pt x="4618" y="5193"/>
                  <a:pt x="4528" y="5163"/>
                  <a:pt x="4465" y="5135"/>
                </a:cubicBezTo>
                <a:cubicBezTo>
                  <a:pt x="4392" y="5103"/>
                  <a:pt x="4408" y="5089"/>
                  <a:pt x="4440" y="5035"/>
                </a:cubicBezTo>
              </a:path>
              <a:path w="2134" h="720">
                <a:moveTo>
                  <a:pt x="5184" y="4638"/>
                </a:moveTo>
                <a:cubicBezTo>
                  <a:pt x="5184" y="4777"/>
                  <a:pt x="5187" y="4899"/>
                  <a:pt x="5209" y="5035"/>
                </a:cubicBezTo>
                <a:cubicBezTo>
                  <a:pt x="5209" y="5043"/>
                  <a:pt x="5209" y="5052"/>
                  <a:pt x="5209" y="5060"/>
                </a:cubicBezTo>
              </a:path>
              <a:path w="2134" h="720">
                <a:moveTo>
                  <a:pt x="5011" y="4862"/>
                </a:moveTo>
                <a:cubicBezTo>
                  <a:pt x="5081" y="4835"/>
                  <a:pt x="5140" y="4856"/>
                  <a:pt x="5209" y="4837"/>
                </a:cubicBezTo>
                <a:cubicBezTo>
                  <a:pt x="5278" y="4818"/>
                  <a:pt x="5336" y="4796"/>
                  <a:pt x="5407" y="4787"/>
                </a:cubicBezTo>
              </a:path>
              <a:path w="2134" h="720">
                <a:moveTo>
                  <a:pt x="5581" y="4614"/>
                </a:moveTo>
                <a:cubicBezTo>
                  <a:pt x="5623" y="4572"/>
                  <a:pt x="5670" y="4547"/>
                  <a:pt x="5730" y="4539"/>
                </a:cubicBezTo>
                <a:cubicBezTo>
                  <a:pt x="5814" y="4528"/>
                  <a:pt x="5850" y="4560"/>
                  <a:pt x="5904" y="4614"/>
                </a:cubicBezTo>
                <a:cubicBezTo>
                  <a:pt x="5939" y="4649"/>
                  <a:pt x="5892" y="4774"/>
                  <a:pt x="5854" y="4812"/>
                </a:cubicBezTo>
                <a:cubicBezTo>
                  <a:pt x="5793" y="4873"/>
                  <a:pt x="5740" y="4917"/>
                  <a:pt x="5680" y="4986"/>
                </a:cubicBezTo>
                <a:cubicBezTo>
                  <a:pt x="5652" y="5014"/>
                  <a:pt x="5643" y="5027"/>
                  <a:pt x="5655" y="5060"/>
                </a:cubicBezTo>
                <a:cubicBezTo>
                  <a:pt x="5717" y="5097"/>
                  <a:pt x="5785" y="5097"/>
                  <a:pt x="5854" y="5060"/>
                </a:cubicBezTo>
                <a:cubicBezTo>
                  <a:pt x="5879" y="5044"/>
                  <a:pt x="5903" y="5027"/>
                  <a:pt x="5928" y="5011"/>
                </a:cubicBezTo>
              </a:path>
              <a:path w="2134" h="720">
                <a:moveTo>
                  <a:pt x="6077" y="4688"/>
                </a:moveTo>
                <a:cubicBezTo>
                  <a:pt x="6106" y="4736"/>
                  <a:pt x="6123" y="4781"/>
                  <a:pt x="6152" y="4837"/>
                </a:cubicBezTo>
                <a:cubicBezTo>
                  <a:pt x="6208" y="4944"/>
                  <a:pt x="6275" y="5020"/>
                  <a:pt x="6400" y="5060"/>
                </a:cubicBezTo>
                <a:cubicBezTo>
                  <a:pt x="6442" y="5073"/>
                  <a:pt x="6504" y="5060"/>
                  <a:pt x="6548" y="5060"/>
                </a:cubicBezTo>
              </a:path>
              <a:path w="2134" h="720">
                <a:moveTo>
                  <a:pt x="6474" y="4713"/>
                </a:moveTo>
                <a:cubicBezTo>
                  <a:pt x="6406" y="4802"/>
                  <a:pt x="6330" y="4889"/>
                  <a:pt x="6276" y="4986"/>
                </a:cubicBezTo>
                <a:cubicBezTo>
                  <a:pt x="6241" y="5048"/>
                  <a:pt x="6238" y="5050"/>
                  <a:pt x="6176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Ink 6"/>
          <p:cNvSpPr/>
          <p:nvPr/>
        </p:nvSpPr>
        <p:spPr>
          <a:xfrm>
            <a:off x="1027080" y="1677960"/>
            <a:ext cx="1330200" cy="573120"/>
          </a:xfrm>
          <a:custGeom>
            <a:avLst/>
            <a:gdLst/>
            <a:ahLst/>
            <a:rect l="l" t="t" r="r" b="b"/>
            <a:pathLst>
              <a:path w="3696" h="1589">
                <a:moveTo>
                  <a:pt x="4564" y="5259"/>
                </a:moveTo>
                <a:cubicBezTo>
                  <a:pt x="4547" y="5267"/>
                  <a:pt x="4531" y="5275"/>
                  <a:pt x="4514" y="5283"/>
                </a:cubicBezTo>
                <a:cubicBezTo>
                  <a:pt x="4579" y="5322"/>
                  <a:pt x="4658" y="5308"/>
                  <a:pt x="4738" y="5308"/>
                </a:cubicBezTo>
                <a:cubicBezTo>
                  <a:pt x="4897" y="5308"/>
                  <a:pt x="5050" y="5286"/>
                  <a:pt x="5209" y="5283"/>
                </a:cubicBezTo>
                <a:cubicBezTo>
                  <a:pt x="5617" y="5275"/>
                  <a:pt x="6199" y="5283"/>
                  <a:pt x="6524" y="5283"/>
                </a:cubicBezTo>
              </a:path>
              <a:path w="3696" h="1589">
                <a:moveTo>
                  <a:pt x="4887" y="5531"/>
                </a:moveTo>
                <a:cubicBezTo>
                  <a:pt x="4895" y="5642"/>
                  <a:pt x="4891" y="5722"/>
                  <a:pt x="4887" y="5829"/>
                </a:cubicBezTo>
                <a:cubicBezTo>
                  <a:pt x="4884" y="5902"/>
                  <a:pt x="4882" y="6006"/>
                  <a:pt x="4862" y="6077"/>
                </a:cubicBezTo>
                <a:cubicBezTo>
                  <a:pt x="4857" y="6095"/>
                  <a:pt x="4795" y="6251"/>
                  <a:pt x="4862" y="6251"/>
                </a:cubicBezTo>
                <a:cubicBezTo>
                  <a:pt x="4878" y="6243"/>
                  <a:pt x="4895" y="6234"/>
                  <a:pt x="4911" y="6226"/>
                </a:cubicBezTo>
              </a:path>
              <a:path w="3696" h="1589">
                <a:moveTo>
                  <a:pt x="5507" y="5631"/>
                </a:moveTo>
                <a:cubicBezTo>
                  <a:pt x="5535" y="5735"/>
                  <a:pt x="5512" y="5775"/>
                  <a:pt x="5507" y="5879"/>
                </a:cubicBezTo>
                <a:cubicBezTo>
                  <a:pt x="5504" y="5952"/>
                  <a:pt x="5515" y="6016"/>
                  <a:pt x="5531" y="6077"/>
                </a:cubicBezTo>
                <a:cubicBezTo>
                  <a:pt x="5531" y="6085"/>
                  <a:pt x="5531" y="6094"/>
                  <a:pt x="5531" y="6102"/>
                </a:cubicBezTo>
              </a:path>
              <a:path w="3696" h="1589">
                <a:moveTo>
                  <a:pt x="5283" y="5879"/>
                </a:moveTo>
                <a:cubicBezTo>
                  <a:pt x="5361" y="5908"/>
                  <a:pt x="5422" y="5904"/>
                  <a:pt x="5507" y="5904"/>
                </a:cubicBezTo>
                <a:cubicBezTo>
                  <a:pt x="5581" y="5904"/>
                  <a:pt x="5632" y="5886"/>
                  <a:pt x="5705" y="5879"/>
                </a:cubicBezTo>
              </a:path>
              <a:path w="3696" h="1589">
                <a:moveTo>
                  <a:pt x="6028" y="5779"/>
                </a:moveTo>
                <a:cubicBezTo>
                  <a:pt x="6054" y="5874"/>
                  <a:pt x="6078" y="5923"/>
                  <a:pt x="6127" y="6003"/>
                </a:cubicBezTo>
                <a:cubicBezTo>
                  <a:pt x="6173" y="6078"/>
                  <a:pt x="6230" y="6078"/>
                  <a:pt x="6300" y="6127"/>
                </a:cubicBezTo>
                <a:cubicBezTo>
                  <a:pt x="6328" y="6155"/>
                  <a:pt x="6342" y="6164"/>
                  <a:pt x="6375" y="6152"/>
                </a:cubicBezTo>
              </a:path>
              <a:path w="3696" h="1589">
                <a:moveTo>
                  <a:pt x="6400" y="5879"/>
                </a:moveTo>
                <a:cubicBezTo>
                  <a:pt x="6319" y="5979"/>
                  <a:pt x="6265" y="6045"/>
                  <a:pt x="6152" y="6102"/>
                </a:cubicBezTo>
              </a:path>
              <a:path w="3696" h="1589">
                <a:moveTo>
                  <a:pt x="3051" y="4862"/>
                </a:moveTo>
                <a:cubicBezTo>
                  <a:pt x="3068" y="4862"/>
                  <a:pt x="3084" y="4862"/>
                  <a:pt x="3101" y="4862"/>
                </a:cubicBezTo>
                <a:cubicBezTo>
                  <a:pt x="3092" y="4802"/>
                  <a:pt x="3065" y="4765"/>
                  <a:pt x="3026" y="4713"/>
                </a:cubicBezTo>
                <a:cubicBezTo>
                  <a:pt x="3001" y="4688"/>
                  <a:pt x="2993" y="4680"/>
                  <a:pt x="2977" y="4663"/>
                </a:cubicBezTo>
                <a:cubicBezTo>
                  <a:pt x="2920" y="4720"/>
                  <a:pt x="2889" y="4775"/>
                  <a:pt x="2902" y="4862"/>
                </a:cubicBezTo>
                <a:cubicBezTo>
                  <a:pt x="2920" y="4980"/>
                  <a:pt x="2920" y="5120"/>
                  <a:pt x="2952" y="5234"/>
                </a:cubicBezTo>
                <a:cubicBezTo>
                  <a:pt x="2971" y="5303"/>
                  <a:pt x="2993" y="5365"/>
                  <a:pt x="3026" y="5432"/>
                </a:cubicBezTo>
              </a:path>
              <a:path w="3696" h="1589">
                <a:moveTo>
                  <a:pt x="2853" y="5259"/>
                </a:moveTo>
                <a:cubicBezTo>
                  <a:pt x="2957" y="5273"/>
                  <a:pt x="3045" y="5266"/>
                  <a:pt x="3150" y="5234"/>
                </a:cubicBezTo>
                <a:cubicBezTo>
                  <a:pt x="3167" y="5226"/>
                  <a:pt x="3183" y="5217"/>
                  <a:pt x="3200" y="5209"/>
                </a:cubicBezTo>
              </a:path>
              <a:path w="3696" h="1589">
                <a:moveTo>
                  <a:pt x="3473" y="4911"/>
                </a:moveTo>
                <a:cubicBezTo>
                  <a:pt x="3436" y="5039"/>
                  <a:pt x="3403" y="5124"/>
                  <a:pt x="3398" y="5259"/>
                </a:cubicBezTo>
                <a:cubicBezTo>
                  <a:pt x="3396" y="5310"/>
                  <a:pt x="3386" y="5412"/>
                  <a:pt x="3473" y="5407"/>
                </a:cubicBezTo>
                <a:cubicBezTo>
                  <a:pt x="3522" y="5383"/>
                  <a:pt x="3539" y="5375"/>
                  <a:pt x="3572" y="5358"/>
                </a:cubicBezTo>
              </a:path>
              <a:path w="3696" h="1589">
                <a:moveTo>
                  <a:pt x="3597" y="5085"/>
                </a:moveTo>
                <a:cubicBezTo>
                  <a:pt x="3615" y="5113"/>
                  <a:pt x="3675" y="5249"/>
                  <a:pt x="3721" y="5259"/>
                </a:cubicBezTo>
                <a:cubicBezTo>
                  <a:pt x="3798" y="5275"/>
                  <a:pt x="3810" y="5273"/>
                  <a:pt x="3870" y="5259"/>
                </a:cubicBezTo>
              </a:path>
              <a:path w="3696" h="1589">
                <a:moveTo>
                  <a:pt x="3746" y="5110"/>
                </a:moveTo>
                <a:cubicBezTo>
                  <a:pt x="3726" y="5212"/>
                  <a:pt x="3578" y="5452"/>
                  <a:pt x="3671" y="5407"/>
                </a:cubicBezTo>
                <a:cubicBezTo>
                  <a:pt x="3679" y="5391"/>
                  <a:pt x="3688" y="5374"/>
                  <a:pt x="3696" y="5358"/>
                </a:cubicBezTo>
              </a:path>
              <a:path w="3696" h="1589">
                <a:moveTo>
                  <a:pt x="3721" y="4812"/>
                </a:moveTo>
                <a:cubicBezTo>
                  <a:pt x="3857" y="4862"/>
                  <a:pt x="3917" y="4874"/>
                  <a:pt x="3969" y="5035"/>
                </a:cubicBezTo>
                <a:cubicBezTo>
                  <a:pt x="3992" y="5106"/>
                  <a:pt x="3973" y="5243"/>
                  <a:pt x="3944" y="5308"/>
                </a:cubicBezTo>
                <a:cubicBezTo>
                  <a:pt x="3922" y="5352"/>
                  <a:pt x="3919" y="5364"/>
                  <a:pt x="3894" y="5383"/>
                </a:cubicBezTo>
              </a:path>
              <a:path w="3696" h="1589">
                <a:moveTo>
                  <a:pt x="4217" y="5184"/>
                </a:moveTo>
                <a:cubicBezTo>
                  <a:pt x="4233" y="5184"/>
                  <a:pt x="4250" y="5184"/>
                  <a:pt x="4266" y="5184"/>
                </a:cubicBezTo>
              </a:path>
              <a:path w="3696" h="1589">
                <a:moveTo>
                  <a:pt x="4142" y="5308"/>
                </a:moveTo>
                <a:cubicBezTo>
                  <a:pt x="4209" y="5333"/>
                  <a:pt x="4270" y="5349"/>
                  <a:pt x="4341" y="53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Ink 7"/>
          <p:cNvSpPr/>
          <p:nvPr/>
        </p:nvSpPr>
        <p:spPr>
          <a:xfrm>
            <a:off x="312840" y="2571840"/>
            <a:ext cx="115920" cy="277560"/>
          </a:xfrm>
          <a:custGeom>
            <a:avLst/>
            <a:gdLst/>
            <a:ahLst/>
            <a:rect l="l" t="t" r="r" b="b"/>
            <a:pathLst>
              <a:path w="324" h="770">
                <a:moveTo>
                  <a:pt x="868" y="7144"/>
                </a:moveTo>
                <a:cubicBezTo>
                  <a:pt x="899" y="7195"/>
                  <a:pt x="913" y="7257"/>
                  <a:pt x="943" y="7317"/>
                </a:cubicBezTo>
                <a:cubicBezTo>
                  <a:pt x="977" y="7387"/>
                  <a:pt x="1011" y="7419"/>
                  <a:pt x="1067" y="7466"/>
                </a:cubicBezTo>
                <a:cubicBezTo>
                  <a:pt x="1121" y="7511"/>
                  <a:pt x="1126" y="7542"/>
                  <a:pt x="1191" y="7516"/>
                </a:cubicBezTo>
              </a:path>
              <a:path w="324" h="770">
                <a:moveTo>
                  <a:pt x="1166" y="7144"/>
                </a:moveTo>
                <a:cubicBezTo>
                  <a:pt x="1194" y="7247"/>
                  <a:pt x="1191" y="7333"/>
                  <a:pt x="1191" y="7441"/>
                </a:cubicBezTo>
                <a:cubicBezTo>
                  <a:pt x="1191" y="7538"/>
                  <a:pt x="1155" y="7624"/>
                  <a:pt x="1141" y="7714"/>
                </a:cubicBezTo>
                <a:cubicBezTo>
                  <a:pt x="1130" y="7781"/>
                  <a:pt x="1055" y="7944"/>
                  <a:pt x="1116" y="7913"/>
                </a:cubicBezTo>
                <a:cubicBezTo>
                  <a:pt x="1124" y="7896"/>
                  <a:pt x="1133" y="7880"/>
                  <a:pt x="1141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Ink 8"/>
          <p:cNvSpPr/>
          <p:nvPr/>
        </p:nvSpPr>
        <p:spPr>
          <a:xfrm>
            <a:off x="554040" y="2500200"/>
            <a:ext cx="2761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538" y="7193"/>
                </a:moveTo>
                <a:cubicBezTo>
                  <a:pt x="1538" y="7301"/>
                  <a:pt x="1538" y="7574"/>
                  <a:pt x="1538" y="7466"/>
                </a:cubicBezTo>
              </a:path>
              <a:path w="770" h="547">
                <a:moveTo>
                  <a:pt x="1538" y="6970"/>
                </a:moveTo>
                <a:lnTo>
                  <a:pt x="1538" y="6970"/>
                </a:lnTo>
              </a:path>
              <a:path w="770" h="547">
                <a:moveTo>
                  <a:pt x="1712" y="7367"/>
                </a:moveTo>
                <a:cubicBezTo>
                  <a:pt x="1731" y="7444"/>
                  <a:pt x="1723" y="7462"/>
                  <a:pt x="1761" y="7491"/>
                </a:cubicBezTo>
                <a:cubicBezTo>
                  <a:pt x="1792" y="7429"/>
                  <a:pt x="1786" y="7367"/>
                  <a:pt x="1786" y="7293"/>
                </a:cubicBezTo>
                <a:cubicBezTo>
                  <a:pt x="1786" y="7207"/>
                  <a:pt x="1782" y="7161"/>
                  <a:pt x="1836" y="7094"/>
                </a:cubicBezTo>
                <a:cubicBezTo>
                  <a:pt x="1856" y="7169"/>
                  <a:pt x="1881" y="7241"/>
                  <a:pt x="1885" y="7317"/>
                </a:cubicBezTo>
                <a:cubicBezTo>
                  <a:pt x="1890" y="7404"/>
                  <a:pt x="1924" y="7461"/>
                  <a:pt x="2009" y="7466"/>
                </a:cubicBezTo>
                <a:cubicBezTo>
                  <a:pt x="2058" y="7469"/>
                  <a:pt x="2127" y="7435"/>
                  <a:pt x="2158" y="7392"/>
                </a:cubicBezTo>
                <a:cubicBezTo>
                  <a:pt x="2197" y="7337"/>
                  <a:pt x="2243" y="7259"/>
                  <a:pt x="2257" y="7193"/>
                </a:cubicBezTo>
                <a:cubicBezTo>
                  <a:pt x="2273" y="7118"/>
                  <a:pt x="2262" y="7004"/>
                  <a:pt x="2232" y="6945"/>
                </a:cubicBezTo>
                <a:cubicBezTo>
                  <a:pt x="2232" y="7059"/>
                  <a:pt x="2241" y="7158"/>
                  <a:pt x="2257" y="7268"/>
                </a:cubicBezTo>
                <a:cubicBezTo>
                  <a:pt x="2269" y="7350"/>
                  <a:pt x="2245" y="7381"/>
                  <a:pt x="2307" y="7441"/>
                </a:cubicBezTo>
              </a:path>
              <a:path w="770" h="547">
                <a:moveTo>
                  <a:pt x="2133" y="7119"/>
                </a:moveTo>
                <a:cubicBezTo>
                  <a:pt x="2198" y="7093"/>
                  <a:pt x="2252" y="7077"/>
                  <a:pt x="2307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Ink 9"/>
          <p:cNvSpPr/>
          <p:nvPr/>
        </p:nvSpPr>
        <p:spPr>
          <a:xfrm>
            <a:off x="938160" y="2527200"/>
            <a:ext cx="27000" cy="108000"/>
          </a:xfrm>
          <a:custGeom>
            <a:avLst/>
            <a:gdLst/>
            <a:ahLst/>
            <a:rect l="l" t="t" r="r" b="b"/>
            <a:pathLst>
              <a:path w="76" h="298">
                <a:moveTo>
                  <a:pt x="2679" y="7020"/>
                </a:moveTo>
                <a:cubicBezTo>
                  <a:pt x="2671" y="7036"/>
                  <a:pt x="2662" y="7053"/>
                  <a:pt x="2654" y="7069"/>
                </a:cubicBezTo>
              </a:path>
              <a:path w="76" h="298">
                <a:moveTo>
                  <a:pt x="2604" y="7268"/>
                </a:moveTo>
                <a:cubicBezTo>
                  <a:pt x="2604" y="7284"/>
                  <a:pt x="2604" y="7301"/>
                  <a:pt x="2604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Ink 10"/>
          <p:cNvSpPr/>
          <p:nvPr/>
        </p:nvSpPr>
        <p:spPr>
          <a:xfrm>
            <a:off x="1276200" y="2509920"/>
            <a:ext cx="144720" cy="347760"/>
          </a:xfrm>
          <a:custGeom>
            <a:avLst/>
            <a:gdLst/>
            <a:ahLst/>
            <a:rect l="l" t="t" r="r" b="b"/>
            <a:pathLst>
              <a:path w="398" h="969">
                <a:moveTo>
                  <a:pt x="3547" y="6995"/>
                </a:moveTo>
                <a:cubicBezTo>
                  <a:pt x="3579" y="7051"/>
                  <a:pt x="3609" y="7116"/>
                  <a:pt x="3646" y="7169"/>
                </a:cubicBezTo>
                <a:cubicBezTo>
                  <a:pt x="3690" y="7232"/>
                  <a:pt x="3724" y="7305"/>
                  <a:pt x="3770" y="7367"/>
                </a:cubicBezTo>
                <a:cubicBezTo>
                  <a:pt x="3790" y="7394"/>
                  <a:pt x="3821" y="7418"/>
                  <a:pt x="3845" y="7441"/>
                </a:cubicBezTo>
              </a:path>
              <a:path w="398" h="969">
                <a:moveTo>
                  <a:pt x="3944" y="6970"/>
                </a:moveTo>
                <a:cubicBezTo>
                  <a:pt x="3944" y="7050"/>
                  <a:pt x="3928" y="7120"/>
                  <a:pt x="3919" y="7193"/>
                </a:cubicBezTo>
                <a:cubicBezTo>
                  <a:pt x="3906" y="7300"/>
                  <a:pt x="3890" y="7411"/>
                  <a:pt x="3870" y="7516"/>
                </a:cubicBezTo>
                <a:cubicBezTo>
                  <a:pt x="3854" y="7597"/>
                  <a:pt x="3837" y="7822"/>
                  <a:pt x="3795" y="7913"/>
                </a:cubicBezTo>
                <a:cubicBezTo>
                  <a:pt x="3760" y="7948"/>
                  <a:pt x="3756" y="7943"/>
                  <a:pt x="379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Ink 11"/>
          <p:cNvSpPr/>
          <p:nvPr/>
        </p:nvSpPr>
        <p:spPr>
          <a:xfrm>
            <a:off x="1535040" y="2367000"/>
            <a:ext cx="358920" cy="320760"/>
          </a:xfrm>
          <a:custGeom>
            <a:avLst/>
            <a:gdLst/>
            <a:ahLst/>
            <a:rect l="l" t="t" r="r" b="b"/>
            <a:pathLst>
              <a:path w="994" h="894">
                <a:moveTo>
                  <a:pt x="4266" y="6995"/>
                </a:moveTo>
                <a:cubicBezTo>
                  <a:pt x="4316" y="6995"/>
                  <a:pt x="4365" y="6995"/>
                  <a:pt x="4415" y="6995"/>
                </a:cubicBezTo>
              </a:path>
              <a:path w="994" h="894">
                <a:moveTo>
                  <a:pt x="4266" y="7119"/>
                </a:moveTo>
                <a:cubicBezTo>
                  <a:pt x="4324" y="7154"/>
                  <a:pt x="4324" y="7144"/>
                  <a:pt x="4390" y="7119"/>
                </a:cubicBezTo>
              </a:path>
              <a:path w="994" h="894">
                <a:moveTo>
                  <a:pt x="4812" y="6573"/>
                </a:moveTo>
                <a:cubicBezTo>
                  <a:pt x="4895" y="6573"/>
                  <a:pt x="4977" y="6573"/>
                  <a:pt x="5060" y="6573"/>
                </a:cubicBezTo>
              </a:path>
              <a:path w="994" h="894">
                <a:moveTo>
                  <a:pt x="4787" y="6598"/>
                </a:moveTo>
                <a:cubicBezTo>
                  <a:pt x="4749" y="6674"/>
                  <a:pt x="4715" y="6689"/>
                  <a:pt x="4762" y="6722"/>
                </a:cubicBezTo>
                <a:cubicBezTo>
                  <a:pt x="4815" y="6743"/>
                  <a:pt x="4871" y="6697"/>
                  <a:pt x="4936" y="6722"/>
                </a:cubicBezTo>
                <a:cubicBezTo>
                  <a:pt x="4964" y="6733"/>
                  <a:pt x="5037" y="6817"/>
                  <a:pt x="5035" y="6846"/>
                </a:cubicBezTo>
                <a:cubicBezTo>
                  <a:pt x="5032" y="6893"/>
                  <a:pt x="4929" y="6935"/>
                  <a:pt x="4887" y="6921"/>
                </a:cubicBezTo>
                <a:cubicBezTo>
                  <a:pt x="4851" y="6909"/>
                  <a:pt x="4834" y="6896"/>
                  <a:pt x="4787" y="6896"/>
                </a:cubicBezTo>
              </a:path>
              <a:path w="994" h="894">
                <a:moveTo>
                  <a:pt x="4663" y="6896"/>
                </a:moveTo>
                <a:cubicBezTo>
                  <a:pt x="4718" y="6929"/>
                  <a:pt x="4769" y="6921"/>
                  <a:pt x="4837" y="6921"/>
                </a:cubicBezTo>
                <a:cubicBezTo>
                  <a:pt x="4884" y="6921"/>
                  <a:pt x="5259" y="6942"/>
                  <a:pt x="5259" y="6896"/>
                </a:cubicBezTo>
                <a:cubicBezTo>
                  <a:pt x="5251" y="6896"/>
                  <a:pt x="5242" y="6896"/>
                  <a:pt x="5234" y="6896"/>
                </a:cubicBezTo>
              </a:path>
              <a:path w="994" h="894">
                <a:moveTo>
                  <a:pt x="4936" y="7020"/>
                </a:moveTo>
                <a:cubicBezTo>
                  <a:pt x="4946" y="7089"/>
                  <a:pt x="4961" y="7140"/>
                  <a:pt x="4961" y="7218"/>
                </a:cubicBezTo>
                <a:cubicBezTo>
                  <a:pt x="4961" y="7301"/>
                  <a:pt x="4961" y="7383"/>
                  <a:pt x="4961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Ink 12"/>
          <p:cNvSpPr/>
          <p:nvPr/>
        </p:nvSpPr>
        <p:spPr>
          <a:xfrm>
            <a:off x="2133720" y="2357280"/>
            <a:ext cx="563400" cy="330480"/>
          </a:xfrm>
          <a:custGeom>
            <a:avLst/>
            <a:gdLst/>
            <a:ahLst/>
            <a:rect l="l" t="t" r="r" b="b"/>
            <a:pathLst>
              <a:path w="1564" h="919">
                <a:moveTo>
                  <a:pt x="6077" y="6548"/>
                </a:moveTo>
                <a:cubicBezTo>
                  <a:pt x="6033" y="6655"/>
                  <a:pt x="6012" y="6743"/>
                  <a:pt x="5978" y="6846"/>
                </a:cubicBezTo>
                <a:cubicBezTo>
                  <a:pt x="5952" y="6923"/>
                  <a:pt x="5912" y="7064"/>
                  <a:pt x="5928" y="7144"/>
                </a:cubicBezTo>
                <a:cubicBezTo>
                  <a:pt x="5936" y="7181"/>
                  <a:pt x="5955" y="7279"/>
                  <a:pt x="6003" y="7293"/>
                </a:cubicBezTo>
                <a:cubicBezTo>
                  <a:pt x="6019" y="7293"/>
                  <a:pt x="6036" y="7293"/>
                  <a:pt x="6052" y="7293"/>
                </a:cubicBezTo>
              </a:path>
              <a:path w="1564" h="919">
                <a:moveTo>
                  <a:pt x="6325" y="6722"/>
                </a:moveTo>
                <a:cubicBezTo>
                  <a:pt x="6303" y="6803"/>
                  <a:pt x="6267" y="6887"/>
                  <a:pt x="6251" y="6970"/>
                </a:cubicBezTo>
                <a:cubicBezTo>
                  <a:pt x="6238" y="7036"/>
                  <a:pt x="6229" y="7113"/>
                  <a:pt x="6251" y="7169"/>
                </a:cubicBezTo>
                <a:cubicBezTo>
                  <a:pt x="6276" y="7218"/>
                  <a:pt x="6284" y="7235"/>
                  <a:pt x="6300" y="7268"/>
                </a:cubicBezTo>
                <a:cubicBezTo>
                  <a:pt x="6375" y="7238"/>
                  <a:pt x="6395" y="7223"/>
                  <a:pt x="6449" y="7169"/>
                </a:cubicBezTo>
                <a:cubicBezTo>
                  <a:pt x="6516" y="7102"/>
                  <a:pt x="6544" y="7041"/>
                  <a:pt x="6548" y="6945"/>
                </a:cubicBezTo>
                <a:cubicBezTo>
                  <a:pt x="6551" y="6880"/>
                  <a:pt x="6564" y="6797"/>
                  <a:pt x="6524" y="6747"/>
                </a:cubicBezTo>
                <a:cubicBezTo>
                  <a:pt x="6478" y="6689"/>
                  <a:pt x="6400" y="6690"/>
                  <a:pt x="6350" y="6747"/>
                </a:cubicBezTo>
                <a:cubicBezTo>
                  <a:pt x="6350" y="6755"/>
                  <a:pt x="6350" y="6764"/>
                  <a:pt x="6350" y="6772"/>
                </a:cubicBezTo>
              </a:path>
              <a:path w="1564" h="919">
                <a:moveTo>
                  <a:pt x="6697" y="7144"/>
                </a:moveTo>
                <a:cubicBezTo>
                  <a:pt x="6697" y="7236"/>
                  <a:pt x="6687" y="7316"/>
                  <a:pt x="6672" y="7392"/>
                </a:cubicBezTo>
                <a:cubicBezTo>
                  <a:pt x="6672" y="7408"/>
                  <a:pt x="6672" y="7425"/>
                  <a:pt x="6672" y="7441"/>
                </a:cubicBezTo>
              </a:path>
              <a:path w="1564" h="919">
                <a:moveTo>
                  <a:pt x="6945" y="6747"/>
                </a:moveTo>
                <a:cubicBezTo>
                  <a:pt x="7043" y="6747"/>
                  <a:pt x="7133" y="6745"/>
                  <a:pt x="7218" y="6722"/>
                </a:cubicBezTo>
                <a:cubicBezTo>
                  <a:pt x="7226" y="6722"/>
                  <a:pt x="7235" y="6722"/>
                  <a:pt x="7243" y="6722"/>
                </a:cubicBezTo>
              </a:path>
              <a:path w="1564" h="919">
                <a:moveTo>
                  <a:pt x="6970" y="6747"/>
                </a:moveTo>
                <a:cubicBezTo>
                  <a:pt x="6929" y="6864"/>
                  <a:pt x="6880" y="6919"/>
                  <a:pt x="6970" y="6995"/>
                </a:cubicBezTo>
                <a:cubicBezTo>
                  <a:pt x="7005" y="6960"/>
                  <a:pt x="7043" y="6908"/>
                  <a:pt x="7094" y="6896"/>
                </a:cubicBezTo>
                <a:cubicBezTo>
                  <a:pt x="7150" y="6883"/>
                  <a:pt x="7208" y="6941"/>
                  <a:pt x="7218" y="6995"/>
                </a:cubicBezTo>
                <a:cubicBezTo>
                  <a:pt x="7231" y="7064"/>
                  <a:pt x="7234" y="7151"/>
                  <a:pt x="7169" y="7193"/>
                </a:cubicBezTo>
                <a:cubicBezTo>
                  <a:pt x="7096" y="7240"/>
                  <a:pt x="7014" y="7214"/>
                  <a:pt x="6945" y="7169"/>
                </a:cubicBezTo>
                <a:cubicBezTo>
                  <a:pt x="6898" y="7139"/>
                  <a:pt x="6902" y="7092"/>
                  <a:pt x="6896" y="7045"/>
                </a:cubicBezTo>
              </a:path>
              <a:path w="1564" h="919">
                <a:moveTo>
                  <a:pt x="7342" y="6648"/>
                </a:moveTo>
                <a:cubicBezTo>
                  <a:pt x="7452" y="6829"/>
                  <a:pt x="7491" y="6911"/>
                  <a:pt x="7491" y="7119"/>
                </a:cubicBezTo>
                <a:cubicBezTo>
                  <a:pt x="7491" y="7237"/>
                  <a:pt x="7446" y="7306"/>
                  <a:pt x="7367" y="7392"/>
                </a:cubicBezTo>
                <a:cubicBezTo>
                  <a:pt x="7325" y="7433"/>
                  <a:pt x="7317" y="7441"/>
                  <a:pt x="7293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Ink 13"/>
          <p:cNvSpPr/>
          <p:nvPr/>
        </p:nvSpPr>
        <p:spPr>
          <a:xfrm>
            <a:off x="347760" y="3089160"/>
            <a:ext cx="528480" cy="233640"/>
          </a:xfrm>
          <a:custGeom>
            <a:avLst/>
            <a:gdLst/>
            <a:ahLst/>
            <a:rect l="l" t="t" r="r" b="b"/>
            <a:pathLst>
              <a:path w="1465" h="646">
                <a:moveTo>
                  <a:pt x="967" y="8706"/>
                </a:moveTo>
                <a:cubicBezTo>
                  <a:pt x="1013" y="8741"/>
                  <a:pt x="1038" y="8815"/>
                  <a:pt x="1067" y="8880"/>
                </a:cubicBezTo>
                <a:cubicBezTo>
                  <a:pt x="1103" y="8962"/>
                  <a:pt x="1176" y="9007"/>
                  <a:pt x="1215" y="9079"/>
                </a:cubicBezTo>
                <a:cubicBezTo>
                  <a:pt x="1249" y="9141"/>
                  <a:pt x="1282" y="9216"/>
                  <a:pt x="1364" y="9227"/>
                </a:cubicBezTo>
                <a:cubicBezTo>
                  <a:pt x="1381" y="9227"/>
                  <a:pt x="1397" y="9227"/>
                  <a:pt x="1414" y="9227"/>
                </a:cubicBezTo>
              </a:path>
              <a:path w="1465" h="646">
                <a:moveTo>
                  <a:pt x="1339" y="8706"/>
                </a:moveTo>
                <a:cubicBezTo>
                  <a:pt x="1294" y="8784"/>
                  <a:pt x="1264" y="8883"/>
                  <a:pt x="1215" y="8954"/>
                </a:cubicBezTo>
                <a:cubicBezTo>
                  <a:pt x="1178" y="9007"/>
                  <a:pt x="1124" y="9047"/>
                  <a:pt x="1091" y="9103"/>
                </a:cubicBezTo>
                <a:cubicBezTo>
                  <a:pt x="1056" y="9162"/>
                  <a:pt x="1075" y="9153"/>
                  <a:pt x="1017" y="9153"/>
                </a:cubicBezTo>
              </a:path>
              <a:path w="1465" h="646">
                <a:moveTo>
                  <a:pt x="1588" y="8855"/>
                </a:moveTo>
                <a:cubicBezTo>
                  <a:pt x="1588" y="8930"/>
                  <a:pt x="1588" y="9004"/>
                  <a:pt x="1588" y="9079"/>
                </a:cubicBezTo>
              </a:path>
              <a:path w="1465" h="646">
                <a:moveTo>
                  <a:pt x="1662" y="8582"/>
                </a:moveTo>
                <a:cubicBezTo>
                  <a:pt x="1679" y="8582"/>
                  <a:pt x="1695" y="8582"/>
                  <a:pt x="1712" y="8582"/>
                </a:cubicBezTo>
              </a:path>
              <a:path w="1465" h="646">
                <a:moveTo>
                  <a:pt x="1761" y="9004"/>
                </a:moveTo>
                <a:cubicBezTo>
                  <a:pt x="1769" y="8934"/>
                  <a:pt x="1791" y="8899"/>
                  <a:pt x="1811" y="8855"/>
                </a:cubicBezTo>
                <a:cubicBezTo>
                  <a:pt x="1849" y="8770"/>
                  <a:pt x="1857" y="8755"/>
                  <a:pt x="1935" y="8706"/>
                </a:cubicBezTo>
                <a:cubicBezTo>
                  <a:pt x="1975" y="8756"/>
                  <a:pt x="1999" y="8814"/>
                  <a:pt x="2009" y="8880"/>
                </a:cubicBezTo>
                <a:cubicBezTo>
                  <a:pt x="2023" y="8970"/>
                  <a:pt x="2045" y="8972"/>
                  <a:pt x="2084" y="9029"/>
                </a:cubicBezTo>
                <a:cubicBezTo>
                  <a:pt x="2139" y="9110"/>
                  <a:pt x="2176" y="9091"/>
                  <a:pt x="2232" y="9029"/>
                </a:cubicBezTo>
                <a:cubicBezTo>
                  <a:pt x="2281" y="8975"/>
                  <a:pt x="2276" y="8952"/>
                  <a:pt x="2307" y="8880"/>
                </a:cubicBezTo>
                <a:cubicBezTo>
                  <a:pt x="2337" y="8811"/>
                  <a:pt x="2332" y="8739"/>
                  <a:pt x="2332" y="8657"/>
                </a:cubicBezTo>
                <a:cubicBezTo>
                  <a:pt x="2332" y="8632"/>
                  <a:pt x="2332" y="8624"/>
                  <a:pt x="2332" y="8657"/>
                </a:cubicBezTo>
                <a:cubicBezTo>
                  <a:pt x="2315" y="8706"/>
                  <a:pt x="2283" y="8799"/>
                  <a:pt x="2307" y="8855"/>
                </a:cubicBezTo>
                <a:cubicBezTo>
                  <a:pt x="2337" y="8925"/>
                  <a:pt x="2349" y="8995"/>
                  <a:pt x="2356" y="9079"/>
                </a:cubicBezTo>
              </a:path>
              <a:path w="1465" h="646">
                <a:moveTo>
                  <a:pt x="2232" y="8781"/>
                </a:moveTo>
                <a:cubicBezTo>
                  <a:pt x="2340" y="8781"/>
                  <a:pt x="2365" y="8781"/>
                  <a:pt x="2431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Ink 14"/>
          <p:cNvSpPr/>
          <p:nvPr/>
        </p:nvSpPr>
        <p:spPr>
          <a:xfrm>
            <a:off x="1224000" y="3027240"/>
            <a:ext cx="1170000" cy="438120"/>
          </a:xfrm>
          <a:custGeom>
            <a:avLst/>
            <a:gdLst/>
            <a:ahLst/>
            <a:rect l="l" t="t" r="r" b="b"/>
            <a:pathLst>
              <a:path w="3251" h="1216">
                <a:moveTo>
                  <a:pt x="3721" y="8483"/>
                </a:moveTo>
                <a:cubicBezTo>
                  <a:pt x="3809" y="8461"/>
                  <a:pt x="3841" y="8434"/>
                  <a:pt x="3944" y="8434"/>
                </a:cubicBezTo>
                <a:cubicBezTo>
                  <a:pt x="3961" y="8434"/>
                  <a:pt x="3977" y="8434"/>
                  <a:pt x="3994" y="8434"/>
                </a:cubicBezTo>
              </a:path>
              <a:path w="3251" h="1216">
                <a:moveTo>
                  <a:pt x="3746" y="8483"/>
                </a:moveTo>
                <a:cubicBezTo>
                  <a:pt x="3678" y="8580"/>
                  <a:pt x="3671" y="8588"/>
                  <a:pt x="3671" y="8706"/>
                </a:cubicBezTo>
                <a:cubicBezTo>
                  <a:pt x="3768" y="8706"/>
                  <a:pt x="3732" y="8684"/>
                  <a:pt x="3795" y="8657"/>
                </a:cubicBezTo>
                <a:cubicBezTo>
                  <a:pt x="3863" y="8629"/>
                  <a:pt x="3946" y="8630"/>
                  <a:pt x="3994" y="8706"/>
                </a:cubicBezTo>
                <a:cubicBezTo>
                  <a:pt x="4029" y="8762"/>
                  <a:pt x="4060" y="8885"/>
                  <a:pt x="4043" y="8954"/>
                </a:cubicBezTo>
                <a:cubicBezTo>
                  <a:pt x="4018" y="9053"/>
                  <a:pt x="3929" y="8988"/>
                  <a:pt x="3870" y="9029"/>
                </a:cubicBezTo>
                <a:cubicBezTo>
                  <a:pt x="3866" y="9032"/>
                  <a:pt x="3704" y="9047"/>
                  <a:pt x="3696" y="9004"/>
                </a:cubicBezTo>
                <a:cubicBezTo>
                  <a:pt x="3704" y="8979"/>
                  <a:pt x="3713" y="8955"/>
                  <a:pt x="3721" y="8930"/>
                </a:cubicBezTo>
              </a:path>
              <a:path w="3251" h="1216">
                <a:moveTo>
                  <a:pt x="4366" y="8558"/>
                </a:moveTo>
                <a:cubicBezTo>
                  <a:pt x="4380" y="8660"/>
                  <a:pt x="4411" y="8762"/>
                  <a:pt x="4415" y="8855"/>
                </a:cubicBezTo>
                <a:cubicBezTo>
                  <a:pt x="4415" y="8880"/>
                  <a:pt x="4415" y="8905"/>
                  <a:pt x="4415" y="8930"/>
                </a:cubicBezTo>
              </a:path>
              <a:path w="3251" h="1216">
                <a:moveTo>
                  <a:pt x="4242" y="8781"/>
                </a:moveTo>
                <a:cubicBezTo>
                  <a:pt x="4333" y="8781"/>
                  <a:pt x="4423" y="8781"/>
                  <a:pt x="4514" y="8781"/>
                </a:cubicBezTo>
              </a:path>
              <a:path w="3251" h="1216">
                <a:moveTo>
                  <a:pt x="4688" y="8483"/>
                </a:moveTo>
                <a:cubicBezTo>
                  <a:pt x="4733" y="8439"/>
                  <a:pt x="4819" y="8345"/>
                  <a:pt x="4887" y="8434"/>
                </a:cubicBezTo>
                <a:cubicBezTo>
                  <a:pt x="4923" y="8481"/>
                  <a:pt x="4958" y="8511"/>
                  <a:pt x="4936" y="8582"/>
                </a:cubicBezTo>
                <a:cubicBezTo>
                  <a:pt x="4917" y="8644"/>
                  <a:pt x="4849" y="8731"/>
                  <a:pt x="4812" y="8781"/>
                </a:cubicBezTo>
                <a:cubicBezTo>
                  <a:pt x="4766" y="8842"/>
                  <a:pt x="4791" y="8890"/>
                  <a:pt x="4837" y="8930"/>
                </a:cubicBezTo>
                <a:cubicBezTo>
                  <a:pt x="4895" y="8981"/>
                  <a:pt x="4971" y="8953"/>
                  <a:pt x="5035" y="8930"/>
                </a:cubicBezTo>
              </a:path>
              <a:path w="3251" h="1216">
                <a:moveTo>
                  <a:pt x="5159" y="8558"/>
                </a:moveTo>
                <a:cubicBezTo>
                  <a:pt x="5167" y="8637"/>
                  <a:pt x="5194" y="8719"/>
                  <a:pt x="5259" y="8781"/>
                </a:cubicBezTo>
                <a:cubicBezTo>
                  <a:pt x="5311" y="8831"/>
                  <a:pt x="5416" y="8846"/>
                  <a:pt x="5457" y="8880"/>
                </a:cubicBezTo>
                <a:cubicBezTo>
                  <a:pt x="5477" y="8921"/>
                  <a:pt x="5475" y="8937"/>
                  <a:pt x="5507" y="8930"/>
                </a:cubicBezTo>
              </a:path>
              <a:path w="3251" h="1216">
                <a:moveTo>
                  <a:pt x="5432" y="8483"/>
                </a:moveTo>
                <a:cubicBezTo>
                  <a:pt x="5376" y="8568"/>
                  <a:pt x="5311" y="8629"/>
                  <a:pt x="5259" y="8706"/>
                </a:cubicBezTo>
                <a:cubicBezTo>
                  <a:pt x="5238" y="8738"/>
                  <a:pt x="5146" y="8831"/>
                  <a:pt x="5159" y="8880"/>
                </a:cubicBezTo>
                <a:cubicBezTo>
                  <a:pt x="5167" y="8897"/>
                  <a:pt x="5176" y="8913"/>
                  <a:pt x="5184" y="8930"/>
                </a:cubicBezTo>
              </a:path>
              <a:path w="3251" h="1216">
                <a:moveTo>
                  <a:pt x="5631" y="8558"/>
                </a:moveTo>
                <a:cubicBezTo>
                  <a:pt x="5780" y="8558"/>
                  <a:pt x="5796" y="8558"/>
                  <a:pt x="5879" y="8558"/>
                </a:cubicBezTo>
              </a:path>
              <a:path w="3251" h="1216">
                <a:moveTo>
                  <a:pt x="5680" y="8706"/>
                </a:moveTo>
                <a:cubicBezTo>
                  <a:pt x="5771" y="8706"/>
                  <a:pt x="5862" y="8706"/>
                  <a:pt x="5953" y="8706"/>
                </a:cubicBezTo>
              </a:path>
              <a:path w="3251" h="1216">
                <a:moveTo>
                  <a:pt x="6276" y="8409"/>
                </a:moveTo>
                <a:cubicBezTo>
                  <a:pt x="6221" y="8504"/>
                  <a:pt x="6135" y="8587"/>
                  <a:pt x="6152" y="8706"/>
                </a:cubicBezTo>
                <a:cubicBezTo>
                  <a:pt x="6170" y="8831"/>
                  <a:pt x="6223" y="8760"/>
                  <a:pt x="6300" y="8806"/>
                </a:cubicBezTo>
                <a:cubicBezTo>
                  <a:pt x="6382" y="8856"/>
                  <a:pt x="6439" y="8863"/>
                  <a:pt x="6524" y="8781"/>
                </a:cubicBezTo>
                <a:cubicBezTo>
                  <a:pt x="6622" y="8687"/>
                  <a:pt x="6640" y="8636"/>
                  <a:pt x="6648" y="8508"/>
                </a:cubicBezTo>
                <a:cubicBezTo>
                  <a:pt x="6525" y="8467"/>
                  <a:pt x="6484" y="8467"/>
                  <a:pt x="6375" y="8483"/>
                </a:cubicBezTo>
                <a:cubicBezTo>
                  <a:pt x="6292" y="8483"/>
                  <a:pt x="6259" y="8483"/>
                  <a:pt x="6201" y="8483"/>
                </a:cubicBezTo>
              </a:path>
              <a:path w="3251" h="1216">
                <a:moveTo>
                  <a:pt x="3398" y="9302"/>
                </a:moveTo>
                <a:cubicBezTo>
                  <a:pt x="3464" y="9302"/>
                  <a:pt x="3531" y="9302"/>
                  <a:pt x="3597" y="9302"/>
                </a:cubicBezTo>
              </a:path>
              <a:path w="3251" h="1216">
                <a:moveTo>
                  <a:pt x="3845" y="9153"/>
                </a:moveTo>
                <a:cubicBezTo>
                  <a:pt x="3928" y="9153"/>
                  <a:pt x="4010" y="9153"/>
                  <a:pt x="4093" y="9153"/>
                </a:cubicBezTo>
              </a:path>
              <a:path w="3251" h="1216">
                <a:moveTo>
                  <a:pt x="3820" y="9153"/>
                </a:moveTo>
                <a:cubicBezTo>
                  <a:pt x="3753" y="9220"/>
                  <a:pt x="3728" y="9235"/>
                  <a:pt x="3746" y="9302"/>
                </a:cubicBezTo>
                <a:cubicBezTo>
                  <a:pt x="3842" y="9313"/>
                  <a:pt x="3892" y="9351"/>
                  <a:pt x="3969" y="9376"/>
                </a:cubicBezTo>
                <a:cubicBezTo>
                  <a:pt x="4023" y="9394"/>
                  <a:pt x="4146" y="9427"/>
                  <a:pt x="4167" y="9500"/>
                </a:cubicBezTo>
                <a:cubicBezTo>
                  <a:pt x="4193" y="9593"/>
                  <a:pt x="4151" y="9619"/>
                  <a:pt x="4068" y="9624"/>
                </a:cubicBezTo>
                <a:cubicBezTo>
                  <a:pt x="3980" y="9629"/>
                  <a:pt x="3916" y="9606"/>
                  <a:pt x="3870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Ink 15"/>
          <p:cNvSpPr/>
          <p:nvPr/>
        </p:nvSpPr>
        <p:spPr>
          <a:xfrm>
            <a:off x="4554360" y="1428840"/>
            <a:ext cx="3965760" cy="3902040"/>
          </a:xfrm>
          <a:custGeom>
            <a:avLst/>
            <a:gdLst/>
            <a:ahLst/>
            <a:rect l="l" t="t" r="r" b="b"/>
            <a:pathLst>
              <a:path w="11015" h="10840">
                <a:moveTo>
                  <a:pt x="13494" y="8210"/>
                </a:moveTo>
                <a:cubicBezTo>
                  <a:pt x="13539" y="8216"/>
                  <a:pt x="13610" y="8228"/>
                  <a:pt x="13667" y="8235"/>
                </a:cubicBezTo>
                <a:cubicBezTo>
                  <a:pt x="13768" y="8247"/>
                  <a:pt x="13862" y="8256"/>
                  <a:pt x="13965" y="8260"/>
                </a:cubicBezTo>
                <a:cubicBezTo>
                  <a:pt x="14330" y="8275"/>
                  <a:pt x="14692" y="8265"/>
                  <a:pt x="15056" y="8285"/>
                </a:cubicBezTo>
                <a:cubicBezTo>
                  <a:pt x="15452" y="8307"/>
                  <a:pt x="15851" y="8328"/>
                  <a:pt x="16247" y="8334"/>
                </a:cubicBezTo>
                <a:cubicBezTo>
                  <a:pt x="16666" y="8340"/>
                  <a:pt x="17074" y="8399"/>
                  <a:pt x="17487" y="8409"/>
                </a:cubicBezTo>
                <a:cubicBezTo>
                  <a:pt x="17780" y="8416"/>
                  <a:pt x="18090" y="8394"/>
                  <a:pt x="18380" y="8434"/>
                </a:cubicBezTo>
                <a:cubicBezTo>
                  <a:pt x="18681" y="8475"/>
                  <a:pt x="18968" y="8465"/>
                  <a:pt x="19273" y="8483"/>
                </a:cubicBezTo>
                <a:cubicBezTo>
                  <a:pt x="19591" y="8502"/>
                  <a:pt x="19899" y="8550"/>
                  <a:pt x="20216" y="8558"/>
                </a:cubicBezTo>
                <a:cubicBezTo>
                  <a:pt x="20526" y="8565"/>
                  <a:pt x="20851" y="8542"/>
                  <a:pt x="21158" y="8582"/>
                </a:cubicBezTo>
                <a:cubicBezTo>
                  <a:pt x="21468" y="8623"/>
                  <a:pt x="21763" y="8612"/>
                  <a:pt x="22076" y="8632"/>
                </a:cubicBezTo>
                <a:cubicBezTo>
                  <a:pt x="22348" y="8650"/>
                  <a:pt x="22594" y="8706"/>
                  <a:pt x="22870" y="8706"/>
                </a:cubicBezTo>
                <a:cubicBezTo>
                  <a:pt x="23072" y="8706"/>
                  <a:pt x="23333" y="8756"/>
                  <a:pt x="23515" y="8657"/>
                </a:cubicBezTo>
                <a:cubicBezTo>
                  <a:pt x="23714" y="8549"/>
                  <a:pt x="23494" y="8699"/>
                  <a:pt x="23664" y="8508"/>
                </a:cubicBezTo>
              </a:path>
              <a:path w="11015" h="10840">
                <a:moveTo>
                  <a:pt x="18380" y="4266"/>
                </a:moveTo>
                <a:cubicBezTo>
                  <a:pt x="18386" y="4311"/>
                  <a:pt x="18398" y="4383"/>
                  <a:pt x="18405" y="4440"/>
                </a:cubicBezTo>
                <a:cubicBezTo>
                  <a:pt x="18422" y="4580"/>
                  <a:pt x="18419" y="4719"/>
                  <a:pt x="18430" y="4862"/>
                </a:cubicBezTo>
                <a:cubicBezTo>
                  <a:pt x="18446" y="5068"/>
                  <a:pt x="18455" y="5272"/>
                  <a:pt x="18455" y="5482"/>
                </a:cubicBezTo>
                <a:cubicBezTo>
                  <a:pt x="18455" y="6085"/>
                  <a:pt x="18468" y="6692"/>
                  <a:pt x="18430" y="7293"/>
                </a:cubicBezTo>
                <a:cubicBezTo>
                  <a:pt x="18410" y="7615"/>
                  <a:pt x="18402" y="7939"/>
                  <a:pt x="18380" y="8260"/>
                </a:cubicBezTo>
                <a:cubicBezTo>
                  <a:pt x="18339" y="8856"/>
                  <a:pt x="18287" y="9450"/>
                  <a:pt x="18256" y="10046"/>
                </a:cubicBezTo>
                <a:cubicBezTo>
                  <a:pt x="18231" y="10527"/>
                  <a:pt x="18149" y="11004"/>
                  <a:pt x="18132" y="11485"/>
                </a:cubicBezTo>
                <a:cubicBezTo>
                  <a:pt x="18097" y="12471"/>
                  <a:pt x="18051" y="13452"/>
                  <a:pt x="17959" y="14436"/>
                </a:cubicBezTo>
                <a:cubicBezTo>
                  <a:pt x="17942" y="14560"/>
                  <a:pt x="17926" y="14684"/>
                  <a:pt x="17909" y="14808"/>
                </a:cubicBezTo>
              </a:path>
              <a:path w="11015" h="10840">
                <a:moveTo>
                  <a:pt x="18033" y="7838"/>
                </a:moveTo>
                <a:cubicBezTo>
                  <a:pt x="18128" y="7847"/>
                  <a:pt x="18207" y="7863"/>
                  <a:pt x="18306" y="7863"/>
                </a:cubicBezTo>
                <a:cubicBezTo>
                  <a:pt x="18413" y="7863"/>
                  <a:pt x="18521" y="7863"/>
                  <a:pt x="18628" y="7863"/>
                </a:cubicBezTo>
              </a:path>
              <a:path w="11015" h="10840">
                <a:moveTo>
                  <a:pt x="18256" y="7293"/>
                </a:moveTo>
                <a:cubicBezTo>
                  <a:pt x="18404" y="7307"/>
                  <a:pt x="18558" y="7328"/>
                  <a:pt x="18703" y="7342"/>
                </a:cubicBezTo>
                <a:cubicBezTo>
                  <a:pt x="18786" y="7342"/>
                  <a:pt x="18802" y="7342"/>
                  <a:pt x="18852" y="7342"/>
                </a:cubicBezTo>
              </a:path>
              <a:path w="11015" h="10840">
                <a:moveTo>
                  <a:pt x="18132" y="6747"/>
                </a:moveTo>
                <a:cubicBezTo>
                  <a:pt x="18306" y="6747"/>
                  <a:pt x="18486" y="6764"/>
                  <a:pt x="18653" y="6722"/>
                </a:cubicBezTo>
              </a:path>
              <a:path w="11015" h="10840">
                <a:moveTo>
                  <a:pt x="18182" y="6201"/>
                </a:moveTo>
                <a:cubicBezTo>
                  <a:pt x="18386" y="6201"/>
                  <a:pt x="18606" y="6226"/>
                  <a:pt x="18802" y="6176"/>
                </a:cubicBezTo>
              </a:path>
              <a:path w="11015" h="10840">
                <a:moveTo>
                  <a:pt x="18083" y="5556"/>
                </a:moveTo>
                <a:cubicBezTo>
                  <a:pt x="18204" y="5556"/>
                  <a:pt x="18313" y="5547"/>
                  <a:pt x="18430" y="5531"/>
                </a:cubicBezTo>
                <a:cubicBezTo>
                  <a:pt x="18526" y="5518"/>
                  <a:pt x="18608" y="5532"/>
                  <a:pt x="18703" y="5507"/>
                </a:cubicBezTo>
              </a:path>
              <a:path w="11015" h="10840">
                <a:moveTo>
                  <a:pt x="18058" y="4961"/>
                </a:moveTo>
                <a:cubicBezTo>
                  <a:pt x="18169" y="4933"/>
                  <a:pt x="18269" y="4955"/>
                  <a:pt x="18380" y="4936"/>
                </a:cubicBezTo>
                <a:cubicBezTo>
                  <a:pt x="18504" y="4915"/>
                  <a:pt x="18627" y="4897"/>
                  <a:pt x="18752" y="4887"/>
                </a:cubicBezTo>
              </a:path>
              <a:path w="11015" h="10840">
                <a:moveTo>
                  <a:pt x="18083" y="4465"/>
                </a:moveTo>
                <a:cubicBezTo>
                  <a:pt x="18237" y="4459"/>
                  <a:pt x="18376" y="4440"/>
                  <a:pt x="18529" y="4440"/>
                </a:cubicBezTo>
                <a:cubicBezTo>
                  <a:pt x="18628" y="4440"/>
                  <a:pt x="18662" y="4440"/>
                  <a:pt x="18728" y="4440"/>
                </a:cubicBezTo>
              </a:path>
              <a:path w="11015" h="10840">
                <a:moveTo>
                  <a:pt x="18355" y="7714"/>
                </a:moveTo>
                <a:lnTo>
                  <a:pt x="18355" y="7714"/>
                </a:lnTo>
              </a:path>
              <a:path w="11015" h="10840">
                <a:moveTo>
                  <a:pt x="18355" y="6623"/>
                </a:moveTo>
                <a:lnTo>
                  <a:pt x="18355" y="6623"/>
                </a:lnTo>
              </a:path>
              <a:path w="11015" h="10840">
                <a:moveTo>
                  <a:pt x="18405" y="5407"/>
                </a:moveTo>
                <a:cubicBezTo>
                  <a:pt x="18418" y="5499"/>
                  <a:pt x="18500" y="5493"/>
                  <a:pt x="18479" y="5407"/>
                </a:cubicBezTo>
                <a:cubicBezTo>
                  <a:pt x="18463" y="5340"/>
                  <a:pt x="18375" y="5414"/>
                  <a:pt x="18355" y="5432"/>
                </a:cubicBezTo>
                <a:cubicBezTo>
                  <a:pt x="18307" y="5476"/>
                  <a:pt x="18288" y="5501"/>
                  <a:pt x="18331" y="5556"/>
                </a:cubicBezTo>
                <a:cubicBezTo>
                  <a:pt x="18339" y="5564"/>
                  <a:pt x="18347" y="5573"/>
                  <a:pt x="18355" y="5581"/>
                </a:cubicBezTo>
                <a:cubicBezTo>
                  <a:pt x="18437" y="5581"/>
                  <a:pt x="18474" y="5599"/>
                  <a:pt x="18479" y="5507"/>
                </a:cubicBezTo>
                <a:cubicBezTo>
                  <a:pt x="18481" y="5471"/>
                  <a:pt x="18445" y="5340"/>
                  <a:pt x="18380" y="5383"/>
                </a:cubicBezTo>
                <a:cubicBezTo>
                  <a:pt x="18353" y="5400"/>
                  <a:pt x="18295" y="5498"/>
                  <a:pt x="18306" y="5531"/>
                </a:cubicBezTo>
                <a:cubicBezTo>
                  <a:pt x="18328" y="5597"/>
                  <a:pt x="18417" y="5587"/>
                  <a:pt x="18455" y="5556"/>
                </a:cubicBezTo>
                <a:cubicBezTo>
                  <a:pt x="18484" y="5526"/>
                  <a:pt x="18495" y="5512"/>
                  <a:pt x="18504" y="5482"/>
                </a:cubicBezTo>
                <a:cubicBezTo>
                  <a:pt x="18466" y="5418"/>
                  <a:pt x="18473" y="5374"/>
                  <a:pt x="18380" y="5432"/>
                </a:cubicBezTo>
                <a:cubicBezTo>
                  <a:pt x="18311" y="5474"/>
                  <a:pt x="18332" y="5518"/>
                  <a:pt x="18355" y="5581"/>
                </a:cubicBezTo>
                <a:cubicBezTo>
                  <a:pt x="18394" y="5620"/>
                  <a:pt x="18463" y="5653"/>
                  <a:pt x="18504" y="5581"/>
                </a:cubicBezTo>
                <a:cubicBezTo>
                  <a:pt x="18548" y="5503"/>
                  <a:pt x="18501" y="5388"/>
                  <a:pt x="18405" y="5407"/>
                </a:cubicBezTo>
                <a:cubicBezTo>
                  <a:pt x="18349" y="5418"/>
                  <a:pt x="18341" y="5492"/>
                  <a:pt x="18331" y="5531"/>
                </a:cubicBezTo>
                <a:cubicBezTo>
                  <a:pt x="18383" y="5606"/>
                  <a:pt x="18404" y="5624"/>
                  <a:pt x="18479" y="5556"/>
                </a:cubicBezTo>
                <a:cubicBezTo>
                  <a:pt x="18521" y="5517"/>
                  <a:pt x="18523" y="5329"/>
                  <a:pt x="18430" y="5407"/>
                </a:cubicBezTo>
                <a:cubicBezTo>
                  <a:pt x="18408" y="5451"/>
                  <a:pt x="18405" y="5463"/>
                  <a:pt x="18380" y="5482"/>
                </a:cubicBezTo>
                <a:cubicBezTo>
                  <a:pt x="18371" y="5499"/>
                  <a:pt x="18376" y="5585"/>
                  <a:pt x="18430" y="5581"/>
                </a:cubicBezTo>
                <a:cubicBezTo>
                  <a:pt x="18515" y="5575"/>
                  <a:pt x="18556" y="5522"/>
                  <a:pt x="18529" y="5457"/>
                </a:cubicBezTo>
                <a:cubicBezTo>
                  <a:pt x="18492" y="5367"/>
                  <a:pt x="18452" y="5373"/>
                  <a:pt x="18380" y="5432"/>
                </a:cubicBezTo>
                <a:cubicBezTo>
                  <a:pt x="18350" y="5462"/>
                  <a:pt x="18336" y="5473"/>
                  <a:pt x="18306" y="5482"/>
                </a:cubicBezTo>
              </a:path>
              <a:path w="11015" h="10840">
                <a:moveTo>
                  <a:pt x="12874" y="7293"/>
                </a:moveTo>
                <a:cubicBezTo>
                  <a:pt x="13091" y="7293"/>
                  <a:pt x="13306" y="7291"/>
                  <a:pt x="13519" y="7317"/>
                </a:cubicBezTo>
                <a:cubicBezTo>
                  <a:pt x="13649" y="7333"/>
                  <a:pt x="13785" y="7347"/>
                  <a:pt x="13915" y="7367"/>
                </a:cubicBezTo>
                <a:cubicBezTo>
                  <a:pt x="14017" y="7382"/>
                  <a:pt x="14111" y="7420"/>
                  <a:pt x="14213" y="7441"/>
                </a:cubicBezTo>
                <a:cubicBezTo>
                  <a:pt x="14412" y="7481"/>
                  <a:pt x="14616" y="7522"/>
                  <a:pt x="14808" y="7590"/>
                </a:cubicBezTo>
                <a:cubicBezTo>
                  <a:pt x="14910" y="7626"/>
                  <a:pt x="15004" y="7679"/>
                  <a:pt x="15106" y="7714"/>
                </a:cubicBezTo>
                <a:cubicBezTo>
                  <a:pt x="15201" y="7747"/>
                  <a:pt x="15304" y="7771"/>
                  <a:pt x="15404" y="7813"/>
                </a:cubicBezTo>
                <a:cubicBezTo>
                  <a:pt x="15455" y="7834"/>
                  <a:pt x="15528" y="7866"/>
                  <a:pt x="15577" y="7888"/>
                </a:cubicBezTo>
                <a:cubicBezTo>
                  <a:pt x="15667" y="7928"/>
                  <a:pt x="15765" y="7984"/>
                  <a:pt x="15850" y="8037"/>
                </a:cubicBezTo>
                <a:cubicBezTo>
                  <a:pt x="15893" y="8064"/>
                  <a:pt x="15931" y="8108"/>
                  <a:pt x="15974" y="8136"/>
                </a:cubicBezTo>
                <a:cubicBezTo>
                  <a:pt x="16029" y="8171"/>
                  <a:pt x="16073" y="8202"/>
                  <a:pt x="16123" y="8235"/>
                </a:cubicBezTo>
                <a:cubicBezTo>
                  <a:pt x="16171" y="8267"/>
                  <a:pt x="16225" y="8300"/>
                  <a:pt x="16272" y="8334"/>
                </a:cubicBezTo>
                <a:cubicBezTo>
                  <a:pt x="16309" y="8361"/>
                  <a:pt x="16372" y="8401"/>
                  <a:pt x="16396" y="8434"/>
                </a:cubicBezTo>
                <a:cubicBezTo>
                  <a:pt x="16441" y="8496"/>
                  <a:pt x="16469" y="8559"/>
                  <a:pt x="16495" y="8632"/>
                </a:cubicBezTo>
                <a:cubicBezTo>
                  <a:pt x="16509" y="8670"/>
                  <a:pt x="16544" y="8776"/>
                  <a:pt x="16545" y="8781"/>
                </a:cubicBezTo>
                <a:cubicBezTo>
                  <a:pt x="16565" y="8859"/>
                  <a:pt x="16556" y="8921"/>
                  <a:pt x="16570" y="9004"/>
                </a:cubicBezTo>
                <a:cubicBezTo>
                  <a:pt x="16587" y="9110"/>
                  <a:pt x="16612" y="9220"/>
                  <a:pt x="16619" y="9327"/>
                </a:cubicBezTo>
                <a:cubicBezTo>
                  <a:pt x="16642" y="9687"/>
                  <a:pt x="16621" y="10062"/>
                  <a:pt x="16594" y="10418"/>
                </a:cubicBezTo>
                <a:cubicBezTo>
                  <a:pt x="16579" y="10617"/>
                  <a:pt x="16551" y="10814"/>
                  <a:pt x="16545" y="11013"/>
                </a:cubicBezTo>
                <a:cubicBezTo>
                  <a:pt x="16531" y="11440"/>
                  <a:pt x="16492" y="11876"/>
                  <a:pt x="16520" y="12303"/>
                </a:cubicBezTo>
                <a:cubicBezTo>
                  <a:pt x="16539" y="12593"/>
                  <a:pt x="16545" y="12878"/>
                  <a:pt x="16545" y="13171"/>
                </a:cubicBezTo>
                <a:cubicBezTo>
                  <a:pt x="16545" y="13317"/>
                  <a:pt x="16549" y="13455"/>
                  <a:pt x="16520" y="13593"/>
                </a:cubicBezTo>
                <a:cubicBezTo>
                  <a:pt x="16512" y="13601"/>
                  <a:pt x="16503" y="13610"/>
                  <a:pt x="16495" y="13618"/>
                </a:cubicBezTo>
              </a:path>
              <a:path w="11015" h="10840">
                <a:moveTo>
                  <a:pt x="16222" y="13022"/>
                </a:moveTo>
                <a:cubicBezTo>
                  <a:pt x="16233" y="13107"/>
                  <a:pt x="16261" y="13190"/>
                  <a:pt x="16297" y="13271"/>
                </a:cubicBezTo>
                <a:cubicBezTo>
                  <a:pt x="16322" y="13326"/>
                  <a:pt x="16361" y="13394"/>
                  <a:pt x="16396" y="13444"/>
                </a:cubicBezTo>
                <a:cubicBezTo>
                  <a:pt x="16446" y="13515"/>
                  <a:pt x="16507" y="13507"/>
                  <a:pt x="16570" y="13444"/>
                </a:cubicBezTo>
                <a:cubicBezTo>
                  <a:pt x="16578" y="13428"/>
                  <a:pt x="16586" y="13411"/>
                  <a:pt x="16594" y="13395"/>
                </a:cubicBezTo>
              </a:path>
              <a:path w="11015" h="10840">
                <a:moveTo>
                  <a:pt x="12824" y="7069"/>
                </a:moveTo>
                <a:cubicBezTo>
                  <a:pt x="12787" y="7131"/>
                  <a:pt x="12772" y="7138"/>
                  <a:pt x="12725" y="7193"/>
                </a:cubicBezTo>
                <a:cubicBezTo>
                  <a:pt x="12698" y="7225"/>
                  <a:pt x="12623" y="7306"/>
                  <a:pt x="12675" y="7342"/>
                </a:cubicBezTo>
                <a:cubicBezTo>
                  <a:pt x="12795" y="7425"/>
                  <a:pt x="12936" y="7450"/>
                  <a:pt x="13072" y="7491"/>
                </a:cubicBezTo>
                <a:cubicBezTo>
                  <a:pt x="13097" y="7499"/>
                  <a:pt x="13121" y="7508"/>
                  <a:pt x="13146" y="7516"/>
                </a:cubicBezTo>
              </a:path>
              <a:path w="11015" h="10840">
                <a:moveTo>
                  <a:pt x="17983" y="4043"/>
                </a:moveTo>
                <a:cubicBezTo>
                  <a:pt x="17974" y="4106"/>
                  <a:pt x="17953" y="4147"/>
                  <a:pt x="17959" y="4217"/>
                </a:cubicBezTo>
                <a:cubicBezTo>
                  <a:pt x="17966" y="4297"/>
                  <a:pt x="17962" y="4412"/>
                  <a:pt x="17983" y="4490"/>
                </a:cubicBezTo>
                <a:cubicBezTo>
                  <a:pt x="18004" y="4570"/>
                  <a:pt x="18059" y="4641"/>
                  <a:pt x="18083" y="4713"/>
                </a:cubicBezTo>
                <a:cubicBezTo>
                  <a:pt x="18104" y="4777"/>
                  <a:pt x="18135" y="4845"/>
                  <a:pt x="18157" y="4911"/>
                </a:cubicBezTo>
                <a:cubicBezTo>
                  <a:pt x="18181" y="4982"/>
                  <a:pt x="18205" y="5061"/>
                  <a:pt x="18231" y="5135"/>
                </a:cubicBezTo>
                <a:cubicBezTo>
                  <a:pt x="18253" y="5199"/>
                  <a:pt x="18275" y="5264"/>
                  <a:pt x="18306" y="5333"/>
                </a:cubicBezTo>
                <a:cubicBezTo>
                  <a:pt x="18334" y="5397"/>
                  <a:pt x="18356" y="5450"/>
                  <a:pt x="18380" y="5507"/>
                </a:cubicBezTo>
                <a:cubicBezTo>
                  <a:pt x="18403" y="5560"/>
                  <a:pt x="18429" y="5620"/>
                  <a:pt x="18455" y="5680"/>
                </a:cubicBezTo>
                <a:cubicBezTo>
                  <a:pt x="18493" y="5768"/>
                  <a:pt x="18525" y="5850"/>
                  <a:pt x="18579" y="5928"/>
                </a:cubicBezTo>
                <a:cubicBezTo>
                  <a:pt x="18629" y="6000"/>
                  <a:pt x="18683" y="6069"/>
                  <a:pt x="18752" y="6127"/>
                </a:cubicBezTo>
                <a:cubicBezTo>
                  <a:pt x="18838" y="6199"/>
                  <a:pt x="18922" y="6273"/>
                  <a:pt x="19025" y="6325"/>
                </a:cubicBezTo>
                <a:cubicBezTo>
                  <a:pt x="19114" y="6370"/>
                  <a:pt x="19205" y="6414"/>
                  <a:pt x="19298" y="6449"/>
                </a:cubicBezTo>
                <a:cubicBezTo>
                  <a:pt x="19624" y="6570"/>
                  <a:pt x="19979" y="6600"/>
                  <a:pt x="20315" y="6672"/>
                </a:cubicBezTo>
                <a:cubicBezTo>
                  <a:pt x="20471" y="6705"/>
                  <a:pt x="20630" y="6697"/>
                  <a:pt x="20786" y="6722"/>
                </a:cubicBezTo>
                <a:cubicBezTo>
                  <a:pt x="20949" y="6749"/>
                  <a:pt x="21117" y="6761"/>
                  <a:pt x="21282" y="6772"/>
                </a:cubicBezTo>
                <a:cubicBezTo>
                  <a:pt x="21390" y="6779"/>
                  <a:pt x="21453" y="6799"/>
                  <a:pt x="21555" y="6772"/>
                </a:cubicBezTo>
                <a:cubicBezTo>
                  <a:pt x="21563" y="6764"/>
                  <a:pt x="21572" y="6755"/>
                  <a:pt x="21580" y="6747"/>
                </a:cubicBezTo>
              </a:path>
              <a:path w="11015" h="10840">
                <a:moveTo>
                  <a:pt x="21282" y="6400"/>
                </a:moveTo>
                <a:cubicBezTo>
                  <a:pt x="21396" y="6460"/>
                  <a:pt x="21512" y="6509"/>
                  <a:pt x="21605" y="6598"/>
                </a:cubicBezTo>
                <a:cubicBezTo>
                  <a:pt x="21672" y="6662"/>
                  <a:pt x="21725" y="6729"/>
                  <a:pt x="21729" y="6821"/>
                </a:cubicBezTo>
                <a:cubicBezTo>
                  <a:pt x="21733" y="6921"/>
                  <a:pt x="21698" y="6952"/>
                  <a:pt x="21630" y="7020"/>
                </a:cubicBezTo>
                <a:cubicBezTo>
                  <a:pt x="21560" y="7090"/>
                  <a:pt x="21523" y="7110"/>
                  <a:pt x="21431" y="7119"/>
                </a:cubicBezTo>
              </a:path>
              <a:path w="11015" h="10840">
                <a:moveTo>
                  <a:pt x="17611" y="4539"/>
                </a:moveTo>
                <a:cubicBezTo>
                  <a:pt x="17611" y="4466"/>
                  <a:pt x="17617" y="4384"/>
                  <a:pt x="17636" y="4316"/>
                </a:cubicBezTo>
                <a:cubicBezTo>
                  <a:pt x="17657" y="4244"/>
                  <a:pt x="17695" y="4166"/>
                  <a:pt x="17711" y="4093"/>
                </a:cubicBezTo>
                <a:cubicBezTo>
                  <a:pt x="17728" y="4013"/>
                  <a:pt x="17718" y="3974"/>
                  <a:pt x="17810" y="3969"/>
                </a:cubicBezTo>
                <a:cubicBezTo>
                  <a:pt x="17911" y="3963"/>
                  <a:pt x="18056" y="4004"/>
                  <a:pt x="18157" y="4018"/>
                </a:cubicBezTo>
                <a:cubicBezTo>
                  <a:pt x="18276" y="4034"/>
                  <a:pt x="18363" y="4078"/>
                  <a:pt x="18479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Ink 16"/>
          <p:cNvSpPr/>
          <p:nvPr/>
        </p:nvSpPr>
        <p:spPr>
          <a:xfrm>
            <a:off x="4749840" y="256212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3196" y="7144"/>
                </a:moveTo>
                <a:cubicBezTo>
                  <a:pt x="13271" y="7133"/>
                  <a:pt x="13290" y="7134"/>
                  <a:pt x="13370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Ink 17"/>
          <p:cNvSpPr/>
          <p:nvPr/>
        </p:nvSpPr>
        <p:spPr>
          <a:xfrm>
            <a:off x="5018040" y="256212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3940" y="7119"/>
                </a:moveTo>
                <a:cubicBezTo>
                  <a:pt x="14023" y="7119"/>
                  <a:pt x="14105" y="7119"/>
                  <a:pt x="14188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Ink 18"/>
          <p:cNvSpPr/>
          <p:nvPr/>
        </p:nvSpPr>
        <p:spPr>
          <a:xfrm>
            <a:off x="5286240" y="258120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4684" y="7169"/>
                </a:moveTo>
                <a:cubicBezTo>
                  <a:pt x="14767" y="7169"/>
                  <a:pt x="14849" y="7169"/>
                  <a:pt x="14932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Ink 19"/>
          <p:cNvSpPr/>
          <p:nvPr/>
        </p:nvSpPr>
        <p:spPr>
          <a:xfrm>
            <a:off x="5616720" y="258912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15602" y="7193"/>
                </a:moveTo>
                <a:cubicBezTo>
                  <a:pt x="15693" y="7193"/>
                  <a:pt x="15784" y="7193"/>
                  <a:pt x="15875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Ink 20"/>
          <p:cNvSpPr/>
          <p:nvPr/>
        </p:nvSpPr>
        <p:spPr>
          <a:xfrm>
            <a:off x="5892840" y="2589120"/>
            <a:ext cx="13500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16371" y="7193"/>
                </a:moveTo>
                <a:cubicBezTo>
                  <a:pt x="16495" y="7193"/>
                  <a:pt x="16619" y="7193"/>
                  <a:pt x="16743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Ink 21"/>
          <p:cNvSpPr/>
          <p:nvPr/>
        </p:nvSpPr>
        <p:spPr>
          <a:xfrm>
            <a:off x="6259680" y="2608200"/>
            <a:ext cx="98280" cy="79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7388" y="7243"/>
                </a:moveTo>
                <a:cubicBezTo>
                  <a:pt x="17499" y="7249"/>
                  <a:pt x="17560" y="7259"/>
                  <a:pt x="17661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Ink 22"/>
          <p:cNvSpPr/>
          <p:nvPr/>
        </p:nvSpPr>
        <p:spPr>
          <a:xfrm>
            <a:off x="6545160" y="2616120"/>
            <a:ext cx="411120" cy="9720"/>
          </a:xfrm>
          <a:custGeom>
            <a:avLst/>
            <a:gdLst/>
            <a:ahLst/>
            <a:rect l="l" t="t" r="r" b="b"/>
            <a:pathLst>
              <a:path w="1142" h="26">
                <a:moveTo>
                  <a:pt x="18182" y="7293"/>
                </a:moveTo>
                <a:cubicBezTo>
                  <a:pt x="18323" y="7293"/>
                  <a:pt x="18463" y="7293"/>
                  <a:pt x="18604" y="7293"/>
                </a:cubicBezTo>
              </a:path>
              <a:path w="1142" h="26">
                <a:moveTo>
                  <a:pt x="18926" y="7293"/>
                </a:moveTo>
                <a:cubicBezTo>
                  <a:pt x="19005" y="7286"/>
                  <a:pt x="19068" y="7268"/>
                  <a:pt x="19149" y="7268"/>
                </a:cubicBezTo>
                <a:cubicBezTo>
                  <a:pt x="19207" y="7268"/>
                  <a:pt x="19265" y="7268"/>
                  <a:pt x="19323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Ink 23"/>
          <p:cNvSpPr/>
          <p:nvPr/>
        </p:nvSpPr>
        <p:spPr>
          <a:xfrm>
            <a:off x="7099200" y="2608200"/>
            <a:ext cx="16056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19720" y="7243"/>
                </a:moveTo>
                <a:cubicBezTo>
                  <a:pt x="19869" y="7243"/>
                  <a:pt x="20017" y="7243"/>
                  <a:pt x="20166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Ink 24"/>
          <p:cNvSpPr/>
          <p:nvPr/>
        </p:nvSpPr>
        <p:spPr>
          <a:xfrm>
            <a:off x="7446960" y="258912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20687" y="7218"/>
                </a:moveTo>
                <a:cubicBezTo>
                  <a:pt x="20779" y="7218"/>
                  <a:pt x="20846" y="7197"/>
                  <a:pt x="20935" y="7193"/>
                </a:cubicBezTo>
                <a:cubicBezTo>
                  <a:pt x="20985" y="7193"/>
                  <a:pt x="21001" y="7193"/>
                  <a:pt x="21034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Ink 25"/>
          <p:cNvSpPr/>
          <p:nvPr/>
        </p:nvSpPr>
        <p:spPr>
          <a:xfrm>
            <a:off x="7759800" y="2589120"/>
            <a:ext cx="11736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21555" y="7193"/>
                </a:moveTo>
                <a:cubicBezTo>
                  <a:pt x="21669" y="7193"/>
                  <a:pt x="21769" y="7188"/>
                  <a:pt x="21878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Ink 26"/>
          <p:cNvSpPr/>
          <p:nvPr/>
        </p:nvSpPr>
        <p:spPr>
          <a:xfrm>
            <a:off x="8072280" y="2616120"/>
            <a:ext cx="29556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22423" y="7268"/>
                </a:moveTo>
                <a:cubicBezTo>
                  <a:pt x="22533" y="7290"/>
                  <a:pt x="22637" y="7294"/>
                  <a:pt x="22746" y="7317"/>
                </a:cubicBezTo>
              </a:path>
              <a:path w="820" h="75">
                <a:moveTo>
                  <a:pt x="23044" y="7342"/>
                </a:moveTo>
                <a:cubicBezTo>
                  <a:pt x="23122" y="7342"/>
                  <a:pt x="23171" y="7331"/>
                  <a:pt x="2324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Ink 27"/>
          <p:cNvSpPr/>
          <p:nvPr/>
        </p:nvSpPr>
        <p:spPr>
          <a:xfrm>
            <a:off x="6429240" y="3375000"/>
            <a:ext cx="231840" cy="9720"/>
          </a:xfrm>
          <a:custGeom>
            <a:avLst/>
            <a:gdLst/>
            <a:ahLst/>
            <a:rect l="l" t="t" r="r" b="b"/>
            <a:pathLst>
              <a:path w="646" h="26">
                <a:moveTo>
                  <a:pt x="17859" y="9376"/>
                </a:moveTo>
                <a:cubicBezTo>
                  <a:pt x="18072" y="9376"/>
                  <a:pt x="18299" y="9353"/>
                  <a:pt x="18504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Ink 28"/>
          <p:cNvSpPr/>
          <p:nvPr/>
        </p:nvSpPr>
        <p:spPr>
          <a:xfrm>
            <a:off x="6483240" y="3537000"/>
            <a:ext cx="2318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18008" y="9823"/>
                </a:moveTo>
                <a:cubicBezTo>
                  <a:pt x="18127" y="9846"/>
                  <a:pt x="18238" y="9890"/>
                  <a:pt x="18355" y="9897"/>
                </a:cubicBezTo>
                <a:cubicBezTo>
                  <a:pt x="18464" y="9904"/>
                  <a:pt x="18544" y="9904"/>
                  <a:pt x="18653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Ink 29"/>
          <p:cNvSpPr/>
          <p:nvPr/>
        </p:nvSpPr>
        <p:spPr>
          <a:xfrm>
            <a:off x="6446880" y="3776760"/>
            <a:ext cx="179280" cy="28440"/>
          </a:xfrm>
          <a:custGeom>
            <a:avLst/>
            <a:gdLst/>
            <a:ahLst/>
            <a:rect l="l" t="t" r="r" b="b"/>
            <a:pathLst>
              <a:path w="497" h="76">
                <a:moveTo>
                  <a:pt x="17909" y="10492"/>
                </a:moveTo>
                <a:cubicBezTo>
                  <a:pt x="18035" y="10550"/>
                  <a:pt x="18119" y="10567"/>
                  <a:pt x="18256" y="10567"/>
                </a:cubicBezTo>
                <a:cubicBezTo>
                  <a:pt x="18331" y="10567"/>
                  <a:pt x="18355" y="10567"/>
                  <a:pt x="18405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Ink 30"/>
          <p:cNvSpPr/>
          <p:nvPr/>
        </p:nvSpPr>
        <p:spPr>
          <a:xfrm>
            <a:off x="6429240" y="4017960"/>
            <a:ext cx="196920" cy="63360"/>
          </a:xfrm>
          <a:custGeom>
            <a:avLst/>
            <a:gdLst/>
            <a:ahLst/>
            <a:rect l="l" t="t" r="r" b="b"/>
            <a:pathLst>
              <a:path w="547" h="175">
                <a:moveTo>
                  <a:pt x="17859" y="11162"/>
                </a:moveTo>
                <a:cubicBezTo>
                  <a:pt x="18000" y="11245"/>
                  <a:pt x="18170" y="11304"/>
                  <a:pt x="18331" y="11336"/>
                </a:cubicBezTo>
                <a:cubicBezTo>
                  <a:pt x="18356" y="11336"/>
                  <a:pt x="18380" y="11336"/>
                  <a:pt x="18405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Ink 31"/>
          <p:cNvSpPr/>
          <p:nvPr/>
        </p:nvSpPr>
        <p:spPr>
          <a:xfrm>
            <a:off x="6392880" y="4340160"/>
            <a:ext cx="189000" cy="27000"/>
          </a:xfrm>
          <a:custGeom>
            <a:avLst/>
            <a:gdLst/>
            <a:ahLst/>
            <a:rect l="l" t="t" r="r" b="b"/>
            <a:pathLst>
              <a:path w="522" h="75">
                <a:moveTo>
                  <a:pt x="17760" y="12055"/>
                </a:moveTo>
                <a:cubicBezTo>
                  <a:pt x="17914" y="12092"/>
                  <a:pt x="18051" y="12124"/>
                  <a:pt x="18207" y="12129"/>
                </a:cubicBezTo>
                <a:cubicBezTo>
                  <a:pt x="18232" y="12129"/>
                  <a:pt x="18256" y="12129"/>
                  <a:pt x="18281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Ink 32"/>
          <p:cNvSpPr/>
          <p:nvPr/>
        </p:nvSpPr>
        <p:spPr>
          <a:xfrm>
            <a:off x="6392880" y="4616280"/>
            <a:ext cx="162000" cy="3672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17760" y="12824"/>
                </a:moveTo>
                <a:cubicBezTo>
                  <a:pt x="17888" y="12909"/>
                  <a:pt x="17933" y="12923"/>
                  <a:pt x="18083" y="12923"/>
                </a:cubicBezTo>
                <a:cubicBezTo>
                  <a:pt x="18149" y="12923"/>
                  <a:pt x="18166" y="12923"/>
                  <a:pt x="18207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Ink 33"/>
          <p:cNvSpPr/>
          <p:nvPr/>
        </p:nvSpPr>
        <p:spPr>
          <a:xfrm>
            <a:off x="6323040" y="4830840"/>
            <a:ext cx="169920" cy="442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17562" y="13419"/>
                </a:moveTo>
                <a:cubicBezTo>
                  <a:pt x="17606" y="13507"/>
                  <a:pt x="17645" y="13557"/>
                  <a:pt x="17760" y="13543"/>
                </a:cubicBezTo>
                <a:cubicBezTo>
                  <a:pt x="17861" y="13530"/>
                  <a:pt x="17943" y="13486"/>
                  <a:pt x="18033" y="134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Ink 34"/>
          <p:cNvSpPr/>
          <p:nvPr/>
        </p:nvSpPr>
        <p:spPr>
          <a:xfrm>
            <a:off x="1751040" y="3251160"/>
            <a:ext cx="758880" cy="660600"/>
          </a:xfrm>
          <a:custGeom>
            <a:avLst/>
            <a:gdLst/>
            <a:ahLst/>
            <a:rect l="l" t="t" r="r" b="b"/>
            <a:pathLst>
              <a:path w="2109" h="1836">
                <a:moveTo>
                  <a:pt x="5854" y="9252"/>
                </a:moveTo>
                <a:cubicBezTo>
                  <a:pt x="5937" y="9235"/>
                  <a:pt x="6012" y="9252"/>
                  <a:pt x="6102" y="9252"/>
                </a:cubicBezTo>
                <a:cubicBezTo>
                  <a:pt x="6119" y="9252"/>
                  <a:pt x="6135" y="9252"/>
                  <a:pt x="6152" y="9252"/>
                </a:cubicBezTo>
              </a:path>
              <a:path w="2109" h="1836">
                <a:moveTo>
                  <a:pt x="6548" y="9103"/>
                </a:moveTo>
                <a:cubicBezTo>
                  <a:pt x="6636" y="9103"/>
                  <a:pt x="6684" y="9097"/>
                  <a:pt x="6772" y="9079"/>
                </a:cubicBezTo>
              </a:path>
              <a:path w="2109" h="1836">
                <a:moveTo>
                  <a:pt x="6474" y="9029"/>
                </a:moveTo>
                <a:cubicBezTo>
                  <a:pt x="6429" y="9096"/>
                  <a:pt x="6355" y="9183"/>
                  <a:pt x="6474" y="9227"/>
                </a:cubicBezTo>
                <a:cubicBezTo>
                  <a:pt x="6579" y="9266"/>
                  <a:pt x="6644" y="9277"/>
                  <a:pt x="6747" y="9302"/>
                </a:cubicBezTo>
                <a:cubicBezTo>
                  <a:pt x="6832" y="9322"/>
                  <a:pt x="6842" y="9429"/>
                  <a:pt x="6846" y="9500"/>
                </a:cubicBezTo>
                <a:cubicBezTo>
                  <a:pt x="6848" y="9534"/>
                  <a:pt x="6811" y="9660"/>
                  <a:pt x="6772" y="9674"/>
                </a:cubicBezTo>
                <a:cubicBezTo>
                  <a:pt x="6674" y="9710"/>
                  <a:pt x="6595" y="9642"/>
                  <a:pt x="6524" y="9624"/>
                </a:cubicBezTo>
                <a:cubicBezTo>
                  <a:pt x="6466" y="9616"/>
                  <a:pt x="6408" y="9607"/>
                  <a:pt x="6350" y="9599"/>
                </a:cubicBezTo>
              </a:path>
              <a:path w="2109" h="1836">
                <a:moveTo>
                  <a:pt x="4862" y="9897"/>
                </a:moveTo>
                <a:cubicBezTo>
                  <a:pt x="4935" y="9809"/>
                  <a:pt x="4939" y="9853"/>
                  <a:pt x="5011" y="9897"/>
                </a:cubicBezTo>
                <a:cubicBezTo>
                  <a:pt x="5066" y="9931"/>
                  <a:pt x="5069" y="9930"/>
                  <a:pt x="5035" y="9996"/>
                </a:cubicBezTo>
                <a:cubicBezTo>
                  <a:pt x="5010" y="10044"/>
                  <a:pt x="4970" y="10098"/>
                  <a:pt x="4961" y="10145"/>
                </a:cubicBezTo>
                <a:cubicBezTo>
                  <a:pt x="4950" y="10201"/>
                  <a:pt x="4997" y="10250"/>
                  <a:pt x="5035" y="10269"/>
                </a:cubicBezTo>
                <a:cubicBezTo>
                  <a:pt x="5101" y="10302"/>
                  <a:pt x="5161" y="10294"/>
                  <a:pt x="5234" y="10294"/>
                </a:cubicBezTo>
              </a:path>
              <a:path w="2109" h="1836">
                <a:moveTo>
                  <a:pt x="5358" y="9996"/>
                </a:moveTo>
                <a:cubicBezTo>
                  <a:pt x="5341" y="10124"/>
                  <a:pt x="5324" y="10144"/>
                  <a:pt x="5432" y="10195"/>
                </a:cubicBezTo>
                <a:cubicBezTo>
                  <a:pt x="5495" y="10225"/>
                  <a:pt x="5517" y="10253"/>
                  <a:pt x="5581" y="10269"/>
                </a:cubicBezTo>
              </a:path>
              <a:path w="2109" h="1836">
                <a:moveTo>
                  <a:pt x="5556" y="9823"/>
                </a:moveTo>
                <a:cubicBezTo>
                  <a:pt x="5479" y="9900"/>
                  <a:pt x="5375" y="9964"/>
                  <a:pt x="5308" y="10046"/>
                </a:cubicBezTo>
                <a:cubicBezTo>
                  <a:pt x="5234" y="10137"/>
                  <a:pt x="5214" y="10160"/>
                  <a:pt x="5234" y="10269"/>
                </a:cubicBezTo>
              </a:path>
              <a:path w="2109" h="1836">
                <a:moveTo>
                  <a:pt x="5730" y="9971"/>
                </a:moveTo>
                <a:cubicBezTo>
                  <a:pt x="5821" y="9989"/>
                  <a:pt x="5828" y="9998"/>
                  <a:pt x="5879" y="9996"/>
                </a:cubicBezTo>
              </a:path>
              <a:path w="2109" h="1836">
                <a:moveTo>
                  <a:pt x="5779" y="10145"/>
                </a:moveTo>
                <a:cubicBezTo>
                  <a:pt x="5894" y="10145"/>
                  <a:pt x="5889" y="10190"/>
                  <a:pt x="5978" y="10145"/>
                </a:cubicBezTo>
              </a:path>
              <a:path w="2109" h="1836">
                <a:moveTo>
                  <a:pt x="6226" y="9971"/>
                </a:moveTo>
                <a:cubicBezTo>
                  <a:pt x="6285" y="9971"/>
                  <a:pt x="6399" y="10012"/>
                  <a:pt x="6449" y="9996"/>
                </a:cubicBezTo>
                <a:cubicBezTo>
                  <a:pt x="6457" y="9988"/>
                  <a:pt x="6466" y="9979"/>
                  <a:pt x="6474" y="9971"/>
                </a:cubicBezTo>
              </a:path>
              <a:path w="2109" h="1836">
                <a:moveTo>
                  <a:pt x="6524" y="9823"/>
                </a:moveTo>
                <a:cubicBezTo>
                  <a:pt x="6600" y="9868"/>
                  <a:pt x="6600" y="9895"/>
                  <a:pt x="6648" y="9847"/>
                </a:cubicBezTo>
              </a:path>
              <a:path w="2109" h="1836">
                <a:moveTo>
                  <a:pt x="6449" y="9773"/>
                </a:moveTo>
                <a:cubicBezTo>
                  <a:pt x="6375" y="9825"/>
                  <a:pt x="6299" y="9868"/>
                  <a:pt x="6375" y="9971"/>
                </a:cubicBezTo>
                <a:cubicBezTo>
                  <a:pt x="6399" y="10004"/>
                  <a:pt x="6486" y="10031"/>
                  <a:pt x="6524" y="10046"/>
                </a:cubicBezTo>
                <a:cubicBezTo>
                  <a:pt x="6619" y="10083"/>
                  <a:pt x="6628" y="10125"/>
                  <a:pt x="6672" y="10195"/>
                </a:cubicBezTo>
                <a:cubicBezTo>
                  <a:pt x="6718" y="10268"/>
                  <a:pt x="6655" y="10247"/>
                  <a:pt x="6623" y="10294"/>
                </a:cubicBezTo>
                <a:cubicBezTo>
                  <a:pt x="6553" y="10396"/>
                  <a:pt x="6534" y="10323"/>
                  <a:pt x="6449" y="10294"/>
                </a:cubicBezTo>
                <a:cubicBezTo>
                  <a:pt x="6400" y="10294"/>
                  <a:pt x="6383" y="10294"/>
                  <a:pt x="6350" y="10294"/>
                </a:cubicBezTo>
              </a:path>
              <a:path w="2109" h="1836">
                <a:moveTo>
                  <a:pt x="5035" y="10145"/>
                </a:moveTo>
                <a:cubicBezTo>
                  <a:pt x="5147" y="10145"/>
                  <a:pt x="5212" y="10177"/>
                  <a:pt x="5308" y="10195"/>
                </a:cubicBezTo>
                <a:cubicBezTo>
                  <a:pt x="5412" y="10215"/>
                  <a:pt x="5436" y="10198"/>
                  <a:pt x="5507" y="10145"/>
                </a:cubicBezTo>
              </a:path>
              <a:path w="2109" h="1836">
                <a:moveTo>
                  <a:pt x="5209" y="10294"/>
                </a:moveTo>
                <a:cubicBezTo>
                  <a:pt x="5300" y="10294"/>
                  <a:pt x="5326" y="10335"/>
                  <a:pt x="5407" y="10344"/>
                </a:cubicBezTo>
                <a:cubicBezTo>
                  <a:pt x="5424" y="10344"/>
                  <a:pt x="5440" y="10344"/>
                  <a:pt x="5457" y="10344"/>
                </a:cubicBezTo>
                <a:cubicBezTo>
                  <a:pt x="5450" y="10418"/>
                  <a:pt x="5448" y="10459"/>
                  <a:pt x="5383" y="10492"/>
                </a:cubicBezTo>
                <a:cubicBezTo>
                  <a:pt x="5326" y="10521"/>
                  <a:pt x="5305" y="10557"/>
                  <a:pt x="5259" y="10592"/>
                </a:cubicBezTo>
                <a:cubicBezTo>
                  <a:pt x="5319" y="10690"/>
                  <a:pt x="5355" y="10682"/>
                  <a:pt x="5457" y="10716"/>
                </a:cubicBezTo>
                <a:cubicBezTo>
                  <a:pt x="5538" y="10742"/>
                  <a:pt x="5570" y="10750"/>
                  <a:pt x="5631" y="10740"/>
                </a:cubicBezTo>
              </a:path>
              <a:path w="2109" h="1836">
                <a:moveTo>
                  <a:pt x="6350" y="10269"/>
                </a:moveTo>
                <a:cubicBezTo>
                  <a:pt x="6501" y="10234"/>
                  <a:pt x="6516" y="10269"/>
                  <a:pt x="6672" y="10269"/>
                </a:cubicBezTo>
                <a:cubicBezTo>
                  <a:pt x="6795" y="10269"/>
                  <a:pt x="6862" y="10273"/>
                  <a:pt x="6970" y="10220"/>
                </a:cubicBezTo>
              </a:path>
              <a:path w="2109" h="1836">
                <a:moveTo>
                  <a:pt x="6524" y="10418"/>
                </a:moveTo>
                <a:cubicBezTo>
                  <a:pt x="6609" y="10418"/>
                  <a:pt x="6748" y="10391"/>
                  <a:pt x="6821" y="10443"/>
                </a:cubicBezTo>
                <a:cubicBezTo>
                  <a:pt x="6948" y="10534"/>
                  <a:pt x="6816" y="10544"/>
                  <a:pt x="6772" y="10592"/>
                </a:cubicBezTo>
                <a:cubicBezTo>
                  <a:pt x="6743" y="10623"/>
                  <a:pt x="6648" y="10687"/>
                  <a:pt x="6672" y="10740"/>
                </a:cubicBezTo>
                <a:cubicBezTo>
                  <a:pt x="6697" y="10795"/>
                  <a:pt x="6814" y="10867"/>
                  <a:pt x="6871" y="10864"/>
                </a:cubicBezTo>
                <a:cubicBezTo>
                  <a:pt x="6888" y="10856"/>
                  <a:pt x="6904" y="10848"/>
                  <a:pt x="6921" y="10840"/>
                </a:cubicBezTo>
              </a:path>
              <a:path w="2109" h="1836">
                <a:moveTo>
                  <a:pt x="5011" y="9748"/>
                </a:moveTo>
                <a:cubicBezTo>
                  <a:pt x="5039" y="9898"/>
                  <a:pt x="5050" y="9952"/>
                  <a:pt x="5135" y="10071"/>
                </a:cubicBezTo>
                <a:cubicBezTo>
                  <a:pt x="5203" y="10167"/>
                  <a:pt x="5252" y="10268"/>
                  <a:pt x="5308" y="10368"/>
                </a:cubicBezTo>
                <a:cubicBezTo>
                  <a:pt x="5350" y="10443"/>
                  <a:pt x="5378" y="10486"/>
                  <a:pt x="5407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Ink 35"/>
          <p:cNvSpPr/>
          <p:nvPr/>
        </p:nvSpPr>
        <p:spPr>
          <a:xfrm>
            <a:off x="276120" y="4330800"/>
            <a:ext cx="536760" cy="214200"/>
          </a:xfrm>
          <a:custGeom>
            <a:avLst/>
            <a:gdLst/>
            <a:ahLst/>
            <a:rect l="l" t="t" r="r" b="b"/>
            <a:pathLst>
              <a:path w="1489" h="597">
                <a:moveTo>
                  <a:pt x="769" y="12055"/>
                </a:moveTo>
                <a:cubicBezTo>
                  <a:pt x="795" y="12107"/>
                  <a:pt x="855" y="12173"/>
                  <a:pt x="868" y="12229"/>
                </a:cubicBezTo>
                <a:cubicBezTo>
                  <a:pt x="882" y="12290"/>
                  <a:pt x="929" y="12348"/>
                  <a:pt x="943" y="12402"/>
                </a:cubicBezTo>
                <a:cubicBezTo>
                  <a:pt x="961" y="12467"/>
                  <a:pt x="965" y="12476"/>
                  <a:pt x="1017" y="12526"/>
                </a:cubicBezTo>
                <a:cubicBezTo>
                  <a:pt x="1062" y="12426"/>
                  <a:pt x="1075" y="12331"/>
                  <a:pt x="1116" y="12229"/>
                </a:cubicBezTo>
                <a:cubicBezTo>
                  <a:pt x="1145" y="12158"/>
                  <a:pt x="1181" y="12101"/>
                  <a:pt x="1191" y="12030"/>
                </a:cubicBezTo>
              </a:path>
              <a:path w="1489" h="597">
                <a:moveTo>
                  <a:pt x="1240" y="12378"/>
                </a:moveTo>
                <a:cubicBezTo>
                  <a:pt x="1351" y="12330"/>
                  <a:pt x="1441" y="12279"/>
                  <a:pt x="1414" y="12129"/>
                </a:cubicBezTo>
                <a:cubicBezTo>
                  <a:pt x="1392" y="12086"/>
                  <a:pt x="1388" y="12074"/>
                  <a:pt x="1364" y="12055"/>
                </a:cubicBezTo>
                <a:cubicBezTo>
                  <a:pt x="1290" y="12109"/>
                  <a:pt x="1269" y="12157"/>
                  <a:pt x="1265" y="12254"/>
                </a:cubicBezTo>
                <a:cubicBezTo>
                  <a:pt x="1262" y="12329"/>
                  <a:pt x="1284" y="12393"/>
                  <a:pt x="1315" y="12452"/>
                </a:cubicBezTo>
                <a:cubicBezTo>
                  <a:pt x="1352" y="12522"/>
                  <a:pt x="1365" y="12517"/>
                  <a:pt x="1439" y="12526"/>
                </a:cubicBezTo>
              </a:path>
              <a:path w="1489" h="597">
                <a:moveTo>
                  <a:pt x="1513" y="12229"/>
                </a:moveTo>
                <a:cubicBezTo>
                  <a:pt x="1519" y="12296"/>
                  <a:pt x="1514" y="12414"/>
                  <a:pt x="1538" y="12477"/>
                </a:cubicBezTo>
                <a:cubicBezTo>
                  <a:pt x="1557" y="12525"/>
                  <a:pt x="1647" y="12639"/>
                  <a:pt x="1612" y="12601"/>
                </a:cubicBezTo>
                <a:cubicBezTo>
                  <a:pt x="1558" y="12542"/>
                  <a:pt x="1608" y="12491"/>
                  <a:pt x="1612" y="12427"/>
                </a:cubicBezTo>
                <a:cubicBezTo>
                  <a:pt x="1617" y="12347"/>
                  <a:pt x="1648" y="12338"/>
                  <a:pt x="1687" y="12278"/>
                </a:cubicBezTo>
                <a:cubicBezTo>
                  <a:pt x="1727" y="12216"/>
                  <a:pt x="1757" y="12202"/>
                  <a:pt x="1811" y="12154"/>
                </a:cubicBezTo>
                <a:cubicBezTo>
                  <a:pt x="1819" y="12146"/>
                  <a:pt x="1828" y="12137"/>
                  <a:pt x="1836" y="12129"/>
                </a:cubicBezTo>
              </a:path>
              <a:path w="1489" h="597">
                <a:moveTo>
                  <a:pt x="2084" y="12154"/>
                </a:moveTo>
                <a:cubicBezTo>
                  <a:pt x="2060" y="12291"/>
                  <a:pt x="2066" y="12326"/>
                  <a:pt x="2084" y="12452"/>
                </a:cubicBezTo>
                <a:cubicBezTo>
                  <a:pt x="2093" y="12513"/>
                  <a:pt x="2108" y="12563"/>
                  <a:pt x="2108" y="12626"/>
                </a:cubicBezTo>
              </a:path>
              <a:path w="1489" h="597">
                <a:moveTo>
                  <a:pt x="1910" y="12303"/>
                </a:moveTo>
                <a:cubicBezTo>
                  <a:pt x="1988" y="12256"/>
                  <a:pt x="2045" y="12291"/>
                  <a:pt x="2133" y="12303"/>
                </a:cubicBezTo>
                <a:cubicBezTo>
                  <a:pt x="2191" y="12303"/>
                  <a:pt x="2216" y="12303"/>
                  <a:pt x="2257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Ink 36"/>
          <p:cNvSpPr/>
          <p:nvPr/>
        </p:nvSpPr>
        <p:spPr>
          <a:xfrm>
            <a:off x="946080" y="4330800"/>
            <a:ext cx="590760" cy="455400"/>
          </a:xfrm>
          <a:custGeom>
            <a:avLst/>
            <a:gdLst/>
            <a:ahLst/>
            <a:rect l="l" t="t" r="r" b="b"/>
            <a:pathLst>
              <a:path w="1638" h="1266">
                <a:moveTo>
                  <a:pt x="2927" y="12402"/>
                </a:moveTo>
                <a:cubicBezTo>
                  <a:pt x="2955" y="12356"/>
                  <a:pt x="2952" y="12304"/>
                  <a:pt x="2927" y="12254"/>
                </a:cubicBezTo>
                <a:cubicBezTo>
                  <a:pt x="2900" y="12201"/>
                  <a:pt x="2830" y="12189"/>
                  <a:pt x="2778" y="12204"/>
                </a:cubicBezTo>
                <a:cubicBezTo>
                  <a:pt x="2731" y="12217"/>
                  <a:pt x="2666" y="12283"/>
                  <a:pt x="2654" y="12328"/>
                </a:cubicBezTo>
                <a:cubicBezTo>
                  <a:pt x="2634" y="12402"/>
                  <a:pt x="2635" y="12448"/>
                  <a:pt x="2679" y="12526"/>
                </a:cubicBezTo>
                <a:cubicBezTo>
                  <a:pt x="2717" y="12593"/>
                  <a:pt x="2780" y="12577"/>
                  <a:pt x="2828" y="12551"/>
                </a:cubicBezTo>
                <a:cubicBezTo>
                  <a:pt x="2861" y="12533"/>
                  <a:pt x="2940" y="12468"/>
                  <a:pt x="2952" y="12427"/>
                </a:cubicBezTo>
                <a:cubicBezTo>
                  <a:pt x="2965" y="12380"/>
                  <a:pt x="2970" y="12352"/>
                  <a:pt x="2977" y="12303"/>
                </a:cubicBezTo>
                <a:cubicBezTo>
                  <a:pt x="3011" y="12362"/>
                  <a:pt x="3009" y="12438"/>
                  <a:pt x="3051" y="12502"/>
                </a:cubicBezTo>
                <a:cubicBezTo>
                  <a:pt x="3084" y="12553"/>
                  <a:pt x="3122" y="12595"/>
                  <a:pt x="3175" y="12626"/>
                </a:cubicBezTo>
                <a:cubicBezTo>
                  <a:pt x="3192" y="12634"/>
                  <a:pt x="3208" y="12642"/>
                  <a:pt x="3225" y="12650"/>
                </a:cubicBezTo>
              </a:path>
              <a:path w="1638" h="1266">
                <a:moveTo>
                  <a:pt x="3373" y="12179"/>
                </a:moveTo>
                <a:cubicBezTo>
                  <a:pt x="3349" y="12170"/>
                  <a:pt x="3220" y="12124"/>
                  <a:pt x="3225" y="12204"/>
                </a:cubicBezTo>
                <a:cubicBezTo>
                  <a:pt x="3230" y="12277"/>
                  <a:pt x="3360" y="12374"/>
                  <a:pt x="3398" y="12427"/>
                </a:cubicBezTo>
                <a:cubicBezTo>
                  <a:pt x="3443" y="12491"/>
                  <a:pt x="3448" y="12524"/>
                  <a:pt x="3448" y="12601"/>
                </a:cubicBezTo>
                <a:cubicBezTo>
                  <a:pt x="3401" y="12601"/>
                  <a:pt x="3317" y="12615"/>
                  <a:pt x="3299" y="12551"/>
                </a:cubicBezTo>
                <a:cubicBezTo>
                  <a:pt x="3299" y="12510"/>
                  <a:pt x="3299" y="12502"/>
                  <a:pt x="3299" y="12477"/>
                </a:cubicBezTo>
              </a:path>
              <a:path w="1638" h="1266">
                <a:moveTo>
                  <a:pt x="3597" y="12254"/>
                </a:moveTo>
                <a:cubicBezTo>
                  <a:pt x="3631" y="12311"/>
                  <a:pt x="3632" y="12390"/>
                  <a:pt x="3671" y="12452"/>
                </a:cubicBezTo>
                <a:cubicBezTo>
                  <a:pt x="3708" y="12512"/>
                  <a:pt x="3748" y="12554"/>
                  <a:pt x="3795" y="12601"/>
                </a:cubicBezTo>
              </a:path>
              <a:path w="1638" h="1266">
                <a:moveTo>
                  <a:pt x="3944" y="12129"/>
                </a:moveTo>
                <a:cubicBezTo>
                  <a:pt x="3934" y="12207"/>
                  <a:pt x="3918" y="12279"/>
                  <a:pt x="3894" y="12353"/>
                </a:cubicBezTo>
                <a:cubicBezTo>
                  <a:pt x="3862" y="12451"/>
                  <a:pt x="3864" y="12551"/>
                  <a:pt x="3845" y="12650"/>
                </a:cubicBezTo>
                <a:cubicBezTo>
                  <a:pt x="3823" y="12766"/>
                  <a:pt x="3801" y="12886"/>
                  <a:pt x="3770" y="12998"/>
                </a:cubicBezTo>
                <a:cubicBezTo>
                  <a:pt x="3746" y="13084"/>
                  <a:pt x="3746" y="13157"/>
                  <a:pt x="3746" y="13246"/>
                </a:cubicBezTo>
                <a:cubicBezTo>
                  <a:pt x="3746" y="13362"/>
                  <a:pt x="3780" y="13226"/>
                  <a:pt x="3795" y="13196"/>
                </a:cubicBezTo>
              </a:path>
              <a:path w="1638" h="1266">
                <a:moveTo>
                  <a:pt x="4217" y="12030"/>
                </a:moveTo>
                <a:cubicBezTo>
                  <a:pt x="4225" y="12047"/>
                  <a:pt x="4234" y="12063"/>
                  <a:pt x="4242" y="12080"/>
                </a:cubicBezTo>
              </a:path>
              <a:path w="1638" h="1266">
                <a:moveTo>
                  <a:pt x="4242" y="12378"/>
                </a:moveTo>
                <a:cubicBezTo>
                  <a:pt x="4250" y="12394"/>
                  <a:pt x="4258" y="12411"/>
                  <a:pt x="4266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Ink 37"/>
          <p:cNvSpPr/>
          <p:nvPr/>
        </p:nvSpPr>
        <p:spPr>
          <a:xfrm>
            <a:off x="1866960" y="4249800"/>
            <a:ext cx="7920" cy="341280"/>
          </a:xfrm>
          <a:custGeom>
            <a:avLst/>
            <a:gdLst/>
            <a:ahLst/>
            <a:rect l="l" t="t" r="r" b="b"/>
            <a:pathLst>
              <a:path w="26" h="944">
                <a:moveTo>
                  <a:pt x="5184" y="11807"/>
                </a:moveTo>
                <a:cubicBezTo>
                  <a:pt x="5218" y="11875"/>
                  <a:pt x="5209" y="11949"/>
                  <a:pt x="5209" y="12030"/>
                </a:cubicBezTo>
                <a:cubicBezTo>
                  <a:pt x="5209" y="12132"/>
                  <a:pt x="5184" y="12224"/>
                  <a:pt x="5184" y="12328"/>
                </a:cubicBezTo>
                <a:cubicBezTo>
                  <a:pt x="5184" y="12469"/>
                  <a:pt x="5184" y="12609"/>
                  <a:pt x="5184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Ink 38"/>
          <p:cNvSpPr/>
          <p:nvPr/>
        </p:nvSpPr>
        <p:spPr>
          <a:xfrm>
            <a:off x="1982880" y="4340160"/>
            <a:ext cx="795240" cy="276120"/>
          </a:xfrm>
          <a:custGeom>
            <a:avLst/>
            <a:gdLst/>
            <a:ahLst/>
            <a:rect l="l" t="t" r="r" b="b"/>
            <a:pathLst>
              <a:path w="2208" h="770">
                <a:moveTo>
                  <a:pt x="5680" y="12080"/>
                </a:moveTo>
                <a:cubicBezTo>
                  <a:pt x="5673" y="12160"/>
                  <a:pt x="5671" y="12248"/>
                  <a:pt x="5655" y="12328"/>
                </a:cubicBezTo>
                <a:cubicBezTo>
                  <a:pt x="5639" y="12408"/>
                  <a:pt x="5631" y="12468"/>
                  <a:pt x="5631" y="12551"/>
                </a:cubicBezTo>
                <a:cubicBezTo>
                  <a:pt x="5631" y="12603"/>
                  <a:pt x="5644" y="12607"/>
                  <a:pt x="5655" y="12650"/>
                </a:cubicBezTo>
              </a:path>
              <a:path w="2208" h="770">
                <a:moveTo>
                  <a:pt x="5507" y="12278"/>
                </a:moveTo>
                <a:cubicBezTo>
                  <a:pt x="5590" y="12278"/>
                  <a:pt x="5650" y="12291"/>
                  <a:pt x="5730" y="12303"/>
                </a:cubicBezTo>
                <a:cubicBezTo>
                  <a:pt x="5796" y="12303"/>
                  <a:pt x="5829" y="12303"/>
                  <a:pt x="5879" y="12303"/>
                </a:cubicBezTo>
              </a:path>
              <a:path w="2208" h="770">
                <a:moveTo>
                  <a:pt x="6102" y="12179"/>
                </a:moveTo>
                <a:cubicBezTo>
                  <a:pt x="6153" y="12267"/>
                  <a:pt x="6178" y="12363"/>
                  <a:pt x="6226" y="12452"/>
                </a:cubicBezTo>
                <a:cubicBezTo>
                  <a:pt x="6282" y="12556"/>
                  <a:pt x="6383" y="12629"/>
                  <a:pt x="6449" y="12725"/>
                </a:cubicBezTo>
                <a:cubicBezTo>
                  <a:pt x="6476" y="12779"/>
                  <a:pt x="6488" y="12799"/>
                  <a:pt x="6524" y="12824"/>
                </a:cubicBezTo>
              </a:path>
              <a:path w="2208" h="770">
                <a:moveTo>
                  <a:pt x="6449" y="12055"/>
                </a:moveTo>
                <a:cubicBezTo>
                  <a:pt x="6393" y="12120"/>
                  <a:pt x="6336" y="12205"/>
                  <a:pt x="6300" y="12278"/>
                </a:cubicBezTo>
                <a:cubicBezTo>
                  <a:pt x="6261" y="12357"/>
                  <a:pt x="6239" y="12446"/>
                  <a:pt x="6201" y="12526"/>
                </a:cubicBezTo>
                <a:cubicBezTo>
                  <a:pt x="6179" y="12572"/>
                  <a:pt x="6101" y="12663"/>
                  <a:pt x="6152" y="12700"/>
                </a:cubicBezTo>
                <a:cubicBezTo>
                  <a:pt x="6160" y="12700"/>
                  <a:pt x="6168" y="12700"/>
                  <a:pt x="6176" y="12700"/>
                </a:cubicBezTo>
              </a:path>
              <a:path w="2208" h="770">
                <a:moveTo>
                  <a:pt x="6697" y="12229"/>
                </a:moveTo>
                <a:cubicBezTo>
                  <a:pt x="6793" y="12215"/>
                  <a:pt x="6854" y="12204"/>
                  <a:pt x="6945" y="12204"/>
                </a:cubicBezTo>
              </a:path>
              <a:path w="2208" h="770">
                <a:moveTo>
                  <a:pt x="6697" y="12328"/>
                </a:moveTo>
                <a:cubicBezTo>
                  <a:pt x="6770" y="12374"/>
                  <a:pt x="6838" y="12413"/>
                  <a:pt x="6921" y="12427"/>
                </a:cubicBezTo>
                <a:cubicBezTo>
                  <a:pt x="6937" y="12427"/>
                  <a:pt x="6954" y="12427"/>
                  <a:pt x="6970" y="12427"/>
                </a:cubicBezTo>
              </a:path>
              <a:path w="2208" h="770">
                <a:moveTo>
                  <a:pt x="7342" y="12179"/>
                </a:moveTo>
                <a:cubicBezTo>
                  <a:pt x="7295" y="12254"/>
                  <a:pt x="7248" y="12314"/>
                  <a:pt x="7243" y="12402"/>
                </a:cubicBezTo>
                <a:cubicBezTo>
                  <a:pt x="7239" y="12477"/>
                  <a:pt x="7243" y="12519"/>
                  <a:pt x="7293" y="12576"/>
                </a:cubicBezTo>
                <a:cubicBezTo>
                  <a:pt x="7343" y="12633"/>
                  <a:pt x="7393" y="12663"/>
                  <a:pt x="7466" y="12675"/>
                </a:cubicBezTo>
                <a:cubicBezTo>
                  <a:pt x="7521" y="12684"/>
                  <a:pt x="7576" y="12637"/>
                  <a:pt x="7615" y="12601"/>
                </a:cubicBezTo>
                <a:cubicBezTo>
                  <a:pt x="7678" y="12542"/>
                  <a:pt x="7709" y="12462"/>
                  <a:pt x="7714" y="12378"/>
                </a:cubicBezTo>
                <a:cubicBezTo>
                  <a:pt x="7718" y="12304"/>
                  <a:pt x="7674" y="12224"/>
                  <a:pt x="7615" y="12179"/>
                </a:cubicBezTo>
                <a:cubicBezTo>
                  <a:pt x="7549" y="12129"/>
                  <a:pt x="7470" y="12129"/>
                  <a:pt x="7392" y="12129"/>
                </a:cubicBezTo>
                <a:cubicBezTo>
                  <a:pt x="7326" y="12129"/>
                  <a:pt x="7309" y="12129"/>
                  <a:pt x="7268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Ink 39"/>
          <p:cNvSpPr/>
          <p:nvPr/>
        </p:nvSpPr>
        <p:spPr>
          <a:xfrm>
            <a:off x="2133720" y="4589640"/>
            <a:ext cx="760320" cy="474480"/>
          </a:xfrm>
          <a:custGeom>
            <a:avLst/>
            <a:gdLst/>
            <a:ahLst/>
            <a:rect l="l" t="t" r="r" b="b"/>
            <a:pathLst>
              <a:path w="2110" h="1315">
                <a:moveTo>
                  <a:pt x="6226" y="13122"/>
                </a:moveTo>
                <a:cubicBezTo>
                  <a:pt x="6292" y="13239"/>
                  <a:pt x="6353" y="13356"/>
                  <a:pt x="6424" y="13469"/>
                </a:cubicBezTo>
                <a:cubicBezTo>
                  <a:pt x="6480" y="13557"/>
                  <a:pt x="6532" y="13662"/>
                  <a:pt x="6598" y="13742"/>
                </a:cubicBezTo>
                <a:cubicBezTo>
                  <a:pt x="6645" y="13788"/>
                  <a:pt x="6659" y="13800"/>
                  <a:pt x="6672" y="13841"/>
                </a:cubicBezTo>
              </a:path>
              <a:path w="2110" h="1315">
                <a:moveTo>
                  <a:pt x="6573" y="13072"/>
                </a:moveTo>
                <a:cubicBezTo>
                  <a:pt x="6484" y="13187"/>
                  <a:pt x="6430" y="13267"/>
                  <a:pt x="6375" y="13395"/>
                </a:cubicBezTo>
                <a:cubicBezTo>
                  <a:pt x="6348" y="13458"/>
                  <a:pt x="6291" y="13525"/>
                  <a:pt x="6276" y="13593"/>
                </a:cubicBezTo>
                <a:cubicBezTo>
                  <a:pt x="6276" y="13634"/>
                  <a:pt x="6276" y="13642"/>
                  <a:pt x="6276" y="13667"/>
                </a:cubicBezTo>
              </a:path>
              <a:path w="2110" h="1315">
                <a:moveTo>
                  <a:pt x="6747" y="13221"/>
                </a:moveTo>
                <a:cubicBezTo>
                  <a:pt x="6856" y="13221"/>
                  <a:pt x="6904" y="13209"/>
                  <a:pt x="6995" y="13196"/>
                </a:cubicBezTo>
              </a:path>
              <a:path w="2110" h="1315">
                <a:moveTo>
                  <a:pt x="6772" y="13295"/>
                </a:moveTo>
                <a:cubicBezTo>
                  <a:pt x="6809" y="13362"/>
                  <a:pt x="6842" y="13385"/>
                  <a:pt x="6921" y="13395"/>
                </a:cubicBezTo>
                <a:cubicBezTo>
                  <a:pt x="6946" y="13395"/>
                  <a:pt x="6970" y="13395"/>
                  <a:pt x="6995" y="13395"/>
                </a:cubicBezTo>
              </a:path>
              <a:path w="2110" h="1315">
                <a:moveTo>
                  <a:pt x="7094" y="13246"/>
                </a:moveTo>
                <a:cubicBezTo>
                  <a:pt x="7175" y="13224"/>
                  <a:pt x="7234" y="13221"/>
                  <a:pt x="7317" y="13221"/>
                </a:cubicBezTo>
                <a:cubicBezTo>
                  <a:pt x="7334" y="13221"/>
                  <a:pt x="7350" y="13221"/>
                  <a:pt x="7367" y="13221"/>
                </a:cubicBezTo>
              </a:path>
              <a:path w="2110" h="1315">
                <a:moveTo>
                  <a:pt x="7565" y="13047"/>
                </a:moveTo>
                <a:cubicBezTo>
                  <a:pt x="7558" y="13143"/>
                  <a:pt x="7523" y="13247"/>
                  <a:pt x="7541" y="13345"/>
                </a:cubicBezTo>
                <a:cubicBezTo>
                  <a:pt x="7559" y="13443"/>
                  <a:pt x="7569" y="13547"/>
                  <a:pt x="7590" y="13643"/>
                </a:cubicBezTo>
                <a:cubicBezTo>
                  <a:pt x="7609" y="13700"/>
                  <a:pt x="7618" y="13707"/>
                  <a:pt x="7615" y="13742"/>
                </a:cubicBezTo>
              </a:path>
              <a:path w="2110" h="1315">
                <a:moveTo>
                  <a:pt x="6052" y="12898"/>
                </a:moveTo>
                <a:cubicBezTo>
                  <a:pt x="6045" y="13043"/>
                  <a:pt x="6038" y="13153"/>
                  <a:pt x="6052" y="13295"/>
                </a:cubicBezTo>
                <a:cubicBezTo>
                  <a:pt x="6060" y="13374"/>
                  <a:pt x="6082" y="13655"/>
                  <a:pt x="6028" y="13692"/>
                </a:cubicBezTo>
              </a:path>
              <a:path w="2110" h="1315">
                <a:moveTo>
                  <a:pt x="6052" y="12799"/>
                </a:moveTo>
                <a:cubicBezTo>
                  <a:pt x="6240" y="12762"/>
                  <a:pt x="6345" y="12743"/>
                  <a:pt x="6524" y="12774"/>
                </a:cubicBezTo>
                <a:cubicBezTo>
                  <a:pt x="6692" y="12803"/>
                  <a:pt x="6846" y="12845"/>
                  <a:pt x="7020" y="12849"/>
                </a:cubicBezTo>
                <a:cubicBezTo>
                  <a:pt x="7133" y="12852"/>
                  <a:pt x="7280" y="12844"/>
                  <a:pt x="7392" y="12824"/>
                </a:cubicBezTo>
                <a:cubicBezTo>
                  <a:pt x="7471" y="12810"/>
                  <a:pt x="7537" y="12783"/>
                  <a:pt x="7615" y="12774"/>
                </a:cubicBezTo>
                <a:cubicBezTo>
                  <a:pt x="7676" y="12767"/>
                  <a:pt x="7742" y="12765"/>
                  <a:pt x="7789" y="12799"/>
                </a:cubicBezTo>
                <a:cubicBezTo>
                  <a:pt x="7837" y="12834"/>
                  <a:pt x="7851" y="12971"/>
                  <a:pt x="7863" y="13022"/>
                </a:cubicBezTo>
                <a:cubicBezTo>
                  <a:pt x="7886" y="13117"/>
                  <a:pt x="7892" y="13224"/>
                  <a:pt x="7913" y="13320"/>
                </a:cubicBezTo>
                <a:cubicBezTo>
                  <a:pt x="7938" y="13435"/>
                  <a:pt x="7957" y="13554"/>
                  <a:pt x="7987" y="13667"/>
                </a:cubicBezTo>
                <a:cubicBezTo>
                  <a:pt x="8009" y="13750"/>
                  <a:pt x="8030" y="13832"/>
                  <a:pt x="8037" y="13915"/>
                </a:cubicBezTo>
                <a:cubicBezTo>
                  <a:pt x="8041" y="13964"/>
                  <a:pt x="8037" y="14015"/>
                  <a:pt x="8037" y="14064"/>
                </a:cubicBezTo>
                <a:cubicBezTo>
                  <a:pt x="7940" y="14044"/>
                  <a:pt x="7840" y="14018"/>
                  <a:pt x="7739" y="14015"/>
                </a:cubicBezTo>
                <a:cubicBezTo>
                  <a:pt x="7530" y="14010"/>
                  <a:pt x="7325" y="14008"/>
                  <a:pt x="7119" y="13990"/>
                </a:cubicBezTo>
                <a:cubicBezTo>
                  <a:pt x="6970" y="13977"/>
                  <a:pt x="6821" y="13952"/>
                  <a:pt x="6672" y="13940"/>
                </a:cubicBezTo>
                <a:cubicBezTo>
                  <a:pt x="6538" y="13930"/>
                  <a:pt x="6409" y="13903"/>
                  <a:pt x="6276" y="13891"/>
                </a:cubicBezTo>
                <a:cubicBezTo>
                  <a:pt x="6168" y="13881"/>
                  <a:pt x="6046" y="13880"/>
                  <a:pt x="5953" y="13915"/>
                </a:cubicBezTo>
                <a:cubicBezTo>
                  <a:pt x="5945" y="13923"/>
                  <a:pt x="5936" y="13932"/>
                  <a:pt x="5928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Ink 40"/>
          <p:cNvSpPr/>
          <p:nvPr/>
        </p:nvSpPr>
        <p:spPr>
          <a:xfrm>
            <a:off x="312840" y="5010120"/>
            <a:ext cx="1411200" cy="64296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943" y="14015"/>
                </a:moveTo>
                <a:cubicBezTo>
                  <a:pt x="943" y="14169"/>
                  <a:pt x="935" y="14312"/>
                  <a:pt x="918" y="14461"/>
                </a:cubicBezTo>
                <a:cubicBezTo>
                  <a:pt x="905" y="14576"/>
                  <a:pt x="897" y="14694"/>
                  <a:pt x="893" y="14808"/>
                </a:cubicBezTo>
                <a:cubicBezTo>
                  <a:pt x="890" y="14889"/>
                  <a:pt x="868" y="14950"/>
                  <a:pt x="868" y="15032"/>
                </a:cubicBezTo>
                <a:cubicBezTo>
                  <a:pt x="868" y="15040"/>
                  <a:pt x="868" y="15048"/>
                  <a:pt x="868" y="15056"/>
                </a:cubicBezTo>
              </a:path>
              <a:path w="3920" h="1787">
                <a:moveTo>
                  <a:pt x="1240" y="13915"/>
                </a:moveTo>
                <a:cubicBezTo>
                  <a:pt x="1240" y="14027"/>
                  <a:pt x="1255" y="14130"/>
                  <a:pt x="1265" y="14238"/>
                </a:cubicBezTo>
                <a:cubicBezTo>
                  <a:pt x="1287" y="14473"/>
                  <a:pt x="1265" y="14720"/>
                  <a:pt x="1265" y="14957"/>
                </a:cubicBezTo>
              </a:path>
              <a:path w="3920" h="1787">
                <a:moveTo>
                  <a:pt x="943" y="14362"/>
                </a:moveTo>
                <a:cubicBezTo>
                  <a:pt x="1003" y="14397"/>
                  <a:pt x="1060" y="14410"/>
                  <a:pt x="1116" y="14436"/>
                </a:cubicBezTo>
                <a:cubicBezTo>
                  <a:pt x="1186" y="14468"/>
                  <a:pt x="1236" y="14494"/>
                  <a:pt x="1315" y="14511"/>
                </a:cubicBezTo>
                <a:cubicBezTo>
                  <a:pt x="1422" y="14533"/>
                  <a:pt x="1464" y="14543"/>
                  <a:pt x="1414" y="14635"/>
                </a:cubicBezTo>
                <a:cubicBezTo>
                  <a:pt x="1370" y="14716"/>
                  <a:pt x="1389" y="14784"/>
                  <a:pt x="1439" y="14858"/>
                </a:cubicBezTo>
                <a:cubicBezTo>
                  <a:pt x="1476" y="14913"/>
                  <a:pt x="1541" y="14969"/>
                  <a:pt x="1612" y="14957"/>
                </a:cubicBezTo>
                <a:cubicBezTo>
                  <a:pt x="1701" y="14941"/>
                  <a:pt x="1707" y="14891"/>
                  <a:pt x="1712" y="14808"/>
                </a:cubicBezTo>
                <a:cubicBezTo>
                  <a:pt x="1716" y="14735"/>
                  <a:pt x="1669" y="14674"/>
                  <a:pt x="1637" y="14610"/>
                </a:cubicBezTo>
                <a:cubicBezTo>
                  <a:pt x="1598" y="14533"/>
                  <a:pt x="1577" y="14549"/>
                  <a:pt x="1513" y="14511"/>
                </a:cubicBezTo>
                <a:cubicBezTo>
                  <a:pt x="1490" y="14488"/>
                  <a:pt x="1486" y="14480"/>
                  <a:pt x="1463" y="14486"/>
                </a:cubicBezTo>
              </a:path>
              <a:path w="3920" h="1787">
                <a:moveTo>
                  <a:pt x="1761" y="14759"/>
                </a:moveTo>
                <a:cubicBezTo>
                  <a:pt x="1761" y="14825"/>
                  <a:pt x="1761" y="14842"/>
                  <a:pt x="1761" y="14883"/>
                </a:cubicBezTo>
                <a:cubicBezTo>
                  <a:pt x="1761" y="14776"/>
                  <a:pt x="1742" y="14658"/>
                  <a:pt x="1786" y="14560"/>
                </a:cubicBezTo>
                <a:cubicBezTo>
                  <a:pt x="1811" y="14505"/>
                  <a:pt x="1856" y="14468"/>
                  <a:pt x="1910" y="14461"/>
                </a:cubicBezTo>
                <a:cubicBezTo>
                  <a:pt x="1943" y="14461"/>
                  <a:pt x="1976" y="14461"/>
                  <a:pt x="2009" y="14461"/>
                </a:cubicBezTo>
              </a:path>
              <a:path w="3920" h="1787">
                <a:moveTo>
                  <a:pt x="2059" y="14635"/>
                </a:moveTo>
                <a:cubicBezTo>
                  <a:pt x="2052" y="14720"/>
                  <a:pt x="1999" y="14893"/>
                  <a:pt x="2059" y="14833"/>
                </a:cubicBezTo>
              </a:path>
              <a:path w="3920" h="1787">
                <a:moveTo>
                  <a:pt x="2059" y="14188"/>
                </a:moveTo>
                <a:cubicBezTo>
                  <a:pt x="2081" y="14166"/>
                  <a:pt x="2086" y="14157"/>
                  <a:pt x="2108" y="14163"/>
                </a:cubicBezTo>
              </a:path>
              <a:path w="3920" h="1787">
                <a:moveTo>
                  <a:pt x="2232" y="14312"/>
                </a:moveTo>
                <a:cubicBezTo>
                  <a:pt x="2268" y="14338"/>
                  <a:pt x="2361" y="14424"/>
                  <a:pt x="2406" y="14436"/>
                </a:cubicBezTo>
                <a:cubicBezTo>
                  <a:pt x="2452" y="14448"/>
                  <a:pt x="2532" y="14456"/>
                  <a:pt x="2505" y="14536"/>
                </a:cubicBezTo>
                <a:cubicBezTo>
                  <a:pt x="2491" y="14578"/>
                  <a:pt x="2439" y="14628"/>
                  <a:pt x="2406" y="14660"/>
                </a:cubicBezTo>
                <a:cubicBezTo>
                  <a:pt x="2359" y="14706"/>
                  <a:pt x="2336" y="14717"/>
                  <a:pt x="2332" y="14784"/>
                </a:cubicBezTo>
                <a:cubicBezTo>
                  <a:pt x="2328" y="14858"/>
                  <a:pt x="2330" y="14882"/>
                  <a:pt x="2381" y="14932"/>
                </a:cubicBezTo>
                <a:cubicBezTo>
                  <a:pt x="2443" y="14993"/>
                  <a:pt x="2448" y="14972"/>
                  <a:pt x="2530" y="14957"/>
                </a:cubicBezTo>
              </a:path>
              <a:path w="3920" h="1787">
                <a:moveTo>
                  <a:pt x="2778" y="14436"/>
                </a:moveTo>
                <a:cubicBezTo>
                  <a:pt x="2786" y="14444"/>
                  <a:pt x="2795" y="14453"/>
                  <a:pt x="2803" y="14461"/>
                </a:cubicBezTo>
              </a:path>
              <a:path w="3920" h="1787">
                <a:moveTo>
                  <a:pt x="2778" y="14734"/>
                </a:moveTo>
                <a:cubicBezTo>
                  <a:pt x="2778" y="14742"/>
                  <a:pt x="2778" y="14751"/>
                  <a:pt x="2778" y="14759"/>
                </a:cubicBezTo>
              </a:path>
              <a:path w="3920" h="1787">
                <a:moveTo>
                  <a:pt x="3175" y="14362"/>
                </a:moveTo>
                <a:cubicBezTo>
                  <a:pt x="3199" y="14402"/>
                  <a:pt x="3240" y="14484"/>
                  <a:pt x="3249" y="14536"/>
                </a:cubicBezTo>
                <a:cubicBezTo>
                  <a:pt x="3270" y="14658"/>
                  <a:pt x="3302" y="14741"/>
                  <a:pt x="3349" y="14858"/>
                </a:cubicBezTo>
                <a:cubicBezTo>
                  <a:pt x="3387" y="14954"/>
                  <a:pt x="3430" y="15028"/>
                  <a:pt x="3497" y="15106"/>
                </a:cubicBezTo>
              </a:path>
              <a:path w="3920" h="1787">
                <a:moveTo>
                  <a:pt x="3522" y="14312"/>
                </a:moveTo>
                <a:cubicBezTo>
                  <a:pt x="3489" y="14403"/>
                  <a:pt x="3450" y="14492"/>
                  <a:pt x="3423" y="14585"/>
                </a:cubicBezTo>
                <a:cubicBezTo>
                  <a:pt x="3381" y="14732"/>
                  <a:pt x="3354" y="14882"/>
                  <a:pt x="3324" y="15032"/>
                </a:cubicBezTo>
                <a:cubicBezTo>
                  <a:pt x="3291" y="15194"/>
                  <a:pt x="3278" y="15363"/>
                  <a:pt x="3274" y="15528"/>
                </a:cubicBezTo>
                <a:cubicBezTo>
                  <a:pt x="3274" y="15619"/>
                  <a:pt x="3274" y="15643"/>
                  <a:pt x="3274" y="15701"/>
                </a:cubicBezTo>
              </a:path>
              <a:path w="3920" h="1787">
                <a:moveTo>
                  <a:pt x="3671" y="14461"/>
                </a:moveTo>
                <a:cubicBezTo>
                  <a:pt x="3759" y="14471"/>
                  <a:pt x="3837" y="14501"/>
                  <a:pt x="3919" y="14536"/>
                </a:cubicBezTo>
                <a:cubicBezTo>
                  <a:pt x="3936" y="14544"/>
                  <a:pt x="3952" y="14552"/>
                  <a:pt x="3969" y="14560"/>
                </a:cubicBezTo>
              </a:path>
              <a:path w="3920" h="1787">
                <a:moveTo>
                  <a:pt x="3721" y="14709"/>
                </a:moveTo>
                <a:cubicBezTo>
                  <a:pt x="3809" y="14725"/>
                  <a:pt x="3860" y="14734"/>
                  <a:pt x="3944" y="14734"/>
                </a:cubicBezTo>
              </a:path>
              <a:path w="3920" h="1787">
                <a:moveTo>
                  <a:pt x="4266" y="14263"/>
                </a:moveTo>
                <a:cubicBezTo>
                  <a:pt x="4332" y="14248"/>
                  <a:pt x="4411" y="14250"/>
                  <a:pt x="4465" y="14312"/>
                </a:cubicBezTo>
                <a:cubicBezTo>
                  <a:pt x="4506" y="14360"/>
                  <a:pt x="4502" y="14500"/>
                  <a:pt x="4490" y="14560"/>
                </a:cubicBezTo>
                <a:cubicBezTo>
                  <a:pt x="4468" y="14673"/>
                  <a:pt x="4393" y="14762"/>
                  <a:pt x="4316" y="14833"/>
                </a:cubicBezTo>
                <a:cubicBezTo>
                  <a:pt x="4270" y="14876"/>
                  <a:pt x="4199" y="14916"/>
                  <a:pt x="4142" y="14858"/>
                </a:cubicBezTo>
                <a:cubicBezTo>
                  <a:pt x="4115" y="14831"/>
                  <a:pt x="4101" y="14706"/>
                  <a:pt x="4167" y="14709"/>
                </a:cubicBezTo>
                <a:cubicBezTo>
                  <a:pt x="4246" y="14713"/>
                  <a:pt x="4365" y="14804"/>
                  <a:pt x="4415" y="14858"/>
                </a:cubicBezTo>
                <a:cubicBezTo>
                  <a:pt x="4492" y="14942"/>
                  <a:pt x="4571" y="15033"/>
                  <a:pt x="4663" y="15106"/>
                </a:cubicBezTo>
                <a:cubicBezTo>
                  <a:pt x="4728" y="15149"/>
                  <a:pt x="4742" y="15161"/>
                  <a:pt x="4787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Ink 41"/>
          <p:cNvSpPr/>
          <p:nvPr/>
        </p:nvSpPr>
        <p:spPr>
          <a:xfrm>
            <a:off x="2054160" y="3929040"/>
            <a:ext cx="795240" cy="231840"/>
          </a:xfrm>
          <a:custGeom>
            <a:avLst/>
            <a:gdLst/>
            <a:ahLst/>
            <a:rect l="l" t="t" r="r" b="b"/>
            <a:pathLst>
              <a:path w="2209" h="646">
                <a:moveTo>
                  <a:pt x="5705" y="11038"/>
                </a:moveTo>
                <a:cubicBezTo>
                  <a:pt x="5770" y="11175"/>
                  <a:pt x="5817" y="11237"/>
                  <a:pt x="5928" y="11336"/>
                </a:cubicBezTo>
                <a:cubicBezTo>
                  <a:pt x="5999" y="11400"/>
                  <a:pt x="6067" y="11443"/>
                  <a:pt x="6152" y="11485"/>
                </a:cubicBezTo>
              </a:path>
              <a:path w="2209" h="646">
                <a:moveTo>
                  <a:pt x="5928" y="11013"/>
                </a:moveTo>
                <a:cubicBezTo>
                  <a:pt x="5859" y="11120"/>
                  <a:pt x="5825" y="11181"/>
                  <a:pt x="5779" y="11286"/>
                </a:cubicBezTo>
                <a:cubicBezTo>
                  <a:pt x="5752" y="11347"/>
                  <a:pt x="5701" y="11399"/>
                  <a:pt x="5755" y="11435"/>
                </a:cubicBezTo>
              </a:path>
              <a:path w="2209" h="646">
                <a:moveTo>
                  <a:pt x="6176" y="11038"/>
                </a:moveTo>
                <a:cubicBezTo>
                  <a:pt x="6283" y="11060"/>
                  <a:pt x="6307" y="11068"/>
                  <a:pt x="6375" y="11063"/>
                </a:cubicBezTo>
              </a:path>
              <a:path w="2209" h="646">
                <a:moveTo>
                  <a:pt x="6176" y="11112"/>
                </a:moveTo>
                <a:cubicBezTo>
                  <a:pt x="6291" y="11151"/>
                  <a:pt x="6305" y="11167"/>
                  <a:pt x="6375" y="11162"/>
                </a:cubicBezTo>
              </a:path>
              <a:path w="2209" h="646">
                <a:moveTo>
                  <a:pt x="6672" y="11137"/>
                </a:moveTo>
                <a:cubicBezTo>
                  <a:pt x="6730" y="11137"/>
                  <a:pt x="6739" y="11137"/>
                  <a:pt x="6772" y="11137"/>
                </a:cubicBezTo>
              </a:path>
              <a:path w="2209" h="646">
                <a:moveTo>
                  <a:pt x="6871" y="10964"/>
                </a:moveTo>
                <a:cubicBezTo>
                  <a:pt x="6972" y="10964"/>
                  <a:pt x="7038" y="10953"/>
                  <a:pt x="7119" y="11013"/>
                </a:cubicBezTo>
                <a:cubicBezTo>
                  <a:pt x="7196" y="11071"/>
                  <a:pt x="7148" y="11139"/>
                  <a:pt x="7144" y="11212"/>
                </a:cubicBezTo>
                <a:cubicBezTo>
                  <a:pt x="7141" y="11273"/>
                  <a:pt x="7111" y="11314"/>
                  <a:pt x="7069" y="11361"/>
                </a:cubicBezTo>
                <a:cubicBezTo>
                  <a:pt x="7023" y="11412"/>
                  <a:pt x="6990" y="11430"/>
                  <a:pt x="6921" y="11435"/>
                </a:cubicBezTo>
                <a:cubicBezTo>
                  <a:pt x="6875" y="11439"/>
                  <a:pt x="6830" y="11382"/>
                  <a:pt x="6846" y="11336"/>
                </a:cubicBezTo>
                <a:cubicBezTo>
                  <a:pt x="6868" y="11272"/>
                  <a:pt x="6925" y="11267"/>
                  <a:pt x="6970" y="11286"/>
                </a:cubicBezTo>
                <a:cubicBezTo>
                  <a:pt x="7040" y="11315"/>
                  <a:pt x="7047" y="11358"/>
                  <a:pt x="7094" y="11410"/>
                </a:cubicBezTo>
                <a:cubicBezTo>
                  <a:pt x="7125" y="11445"/>
                  <a:pt x="7160" y="11476"/>
                  <a:pt x="7193" y="11509"/>
                </a:cubicBezTo>
              </a:path>
              <a:path w="2209" h="646">
                <a:moveTo>
                  <a:pt x="7392" y="11385"/>
                </a:moveTo>
                <a:cubicBezTo>
                  <a:pt x="7400" y="11402"/>
                  <a:pt x="7409" y="11418"/>
                  <a:pt x="7417" y="11435"/>
                </a:cubicBezTo>
              </a:path>
              <a:path w="2209" h="646">
                <a:moveTo>
                  <a:pt x="7665" y="10939"/>
                </a:moveTo>
                <a:cubicBezTo>
                  <a:pt x="7764" y="10947"/>
                  <a:pt x="7798" y="10973"/>
                  <a:pt x="7888" y="10939"/>
                </a:cubicBezTo>
              </a:path>
              <a:path w="2209" h="646">
                <a:moveTo>
                  <a:pt x="7615" y="10914"/>
                </a:moveTo>
                <a:cubicBezTo>
                  <a:pt x="7572" y="11035"/>
                  <a:pt x="7532" y="11054"/>
                  <a:pt x="7615" y="11137"/>
                </a:cubicBezTo>
                <a:cubicBezTo>
                  <a:pt x="7670" y="11191"/>
                  <a:pt x="7730" y="11182"/>
                  <a:pt x="7789" y="11212"/>
                </a:cubicBezTo>
                <a:cubicBezTo>
                  <a:pt x="7871" y="11254"/>
                  <a:pt x="7909" y="11263"/>
                  <a:pt x="7913" y="11361"/>
                </a:cubicBezTo>
                <a:cubicBezTo>
                  <a:pt x="7916" y="11436"/>
                  <a:pt x="7896" y="11534"/>
                  <a:pt x="7813" y="11559"/>
                </a:cubicBezTo>
                <a:cubicBezTo>
                  <a:pt x="7767" y="11573"/>
                  <a:pt x="7700" y="11528"/>
                  <a:pt x="7665" y="11509"/>
                </a:cubicBezTo>
                <a:cubicBezTo>
                  <a:pt x="7648" y="11501"/>
                  <a:pt x="7632" y="11493"/>
                  <a:pt x="7615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Ink 42"/>
          <p:cNvSpPr/>
          <p:nvPr/>
        </p:nvSpPr>
        <p:spPr>
          <a:xfrm>
            <a:off x="6276960" y="2919240"/>
            <a:ext cx="1440" cy="1350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7438" y="8111"/>
                </a:moveTo>
                <a:cubicBezTo>
                  <a:pt x="17438" y="8235"/>
                  <a:pt x="17438" y="8359"/>
                  <a:pt x="17438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Ink 43"/>
          <p:cNvSpPr/>
          <p:nvPr/>
        </p:nvSpPr>
        <p:spPr>
          <a:xfrm>
            <a:off x="5991120" y="29383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6669" y="8161"/>
                </a:moveTo>
                <a:cubicBezTo>
                  <a:pt x="16669" y="8233"/>
                  <a:pt x="16648" y="8293"/>
                  <a:pt x="16644" y="8359"/>
                </a:cubicBezTo>
                <a:cubicBezTo>
                  <a:pt x="16640" y="8412"/>
                  <a:pt x="16660" y="8457"/>
                  <a:pt x="16669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Ink 44"/>
          <p:cNvSpPr/>
          <p:nvPr/>
        </p:nvSpPr>
        <p:spPr>
          <a:xfrm>
            <a:off x="5796000" y="2963880"/>
            <a:ext cx="88920" cy="6336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16197" y="8285"/>
                </a:moveTo>
                <a:cubicBezTo>
                  <a:pt x="16286" y="8338"/>
                  <a:pt x="16292" y="8260"/>
                  <a:pt x="16222" y="8235"/>
                </a:cubicBezTo>
                <a:cubicBezTo>
                  <a:pt x="16153" y="8210"/>
                  <a:pt x="16109" y="8309"/>
                  <a:pt x="16173" y="8334"/>
                </a:cubicBezTo>
                <a:cubicBezTo>
                  <a:pt x="16197" y="8343"/>
                  <a:pt x="16340" y="8313"/>
                  <a:pt x="16272" y="8260"/>
                </a:cubicBezTo>
                <a:cubicBezTo>
                  <a:pt x="16238" y="8234"/>
                  <a:pt x="16105" y="8261"/>
                  <a:pt x="16148" y="8334"/>
                </a:cubicBezTo>
                <a:cubicBezTo>
                  <a:pt x="16157" y="8349"/>
                  <a:pt x="16327" y="8367"/>
                  <a:pt x="16297" y="8285"/>
                </a:cubicBezTo>
                <a:cubicBezTo>
                  <a:pt x="16268" y="8205"/>
                  <a:pt x="16189" y="8254"/>
                  <a:pt x="16148" y="8285"/>
                </a:cubicBezTo>
                <a:cubicBezTo>
                  <a:pt x="16140" y="8293"/>
                  <a:pt x="16131" y="8302"/>
                  <a:pt x="16123" y="8310"/>
                </a:cubicBezTo>
                <a:cubicBezTo>
                  <a:pt x="16114" y="8323"/>
                  <a:pt x="16125" y="8385"/>
                  <a:pt x="16173" y="8409"/>
                </a:cubicBezTo>
                <a:cubicBezTo>
                  <a:pt x="16204" y="8425"/>
                  <a:pt x="16316" y="8348"/>
                  <a:pt x="16321" y="8334"/>
                </a:cubicBezTo>
                <a:cubicBezTo>
                  <a:pt x="16367" y="8206"/>
                  <a:pt x="16233" y="8246"/>
                  <a:pt x="16173" y="8285"/>
                </a:cubicBezTo>
                <a:cubicBezTo>
                  <a:pt x="16113" y="8324"/>
                  <a:pt x="16135" y="8397"/>
                  <a:pt x="16197" y="8409"/>
                </a:cubicBezTo>
                <a:cubicBezTo>
                  <a:pt x="16238" y="8417"/>
                  <a:pt x="16365" y="8398"/>
                  <a:pt x="16346" y="8334"/>
                </a:cubicBezTo>
                <a:cubicBezTo>
                  <a:pt x="16319" y="8241"/>
                  <a:pt x="16245" y="8207"/>
                  <a:pt x="16173" y="8260"/>
                </a:cubicBezTo>
                <a:cubicBezTo>
                  <a:pt x="16118" y="8301"/>
                  <a:pt x="16120" y="8310"/>
                  <a:pt x="16148" y="8359"/>
                </a:cubicBezTo>
                <a:cubicBezTo>
                  <a:pt x="16187" y="8427"/>
                  <a:pt x="16197" y="8409"/>
                  <a:pt x="16272" y="8409"/>
                </a:cubicBezTo>
                <a:cubicBezTo>
                  <a:pt x="16324" y="8383"/>
                  <a:pt x="16337" y="8345"/>
                  <a:pt x="16346" y="8285"/>
                </a:cubicBezTo>
                <a:cubicBezTo>
                  <a:pt x="16292" y="8242"/>
                  <a:pt x="16256" y="8212"/>
                  <a:pt x="16197" y="8260"/>
                </a:cubicBezTo>
                <a:cubicBezTo>
                  <a:pt x="16154" y="8295"/>
                  <a:pt x="16133" y="8377"/>
                  <a:pt x="16197" y="8409"/>
                </a:cubicBezTo>
                <a:cubicBezTo>
                  <a:pt x="16245" y="8433"/>
                  <a:pt x="16332" y="8392"/>
                  <a:pt x="16321" y="8334"/>
                </a:cubicBezTo>
                <a:cubicBezTo>
                  <a:pt x="16304" y="8247"/>
                  <a:pt x="16236" y="8246"/>
                  <a:pt x="16173" y="8285"/>
                </a:cubicBezTo>
                <a:cubicBezTo>
                  <a:pt x="16123" y="8316"/>
                  <a:pt x="16146" y="8398"/>
                  <a:pt x="16197" y="8409"/>
                </a:cubicBezTo>
                <a:cubicBezTo>
                  <a:pt x="16276" y="8426"/>
                  <a:pt x="16280" y="8387"/>
                  <a:pt x="16321" y="8334"/>
                </a:cubicBezTo>
                <a:cubicBezTo>
                  <a:pt x="16269" y="8269"/>
                  <a:pt x="16274" y="8243"/>
                  <a:pt x="16197" y="8285"/>
                </a:cubicBezTo>
                <a:cubicBezTo>
                  <a:pt x="16126" y="8323"/>
                  <a:pt x="16164" y="8344"/>
                  <a:pt x="16222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Ink 45"/>
          <p:cNvSpPr/>
          <p:nvPr/>
        </p:nvSpPr>
        <p:spPr>
          <a:xfrm>
            <a:off x="5688000" y="2946240"/>
            <a:ext cx="1440" cy="90720"/>
          </a:xfrm>
          <a:custGeom>
            <a:avLst/>
            <a:gdLst/>
            <a:ahLst/>
            <a:rect l="l" t="t" r="r" b="b"/>
            <a:pathLst>
              <a:path w="1" h="249">
                <a:moveTo>
                  <a:pt x="15801" y="8186"/>
                </a:moveTo>
                <a:cubicBezTo>
                  <a:pt x="15801" y="8269"/>
                  <a:pt x="15801" y="8351"/>
                  <a:pt x="15801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Ink 46"/>
          <p:cNvSpPr/>
          <p:nvPr/>
        </p:nvSpPr>
        <p:spPr>
          <a:xfrm>
            <a:off x="5322960" y="2894040"/>
            <a:ext cx="7920" cy="115920"/>
          </a:xfrm>
          <a:custGeom>
            <a:avLst/>
            <a:gdLst/>
            <a:ahLst/>
            <a:rect l="l" t="t" r="r" b="b"/>
            <a:pathLst>
              <a:path w="25" h="323">
                <a:moveTo>
                  <a:pt x="14808" y="8037"/>
                </a:moveTo>
                <a:cubicBezTo>
                  <a:pt x="14808" y="8144"/>
                  <a:pt x="14808" y="8242"/>
                  <a:pt x="14784" y="8334"/>
                </a:cubicBezTo>
                <a:cubicBezTo>
                  <a:pt x="14784" y="8342"/>
                  <a:pt x="14784" y="8351"/>
                  <a:pt x="14784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Ink 47"/>
          <p:cNvSpPr/>
          <p:nvPr/>
        </p:nvSpPr>
        <p:spPr>
          <a:xfrm>
            <a:off x="5081760" y="2938320"/>
            <a:ext cx="1440" cy="61920"/>
          </a:xfrm>
          <a:custGeom>
            <a:avLst/>
            <a:gdLst/>
            <a:ahLst/>
            <a:rect l="l" t="t" r="r" b="b"/>
            <a:pathLst>
              <a:path w="1" h="174">
                <a:moveTo>
                  <a:pt x="14114" y="8161"/>
                </a:moveTo>
                <a:cubicBezTo>
                  <a:pt x="14114" y="8219"/>
                  <a:pt x="14114" y="8276"/>
                  <a:pt x="14114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Ink 48"/>
          <p:cNvSpPr/>
          <p:nvPr/>
        </p:nvSpPr>
        <p:spPr>
          <a:xfrm>
            <a:off x="6180120" y="1562040"/>
            <a:ext cx="160200" cy="2482920"/>
          </a:xfrm>
          <a:custGeom>
            <a:avLst/>
            <a:gdLst/>
            <a:ahLst/>
            <a:rect l="l" t="t" r="r" b="b"/>
            <a:pathLst>
              <a:path w="447" h="6897">
                <a:moveTo>
                  <a:pt x="17611" y="4341"/>
                </a:moveTo>
                <a:cubicBezTo>
                  <a:pt x="17602" y="4404"/>
                  <a:pt x="17587" y="4444"/>
                  <a:pt x="17587" y="4514"/>
                </a:cubicBezTo>
                <a:cubicBezTo>
                  <a:pt x="17587" y="4522"/>
                  <a:pt x="17587" y="4531"/>
                  <a:pt x="17587" y="4539"/>
                </a:cubicBezTo>
              </a:path>
              <a:path w="447" h="6897">
                <a:moveTo>
                  <a:pt x="17512" y="4812"/>
                </a:moveTo>
                <a:cubicBezTo>
                  <a:pt x="17524" y="4893"/>
                  <a:pt x="17526" y="4903"/>
                  <a:pt x="17512" y="4986"/>
                </a:cubicBezTo>
                <a:cubicBezTo>
                  <a:pt x="17512" y="5002"/>
                  <a:pt x="17512" y="5019"/>
                  <a:pt x="17512" y="5035"/>
                </a:cubicBezTo>
              </a:path>
              <a:path w="447" h="6897">
                <a:moveTo>
                  <a:pt x="17487" y="5283"/>
                </a:moveTo>
                <a:cubicBezTo>
                  <a:pt x="17487" y="5349"/>
                  <a:pt x="17487" y="5416"/>
                  <a:pt x="17487" y="5482"/>
                </a:cubicBezTo>
              </a:path>
              <a:path w="447" h="6897">
                <a:moveTo>
                  <a:pt x="17487" y="5680"/>
                </a:moveTo>
                <a:cubicBezTo>
                  <a:pt x="17487" y="5755"/>
                  <a:pt x="17487" y="5829"/>
                  <a:pt x="17487" y="5904"/>
                </a:cubicBezTo>
              </a:path>
              <a:path w="447" h="6897">
                <a:moveTo>
                  <a:pt x="17487" y="6102"/>
                </a:moveTo>
                <a:cubicBezTo>
                  <a:pt x="17487" y="6169"/>
                  <a:pt x="17500" y="6214"/>
                  <a:pt x="17512" y="6276"/>
                </a:cubicBezTo>
              </a:path>
              <a:path w="447" h="6897">
                <a:moveTo>
                  <a:pt x="17487" y="6499"/>
                </a:moveTo>
                <a:cubicBezTo>
                  <a:pt x="17471" y="6587"/>
                  <a:pt x="17462" y="6638"/>
                  <a:pt x="17462" y="6722"/>
                </a:cubicBezTo>
              </a:path>
              <a:path w="447" h="6897">
                <a:moveTo>
                  <a:pt x="17462" y="7020"/>
                </a:moveTo>
                <a:cubicBezTo>
                  <a:pt x="17462" y="7094"/>
                  <a:pt x="17462" y="7103"/>
                  <a:pt x="17462" y="7144"/>
                </a:cubicBezTo>
              </a:path>
              <a:path w="447" h="6897">
                <a:moveTo>
                  <a:pt x="17462" y="7293"/>
                </a:moveTo>
                <a:cubicBezTo>
                  <a:pt x="17462" y="7350"/>
                  <a:pt x="17464" y="7371"/>
                  <a:pt x="17438" y="7417"/>
                </a:cubicBezTo>
                <a:cubicBezTo>
                  <a:pt x="17460" y="7439"/>
                  <a:pt x="17468" y="7444"/>
                  <a:pt x="17462" y="7466"/>
                </a:cubicBezTo>
              </a:path>
              <a:path w="447" h="6897">
                <a:moveTo>
                  <a:pt x="17438" y="7615"/>
                </a:moveTo>
                <a:cubicBezTo>
                  <a:pt x="17414" y="7663"/>
                  <a:pt x="17406" y="7677"/>
                  <a:pt x="17413" y="7714"/>
                </a:cubicBezTo>
              </a:path>
              <a:path w="447" h="6897">
                <a:moveTo>
                  <a:pt x="17413" y="7813"/>
                </a:moveTo>
                <a:cubicBezTo>
                  <a:pt x="17413" y="7863"/>
                  <a:pt x="17413" y="7880"/>
                  <a:pt x="17413" y="7913"/>
                </a:cubicBezTo>
              </a:path>
              <a:path w="447" h="6897">
                <a:moveTo>
                  <a:pt x="17413" y="8037"/>
                </a:moveTo>
                <a:cubicBezTo>
                  <a:pt x="17413" y="8095"/>
                  <a:pt x="17411" y="8115"/>
                  <a:pt x="17438" y="8161"/>
                </a:cubicBezTo>
              </a:path>
              <a:path w="447" h="6897">
                <a:moveTo>
                  <a:pt x="17388" y="8334"/>
                </a:moveTo>
                <a:cubicBezTo>
                  <a:pt x="17409" y="8417"/>
                  <a:pt x="17417" y="8432"/>
                  <a:pt x="17413" y="8483"/>
                </a:cubicBezTo>
              </a:path>
              <a:path w="447" h="6897">
                <a:moveTo>
                  <a:pt x="17413" y="8706"/>
                </a:moveTo>
                <a:cubicBezTo>
                  <a:pt x="17413" y="8797"/>
                  <a:pt x="17413" y="8822"/>
                  <a:pt x="17413" y="8880"/>
                </a:cubicBezTo>
              </a:path>
              <a:path w="447" h="6897">
                <a:moveTo>
                  <a:pt x="17388" y="9153"/>
                </a:moveTo>
                <a:cubicBezTo>
                  <a:pt x="17362" y="9232"/>
                  <a:pt x="17338" y="9294"/>
                  <a:pt x="17338" y="9376"/>
                </a:cubicBezTo>
              </a:path>
              <a:path w="447" h="6897">
                <a:moveTo>
                  <a:pt x="17314" y="9674"/>
                </a:moveTo>
                <a:cubicBezTo>
                  <a:pt x="17293" y="9817"/>
                  <a:pt x="17280" y="9909"/>
                  <a:pt x="17314" y="10046"/>
                </a:cubicBezTo>
              </a:path>
              <a:path w="447" h="6897">
                <a:moveTo>
                  <a:pt x="17314" y="10344"/>
                </a:moveTo>
                <a:cubicBezTo>
                  <a:pt x="17296" y="10456"/>
                  <a:pt x="17289" y="10531"/>
                  <a:pt x="17289" y="10641"/>
                </a:cubicBezTo>
              </a:path>
              <a:path w="447" h="6897">
                <a:moveTo>
                  <a:pt x="17239" y="10988"/>
                </a:moveTo>
                <a:cubicBezTo>
                  <a:pt x="17212" y="11038"/>
                  <a:pt x="17151" y="11126"/>
                  <a:pt x="17165" y="11187"/>
                </a:cubicBezTo>
                <a:cubicBezTo>
                  <a:pt x="17173" y="11204"/>
                  <a:pt x="17182" y="11220"/>
                  <a:pt x="17190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Ink 49"/>
          <p:cNvSpPr/>
          <p:nvPr/>
        </p:nvSpPr>
        <p:spPr>
          <a:xfrm>
            <a:off x="6081840" y="4197240"/>
            <a:ext cx="106200" cy="1303560"/>
          </a:xfrm>
          <a:custGeom>
            <a:avLst/>
            <a:gdLst/>
            <a:ahLst/>
            <a:rect l="l" t="t" r="r" b="b"/>
            <a:pathLst>
              <a:path w="299" h="3623">
                <a:moveTo>
                  <a:pt x="17190" y="11658"/>
                </a:moveTo>
                <a:cubicBezTo>
                  <a:pt x="17172" y="11750"/>
                  <a:pt x="17142" y="11827"/>
                  <a:pt x="17190" y="11906"/>
                </a:cubicBezTo>
              </a:path>
              <a:path w="299" h="3623">
                <a:moveTo>
                  <a:pt x="17140" y="12278"/>
                </a:moveTo>
                <a:cubicBezTo>
                  <a:pt x="17126" y="12475"/>
                  <a:pt x="17140" y="12477"/>
                  <a:pt x="17140" y="12626"/>
                </a:cubicBezTo>
              </a:path>
              <a:path w="299" h="3623">
                <a:moveTo>
                  <a:pt x="17140" y="12898"/>
                </a:moveTo>
                <a:cubicBezTo>
                  <a:pt x="17124" y="13006"/>
                  <a:pt x="17115" y="13090"/>
                  <a:pt x="17115" y="13196"/>
                </a:cubicBezTo>
                <a:cubicBezTo>
                  <a:pt x="17115" y="13273"/>
                  <a:pt x="17140" y="13340"/>
                  <a:pt x="17140" y="13419"/>
                </a:cubicBezTo>
                <a:cubicBezTo>
                  <a:pt x="17140" y="13499"/>
                  <a:pt x="17119" y="13565"/>
                  <a:pt x="17115" y="13643"/>
                </a:cubicBezTo>
                <a:cubicBezTo>
                  <a:pt x="17110" y="13728"/>
                  <a:pt x="17090" y="13801"/>
                  <a:pt x="17090" y="13891"/>
                </a:cubicBezTo>
              </a:path>
              <a:path w="299" h="3623">
                <a:moveTo>
                  <a:pt x="17016" y="14139"/>
                </a:moveTo>
                <a:cubicBezTo>
                  <a:pt x="17000" y="14225"/>
                  <a:pt x="17001" y="14212"/>
                  <a:pt x="17016" y="14288"/>
                </a:cubicBezTo>
              </a:path>
              <a:path w="299" h="3623">
                <a:moveTo>
                  <a:pt x="17016" y="14536"/>
                </a:moveTo>
                <a:cubicBezTo>
                  <a:pt x="16990" y="14605"/>
                  <a:pt x="16970" y="14649"/>
                  <a:pt x="17041" y="14684"/>
                </a:cubicBezTo>
              </a:path>
              <a:path w="299" h="3623">
                <a:moveTo>
                  <a:pt x="17041" y="14883"/>
                </a:moveTo>
                <a:cubicBezTo>
                  <a:pt x="16933" y="15073"/>
                  <a:pt x="16961" y="15063"/>
                  <a:pt x="16917" y="15230"/>
                </a:cubicBezTo>
                <a:cubicBezTo>
                  <a:pt x="16909" y="15247"/>
                  <a:pt x="16900" y="15263"/>
                  <a:pt x="16892" y="152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Lesson 2.7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1dfaf"/>
                </a:solidFill>
                <a:latin typeface="Arial"/>
              </a:rPr>
              <a:t>Slant Asymptotes</a:t>
            </a:r>
            <a:endParaRPr b="0" lang="en-US" sz="57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Verdana"/>
              </a:rPr>
              <a:t>Imaginary diagonal lines in a rational function’s graph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Slant asymptotes only exist if the degree of the numerator is exactly </a:t>
            </a:r>
            <a:r>
              <a:rPr b="0" lang="en-US" sz="4000" spc="-1" strike="noStrike" u="sng">
                <a:solidFill>
                  <a:srgbClr val="e1dfaf"/>
                </a:solidFill>
                <a:uFillTx/>
                <a:latin typeface="Arial"/>
              </a:rPr>
              <a:t>one</a:t>
            </a: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 more than the degree of the denominator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To find the slant asymptote, divide the denominator into the numerator; the quotient is the equation (ignore any remainder)</a:t>
            </a:r>
            <a:br>
              <a:rPr sz="4000"/>
            </a:br>
            <a:r>
              <a:rPr b="0" lang="en-US" sz="4000" spc="-1" strike="noStrike">
                <a:solidFill>
                  <a:srgbClr val="e1dfaf"/>
                </a:solidFill>
                <a:latin typeface="Arial"/>
              </a:rPr>
              <a:t>Make “y =“ to the quotient</a:t>
            </a:r>
            <a:endParaRPr b="0" lang="en-US" sz="40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Find the slant asymptote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x – 2)/(x –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x)/(x +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(x) =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5)/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4"/>
          <p:cNvSpPr/>
          <p:nvPr/>
        </p:nvSpPr>
        <p:spPr>
          <a:xfrm>
            <a:off x="438120" y="2205000"/>
            <a:ext cx="411120" cy="1224000"/>
          </a:xfrm>
          <a:custGeom>
            <a:avLst/>
            <a:gdLst/>
            <a:ahLst/>
            <a:rect l="l" t="t" r="r" b="b"/>
            <a:pathLst>
              <a:path w="1142" h="3399">
                <a:moveTo>
                  <a:pt x="1637" y="6127"/>
                </a:moveTo>
                <a:cubicBezTo>
                  <a:pt x="1581" y="6198"/>
                  <a:pt x="1531" y="6270"/>
                  <a:pt x="1488" y="6350"/>
                </a:cubicBezTo>
                <a:cubicBezTo>
                  <a:pt x="1435" y="6447"/>
                  <a:pt x="1403" y="6553"/>
                  <a:pt x="1364" y="6648"/>
                </a:cubicBezTo>
                <a:cubicBezTo>
                  <a:pt x="1332" y="6726"/>
                  <a:pt x="1313" y="6792"/>
                  <a:pt x="1290" y="6871"/>
                </a:cubicBezTo>
                <a:cubicBezTo>
                  <a:pt x="1266" y="6954"/>
                  <a:pt x="1250" y="7034"/>
                  <a:pt x="1240" y="7119"/>
                </a:cubicBezTo>
                <a:cubicBezTo>
                  <a:pt x="1229" y="7213"/>
                  <a:pt x="1218" y="7297"/>
                  <a:pt x="1215" y="7392"/>
                </a:cubicBezTo>
                <a:cubicBezTo>
                  <a:pt x="1211" y="7497"/>
                  <a:pt x="1237" y="7587"/>
                  <a:pt x="1240" y="7689"/>
                </a:cubicBezTo>
                <a:cubicBezTo>
                  <a:pt x="1244" y="7820"/>
                  <a:pt x="1276" y="7929"/>
                  <a:pt x="1290" y="8062"/>
                </a:cubicBezTo>
                <a:cubicBezTo>
                  <a:pt x="1303" y="8186"/>
                  <a:pt x="1340" y="8248"/>
                  <a:pt x="1389" y="8359"/>
                </a:cubicBezTo>
                <a:cubicBezTo>
                  <a:pt x="1430" y="8453"/>
                  <a:pt x="1478" y="8570"/>
                  <a:pt x="1538" y="8657"/>
                </a:cubicBezTo>
                <a:cubicBezTo>
                  <a:pt x="1610" y="8761"/>
                  <a:pt x="1712" y="8852"/>
                  <a:pt x="1786" y="8954"/>
                </a:cubicBezTo>
                <a:cubicBezTo>
                  <a:pt x="1831" y="9017"/>
                  <a:pt x="1867" y="9089"/>
                  <a:pt x="1910" y="9153"/>
                </a:cubicBezTo>
                <a:cubicBezTo>
                  <a:pt x="1946" y="9206"/>
                  <a:pt x="1977" y="9201"/>
                  <a:pt x="2009" y="9227"/>
                </a:cubicBezTo>
              </a:path>
              <a:path w="1142" h="3399">
                <a:moveTo>
                  <a:pt x="1960" y="8855"/>
                </a:moveTo>
                <a:cubicBezTo>
                  <a:pt x="1998" y="8865"/>
                  <a:pt x="2060" y="8923"/>
                  <a:pt x="2084" y="8954"/>
                </a:cubicBezTo>
                <a:cubicBezTo>
                  <a:pt x="2132" y="9014"/>
                  <a:pt x="2163" y="8987"/>
                  <a:pt x="2208" y="9029"/>
                </a:cubicBezTo>
                <a:cubicBezTo>
                  <a:pt x="2247" y="9065"/>
                  <a:pt x="2286" y="9121"/>
                  <a:pt x="2332" y="9153"/>
                </a:cubicBezTo>
                <a:cubicBezTo>
                  <a:pt x="2340" y="9153"/>
                  <a:pt x="2348" y="9153"/>
                  <a:pt x="2356" y="9153"/>
                </a:cubicBezTo>
                <a:cubicBezTo>
                  <a:pt x="2264" y="9153"/>
                  <a:pt x="2268" y="9176"/>
                  <a:pt x="2183" y="9227"/>
                </a:cubicBezTo>
                <a:cubicBezTo>
                  <a:pt x="2112" y="9270"/>
                  <a:pt x="2045" y="9319"/>
                  <a:pt x="1984" y="9376"/>
                </a:cubicBezTo>
                <a:cubicBezTo>
                  <a:pt x="1944" y="9413"/>
                  <a:pt x="1889" y="9486"/>
                  <a:pt x="1836" y="9500"/>
                </a:cubicBezTo>
                <a:cubicBezTo>
                  <a:pt x="1796" y="9511"/>
                  <a:pt x="1773" y="9516"/>
                  <a:pt x="1736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5"/>
          <p:cNvSpPr/>
          <p:nvPr/>
        </p:nvSpPr>
        <p:spPr>
          <a:xfrm>
            <a:off x="1231920" y="3000240"/>
            <a:ext cx="403200" cy="401760"/>
          </a:xfrm>
          <a:custGeom>
            <a:avLst/>
            <a:gdLst/>
            <a:ahLst/>
            <a:rect l="l" t="t" r="r" b="b"/>
            <a:pathLst>
              <a:path w="1117" h="1118">
                <a:moveTo>
                  <a:pt x="3845" y="8558"/>
                </a:moveTo>
                <a:cubicBezTo>
                  <a:pt x="3845" y="8740"/>
                  <a:pt x="3837" y="8937"/>
                  <a:pt x="3870" y="9103"/>
                </a:cubicBezTo>
                <a:cubicBezTo>
                  <a:pt x="3875" y="9125"/>
                  <a:pt x="3870" y="9315"/>
                  <a:pt x="3870" y="9178"/>
                </a:cubicBezTo>
              </a:path>
              <a:path w="1117" h="1118">
                <a:moveTo>
                  <a:pt x="4390" y="8334"/>
                </a:moveTo>
                <a:cubicBezTo>
                  <a:pt x="4496" y="8349"/>
                  <a:pt x="4465" y="8402"/>
                  <a:pt x="4465" y="8508"/>
                </a:cubicBezTo>
                <a:cubicBezTo>
                  <a:pt x="4465" y="8588"/>
                  <a:pt x="4455" y="8701"/>
                  <a:pt x="4440" y="8781"/>
                </a:cubicBezTo>
                <a:cubicBezTo>
                  <a:pt x="4422" y="8877"/>
                  <a:pt x="4436" y="8906"/>
                  <a:pt x="4440" y="9004"/>
                </a:cubicBezTo>
                <a:cubicBezTo>
                  <a:pt x="4443" y="9088"/>
                  <a:pt x="4462" y="9153"/>
                  <a:pt x="4465" y="9227"/>
                </a:cubicBezTo>
                <a:cubicBezTo>
                  <a:pt x="4468" y="9299"/>
                  <a:pt x="4481" y="9334"/>
                  <a:pt x="4514" y="9401"/>
                </a:cubicBezTo>
                <a:cubicBezTo>
                  <a:pt x="4522" y="9418"/>
                  <a:pt x="4531" y="9434"/>
                  <a:pt x="4539" y="9451"/>
                </a:cubicBezTo>
                <a:cubicBezTo>
                  <a:pt x="4481" y="9381"/>
                  <a:pt x="4439" y="9401"/>
                  <a:pt x="4341" y="9401"/>
                </a:cubicBezTo>
                <a:cubicBezTo>
                  <a:pt x="4108" y="9401"/>
                  <a:pt x="3618" y="9494"/>
                  <a:pt x="3423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6"/>
          <p:cNvSpPr/>
          <p:nvPr/>
        </p:nvSpPr>
        <p:spPr>
          <a:xfrm>
            <a:off x="2187720" y="3027240"/>
            <a:ext cx="27000" cy="401760"/>
          </a:xfrm>
          <a:custGeom>
            <a:avLst/>
            <a:gdLst/>
            <a:ahLst/>
            <a:rect l="l" t="t" r="r" b="b"/>
            <a:pathLst>
              <a:path w="76" h="1117">
                <a:moveTo>
                  <a:pt x="6127" y="8409"/>
                </a:moveTo>
                <a:cubicBezTo>
                  <a:pt x="6097" y="8490"/>
                  <a:pt x="6081" y="8610"/>
                  <a:pt x="6077" y="8706"/>
                </a:cubicBezTo>
                <a:cubicBezTo>
                  <a:pt x="6071" y="8859"/>
                  <a:pt x="6085" y="9005"/>
                  <a:pt x="6102" y="9153"/>
                </a:cubicBezTo>
                <a:cubicBezTo>
                  <a:pt x="6114" y="9256"/>
                  <a:pt x="6109" y="9350"/>
                  <a:pt x="6127" y="9451"/>
                </a:cubicBezTo>
                <a:cubicBezTo>
                  <a:pt x="6132" y="9482"/>
                  <a:pt x="6144" y="9495"/>
                  <a:pt x="6152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7"/>
          <p:cNvSpPr/>
          <p:nvPr/>
        </p:nvSpPr>
        <p:spPr>
          <a:xfrm>
            <a:off x="2724120" y="3106800"/>
            <a:ext cx="438120" cy="349200"/>
          </a:xfrm>
          <a:custGeom>
            <a:avLst/>
            <a:gdLst/>
            <a:ahLst/>
            <a:rect l="l" t="t" r="r" b="b"/>
            <a:pathLst>
              <a:path w="1217" h="968">
                <a:moveTo>
                  <a:pt x="7565" y="9004"/>
                </a:moveTo>
                <a:cubicBezTo>
                  <a:pt x="7735" y="9004"/>
                  <a:pt x="7807" y="9046"/>
                  <a:pt x="7987" y="9079"/>
                </a:cubicBezTo>
                <a:cubicBezTo>
                  <a:pt x="8020" y="9079"/>
                  <a:pt x="8053" y="9079"/>
                  <a:pt x="8086" y="9079"/>
                </a:cubicBezTo>
              </a:path>
              <a:path w="1217" h="968">
                <a:moveTo>
                  <a:pt x="8781" y="8632"/>
                </a:moveTo>
                <a:cubicBezTo>
                  <a:pt x="8772" y="8720"/>
                  <a:pt x="8756" y="8784"/>
                  <a:pt x="8756" y="8880"/>
                </a:cubicBezTo>
                <a:cubicBezTo>
                  <a:pt x="8756" y="9089"/>
                  <a:pt x="8749" y="9300"/>
                  <a:pt x="8781" y="9500"/>
                </a:cubicBezTo>
                <a:cubicBezTo>
                  <a:pt x="8781" y="9550"/>
                  <a:pt x="8781" y="9566"/>
                  <a:pt x="8781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8"/>
          <p:cNvSpPr/>
          <p:nvPr/>
        </p:nvSpPr>
        <p:spPr>
          <a:xfrm>
            <a:off x="3652920" y="3089160"/>
            <a:ext cx="677880" cy="393840"/>
          </a:xfrm>
          <a:custGeom>
            <a:avLst/>
            <a:gdLst/>
            <a:ahLst/>
            <a:rect l="l" t="t" r="r" b="b"/>
            <a:pathLst>
              <a:path w="1886" h="1093">
                <a:moveTo>
                  <a:pt x="10145" y="9079"/>
                </a:moveTo>
                <a:cubicBezTo>
                  <a:pt x="10302" y="9079"/>
                  <a:pt x="10459" y="9079"/>
                  <a:pt x="10616" y="9079"/>
                </a:cubicBezTo>
              </a:path>
              <a:path w="1886" h="1093">
                <a:moveTo>
                  <a:pt x="11137" y="8632"/>
                </a:moveTo>
                <a:cubicBezTo>
                  <a:pt x="11303" y="8573"/>
                  <a:pt x="11290" y="8570"/>
                  <a:pt x="11435" y="8632"/>
                </a:cubicBezTo>
                <a:cubicBezTo>
                  <a:pt x="11469" y="8647"/>
                  <a:pt x="11562" y="8676"/>
                  <a:pt x="11559" y="8731"/>
                </a:cubicBezTo>
                <a:cubicBezTo>
                  <a:pt x="11554" y="8824"/>
                  <a:pt x="11520" y="8898"/>
                  <a:pt x="11460" y="8954"/>
                </a:cubicBezTo>
                <a:cubicBezTo>
                  <a:pt x="11389" y="9020"/>
                  <a:pt x="11339" y="9112"/>
                  <a:pt x="11286" y="9178"/>
                </a:cubicBezTo>
                <a:cubicBezTo>
                  <a:pt x="11228" y="9250"/>
                  <a:pt x="11181" y="9324"/>
                  <a:pt x="11137" y="9401"/>
                </a:cubicBezTo>
                <a:cubicBezTo>
                  <a:pt x="11079" y="9504"/>
                  <a:pt x="11127" y="9508"/>
                  <a:pt x="11187" y="9550"/>
                </a:cubicBezTo>
                <a:cubicBezTo>
                  <a:pt x="11285" y="9618"/>
                  <a:pt x="11367" y="9581"/>
                  <a:pt x="11485" y="9624"/>
                </a:cubicBezTo>
                <a:cubicBezTo>
                  <a:pt x="11625" y="9675"/>
                  <a:pt x="11728" y="9674"/>
                  <a:pt x="11881" y="9674"/>
                </a:cubicBezTo>
                <a:cubicBezTo>
                  <a:pt x="11931" y="9674"/>
                  <a:pt x="11980" y="9674"/>
                  <a:pt x="12030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9"/>
          <p:cNvSpPr/>
          <p:nvPr/>
        </p:nvSpPr>
        <p:spPr>
          <a:xfrm>
            <a:off x="5081760" y="2820960"/>
            <a:ext cx="1044360" cy="581040"/>
          </a:xfrm>
          <a:custGeom>
            <a:avLst/>
            <a:gdLst/>
            <a:ahLst/>
            <a:rect l="l" t="t" r="r" b="b"/>
            <a:pathLst>
              <a:path w="2903" h="1614">
                <a:moveTo>
                  <a:pt x="14337" y="8582"/>
                </a:moveTo>
                <a:cubicBezTo>
                  <a:pt x="14315" y="8560"/>
                  <a:pt x="14310" y="8552"/>
                  <a:pt x="14288" y="8558"/>
                </a:cubicBezTo>
                <a:cubicBezTo>
                  <a:pt x="14379" y="8558"/>
                  <a:pt x="14426" y="8517"/>
                  <a:pt x="14511" y="8508"/>
                </a:cubicBezTo>
                <a:cubicBezTo>
                  <a:pt x="14679" y="8490"/>
                  <a:pt x="14843" y="8528"/>
                  <a:pt x="15007" y="8483"/>
                </a:cubicBezTo>
              </a:path>
              <a:path w="2903" h="1614">
                <a:moveTo>
                  <a:pt x="15354" y="8037"/>
                </a:moveTo>
                <a:cubicBezTo>
                  <a:pt x="15387" y="8092"/>
                  <a:pt x="15379" y="8142"/>
                  <a:pt x="15379" y="8210"/>
                </a:cubicBezTo>
                <a:cubicBezTo>
                  <a:pt x="15379" y="8362"/>
                  <a:pt x="15329" y="8680"/>
                  <a:pt x="15354" y="8781"/>
                </a:cubicBezTo>
                <a:cubicBezTo>
                  <a:pt x="15362" y="8789"/>
                  <a:pt x="15371" y="8798"/>
                  <a:pt x="15379" y="8806"/>
                </a:cubicBezTo>
              </a:path>
              <a:path w="2903" h="1614">
                <a:moveTo>
                  <a:pt x="15999" y="7838"/>
                </a:moveTo>
                <a:cubicBezTo>
                  <a:pt x="15999" y="7983"/>
                  <a:pt x="15990" y="8119"/>
                  <a:pt x="15974" y="8260"/>
                </a:cubicBezTo>
                <a:cubicBezTo>
                  <a:pt x="15960" y="8383"/>
                  <a:pt x="15963" y="8511"/>
                  <a:pt x="15949" y="8632"/>
                </a:cubicBezTo>
                <a:cubicBezTo>
                  <a:pt x="15932" y="8779"/>
                  <a:pt x="15941" y="8933"/>
                  <a:pt x="15925" y="9079"/>
                </a:cubicBezTo>
                <a:cubicBezTo>
                  <a:pt x="15917" y="9150"/>
                  <a:pt x="15928" y="9242"/>
                  <a:pt x="15875" y="9302"/>
                </a:cubicBezTo>
                <a:cubicBezTo>
                  <a:pt x="15850" y="9330"/>
                  <a:pt x="15766" y="9333"/>
                  <a:pt x="15726" y="9327"/>
                </a:cubicBezTo>
                <a:cubicBezTo>
                  <a:pt x="15654" y="9317"/>
                  <a:pt x="15609" y="9305"/>
                  <a:pt x="15528" y="9302"/>
                </a:cubicBezTo>
                <a:cubicBezTo>
                  <a:pt x="15327" y="9295"/>
                  <a:pt x="15128" y="9309"/>
                  <a:pt x="14932" y="9327"/>
                </a:cubicBezTo>
                <a:cubicBezTo>
                  <a:pt x="14812" y="9338"/>
                  <a:pt x="14680" y="9352"/>
                  <a:pt x="14560" y="9376"/>
                </a:cubicBezTo>
                <a:cubicBezTo>
                  <a:pt x="14472" y="9394"/>
                  <a:pt x="14399" y="9437"/>
                  <a:pt x="14312" y="9451"/>
                </a:cubicBezTo>
                <a:cubicBezTo>
                  <a:pt x="14250" y="9461"/>
                  <a:pt x="14177" y="9451"/>
                  <a:pt x="14114" y="9451"/>
                </a:cubicBezTo>
              </a:path>
              <a:path w="2903" h="1614">
                <a:moveTo>
                  <a:pt x="16966" y="7838"/>
                </a:moveTo>
                <a:cubicBezTo>
                  <a:pt x="17019" y="7891"/>
                  <a:pt x="17016" y="7911"/>
                  <a:pt x="17016" y="7987"/>
                </a:cubicBezTo>
                <a:cubicBezTo>
                  <a:pt x="17016" y="8083"/>
                  <a:pt x="16995" y="8166"/>
                  <a:pt x="16991" y="8260"/>
                </a:cubicBezTo>
                <a:cubicBezTo>
                  <a:pt x="16986" y="8359"/>
                  <a:pt x="16951" y="8455"/>
                  <a:pt x="16942" y="8558"/>
                </a:cubicBezTo>
                <a:cubicBezTo>
                  <a:pt x="16934" y="8653"/>
                  <a:pt x="16934" y="8761"/>
                  <a:pt x="16917" y="8855"/>
                </a:cubicBezTo>
                <a:cubicBezTo>
                  <a:pt x="16901" y="8941"/>
                  <a:pt x="16892" y="8989"/>
                  <a:pt x="16892" y="9079"/>
                </a:cubicBezTo>
                <a:cubicBezTo>
                  <a:pt x="16892" y="9123"/>
                  <a:pt x="16925" y="9169"/>
                  <a:pt x="16966" y="9178"/>
                </a:cubicBezTo>
                <a:cubicBezTo>
                  <a:pt x="16983" y="9178"/>
                  <a:pt x="16999" y="9178"/>
                  <a:pt x="17016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0"/>
          <p:cNvSpPr/>
          <p:nvPr/>
        </p:nvSpPr>
        <p:spPr>
          <a:xfrm>
            <a:off x="6715080" y="2919240"/>
            <a:ext cx="295200" cy="295560"/>
          </a:xfrm>
          <a:custGeom>
            <a:avLst/>
            <a:gdLst/>
            <a:ahLst/>
            <a:rect l="l" t="t" r="r" b="b"/>
            <a:pathLst>
              <a:path w="820" h="820">
                <a:moveTo>
                  <a:pt x="18653" y="8483"/>
                </a:moveTo>
                <a:cubicBezTo>
                  <a:pt x="18777" y="8483"/>
                  <a:pt x="18901" y="8483"/>
                  <a:pt x="19025" y="8483"/>
                </a:cubicBezTo>
              </a:path>
              <a:path w="820" h="820">
                <a:moveTo>
                  <a:pt x="19447" y="8111"/>
                </a:moveTo>
                <a:cubicBezTo>
                  <a:pt x="19454" y="8191"/>
                  <a:pt x="19472" y="8253"/>
                  <a:pt x="19472" y="8334"/>
                </a:cubicBezTo>
                <a:cubicBezTo>
                  <a:pt x="19472" y="8418"/>
                  <a:pt x="19447" y="8467"/>
                  <a:pt x="19447" y="8558"/>
                </a:cubicBezTo>
                <a:cubicBezTo>
                  <a:pt x="19447" y="8643"/>
                  <a:pt x="19427" y="8698"/>
                  <a:pt x="19422" y="8781"/>
                </a:cubicBezTo>
                <a:cubicBezTo>
                  <a:pt x="19418" y="8842"/>
                  <a:pt x="19418" y="8901"/>
                  <a:pt x="19447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11"/>
          <p:cNvSpPr/>
          <p:nvPr/>
        </p:nvSpPr>
        <p:spPr>
          <a:xfrm>
            <a:off x="7535880" y="2840040"/>
            <a:ext cx="26028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20985" y="8260"/>
                </a:moveTo>
                <a:cubicBezTo>
                  <a:pt x="20985" y="8344"/>
                  <a:pt x="20970" y="8408"/>
                  <a:pt x="20960" y="8483"/>
                </a:cubicBezTo>
                <a:cubicBezTo>
                  <a:pt x="20945" y="8596"/>
                  <a:pt x="20994" y="8662"/>
                  <a:pt x="21059" y="8706"/>
                </a:cubicBezTo>
                <a:cubicBezTo>
                  <a:pt x="21108" y="8739"/>
                  <a:pt x="21156" y="8825"/>
                  <a:pt x="21233" y="8781"/>
                </a:cubicBezTo>
                <a:cubicBezTo>
                  <a:pt x="21303" y="8741"/>
                  <a:pt x="21359" y="8705"/>
                  <a:pt x="21431" y="8657"/>
                </a:cubicBezTo>
                <a:cubicBezTo>
                  <a:pt x="21508" y="8606"/>
                  <a:pt x="21556" y="8564"/>
                  <a:pt x="21605" y="8483"/>
                </a:cubicBezTo>
                <a:cubicBezTo>
                  <a:pt x="21644" y="8419"/>
                  <a:pt x="21675" y="8312"/>
                  <a:pt x="21654" y="8235"/>
                </a:cubicBezTo>
                <a:cubicBezTo>
                  <a:pt x="21639" y="8178"/>
                  <a:pt x="21600" y="8054"/>
                  <a:pt x="21555" y="8012"/>
                </a:cubicBezTo>
                <a:cubicBezTo>
                  <a:pt x="21504" y="7964"/>
                  <a:pt x="21404" y="7898"/>
                  <a:pt x="21332" y="7888"/>
                </a:cubicBezTo>
                <a:cubicBezTo>
                  <a:pt x="21214" y="7872"/>
                  <a:pt x="21119" y="7902"/>
                  <a:pt x="21010" y="7938"/>
                </a:cubicBezTo>
                <a:cubicBezTo>
                  <a:pt x="20985" y="7946"/>
                  <a:pt x="20960" y="7954"/>
                  <a:pt x="20935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12"/>
          <p:cNvSpPr/>
          <p:nvPr/>
        </p:nvSpPr>
        <p:spPr>
          <a:xfrm>
            <a:off x="2062080" y="2830680"/>
            <a:ext cx="5546880" cy="2697120"/>
          </a:xfrm>
          <a:custGeom>
            <a:avLst/>
            <a:gdLst/>
            <a:ahLst/>
            <a:rect l="l" t="t" r="r" b="b"/>
            <a:pathLst>
              <a:path w="15405" h="7492">
                <a:moveTo>
                  <a:pt x="5730" y="11162"/>
                </a:moveTo>
                <a:cubicBezTo>
                  <a:pt x="5797" y="11204"/>
                  <a:pt x="5785" y="11235"/>
                  <a:pt x="5879" y="11261"/>
                </a:cubicBezTo>
                <a:cubicBezTo>
                  <a:pt x="5977" y="11288"/>
                  <a:pt x="6075" y="11277"/>
                  <a:pt x="6176" y="11286"/>
                </a:cubicBezTo>
                <a:cubicBezTo>
                  <a:pt x="6318" y="11299"/>
                  <a:pt x="6457" y="11319"/>
                  <a:pt x="6598" y="11336"/>
                </a:cubicBezTo>
                <a:cubicBezTo>
                  <a:pt x="6837" y="11365"/>
                  <a:pt x="7078" y="11361"/>
                  <a:pt x="7317" y="11385"/>
                </a:cubicBezTo>
                <a:cubicBezTo>
                  <a:pt x="7565" y="11410"/>
                  <a:pt x="7812" y="11431"/>
                  <a:pt x="8062" y="11435"/>
                </a:cubicBezTo>
                <a:cubicBezTo>
                  <a:pt x="8332" y="11439"/>
                  <a:pt x="8610" y="11442"/>
                  <a:pt x="8880" y="11460"/>
                </a:cubicBezTo>
                <a:cubicBezTo>
                  <a:pt x="9227" y="11483"/>
                  <a:pt x="9575" y="11504"/>
                  <a:pt x="9922" y="11509"/>
                </a:cubicBezTo>
                <a:cubicBezTo>
                  <a:pt x="10533" y="11517"/>
                  <a:pt x="11152" y="11503"/>
                  <a:pt x="11757" y="11534"/>
                </a:cubicBezTo>
                <a:cubicBezTo>
                  <a:pt x="11832" y="11538"/>
                  <a:pt x="11946" y="11516"/>
                  <a:pt x="11981" y="11509"/>
                </a:cubicBezTo>
              </a:path>
              <a:path w="15405" h="7492">
                <a:moveTo>
                  <a:pt x="13370" y="7863"/>
                </a:moveTo>
                <a:cubicBezTo>
                  <a:pt x="13365" y="8024"/>
                  <a:pt x="13333" y="8175"/>
                  <a:pt x="13320" y="8334"/>
                </a:cubicBezTo>
                <a:cubicBezTo>
                  <a:pt x="13298" y="8607"/>
                  <a:pt x="13298" y="8880"/>
                  <a:pt x="13271" y="9153"/>
                </a:cubicBezTo>
                <a:cubicBezTo>
                  <a:pt x="13237" y="9501"/>
                  <a:pt x="13184" y="9848"/>
                  <a:pt x="13146" y="10195"/>
                </a:cubicBezTo>
                <a:cubicBezTo>
                  <a:pt x="13077" y="10819"/>
                  <a:pt x="13051" y="11453"/>
                  <a:pt x="13047" y="12080"/>
                </a:cubicBezTo>
                <a:cubicBezTo>
                  <a:pt x="13040" y="13172"/>
                  <a:pt x="13056" y="14263"/>
                  <a:pt x="13022" y="15354"/>
                </a:cubicBezTo>
              </a:path>
              <a:path w="15405" h="7492">
                <a:moveTo>
                  <a:pt x="16520" y="10120"/>
                </a:moveTo>
                <a:cubicBezTo>
                  <a:pt x="16592" y="10125"/>
                  <a:pt x="16649" y="10138"/>
                  <a:pt x="16718" y="10145"/>
                </a:cubicBezTo>
                <a:cubicBezTo>
                  <a:pt x="16837" y="10157"/>
                  <a:pt x="16911" y="10195"/>
                  <a:pt x="17041" y="10195"/>
                </a:cubicBezTo>
                <a:cubicBezTo>
                  <a:pt x="17428" y="10195"/>
                  <a:pt x="17799" y="10179"/>
                  <a:pt x="18182" y="10145"/>
                </a:cubicBezTo>
                <a:cubicBezTo>
                  <a:pt x="18376" y="10128"/>
                  <a:pt x="18582" y="10131"/>
                  <a:pt x="18777" y="10120"/>
                </a:cubicBezTo>
                <a:cubicBezTo>
                  <a:pt x="18996" y="10108"/>
                  <a:pt x="19182" y="10109"/>
                  <a:pt x="19397" y="10071"/>
                </a:cubicBezTo>
                <a:cubicBezTo>
                  <a:pt x="19608" y="10034"/>
                  <a:pt x="19809" y="10039"/>
                  <a:pt x="20017" y="9996"/>
                </a:cubicBezTo>
                <a:cubicBezTo>
                  <a:pt x="20193" y="9960"/>
                  <a:pt x="20390" y="9945"/>
                  <a:pt x="20563" y="9922"/>
                </a:cubicBezTo>
                <a:cubicBezTo>
                  <a:pt x="20694" y="9905"/>
                  <a:pt x="20827" y="9897"/>
                  <a:pt x="20960" y="9897"/>
                </a:cubicBezTo>
                <a:cubicBezTo>
                  <a:pt x="21018" y="9897"/>
                  <a:pt x="21076" y="9897"/>
                  <a:pt x="21134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13"/>
          <p:cNvSpPr/>
          <p:nvPr/>
        </p:nvSpPr>
        <p:spPr>
          <a:xfrm>
            <a:off x="303120" y="4599000"/>
            <a:ext cx="2295720" cy="1455840"/>
          </a:xfrm>
          <a:custGeom>
            <a:avLst/>
            <a:gdLst/>
            <a:ahLst/>
            <a:rect l="l" t="t" r="r" b="b"/>
            <a:pathLst>
              <a:path w="6376" h="4045">
                <a:moveTo>
                  <a:pt x="3448" y="12973"/>
                </a:moveTo>
                <a:cubicBezTo>
                  <a:pt x="3482" y="13024"/>
                  <a:pt x="3523" y="13087"/>
                  <a:pt x="3547" y="13146"/>
                </a:cubicBezTo>
                <a:cubicBezTo>
                  <a:pt x="3584" y="13235"/>
                  <a:pt x="3615" y="13327"/>
                  <a:pt x="3646" y="13419"/>
                </a:cubicBezTo>
                <a:cubicBezTo>
                  <a:pt x="3677" y="13511"/>
                  <a:pt x="3734" y="13615"/>
                  <a:pt x="3795" y="13692"/>
                </a:cubicBezTo>
                <a:cubicBezTo>
                  <a:pt x="3841" y="13738"/>
                  <a:pt x="3856" y="13750"/>
                  <a:pt x="3870" y="13791"/>
                </a:cubicBezTo>
              </a:path>
              <a:path w="6376" h="4045">
                <a:moveTo>
                  <a:pt x="3969" y="12923"/>
                </a:moveTo>
                <a:cubicBezTo>
                  <a:pt x="3969" y="13005"/>
                  <a:pt x="3962" y="13092"/>
                  <a:pt x="3944" y="13171"/>
                </a:cubicBezTo>
                <a:cubicBezTo>
                  <a:pt x="3916" y="13298"/>
                  <a:pt x="3903" y="13438"/>
                  <a:pt x="3894" y="13568"/>
                </a:cubicBezTo>
                <a:cubicBezTo>
                  <a:pt x="3883" y="13723"/>
                  <a:pt x="3887" y="13884"/>
                  <a:pt x="3870" y="14039"/>
                </a:cubicBezTo>
                <a:cubicBezTo>
                  <a:pt x="3854" y="14186"/>
                  <a:pt x="3865" y="14341"/>
                  <a:pt x="3845" y="14486"/>
                </a:cubicBezTo>
                <a:cubicBezTo>
                  <a:pt x="3836" y="14552"/>
                  <a:pt x="3842" y="14698"/>
                  <a:pt x="3820" y="14759"/>
                </a:cubicBezTo>
                <a:cubicBezTo>
                  <a:pt x="3795" y="14784"/>
                  <a:pt x="3787" y="14792"/>
                  <a:pt x="3820" y="14759"/>
                </a:cubicBezTo>
              </a:path>
              <a:path w="6376" h="4045">
                <a:moveTo>
                  <a:pt x="4167" y="13246"/>
                </a:moveTo>
                <a:cubicBezTo>
                  <a:pt x="4244" y="13204"/>
                  <a:pt x="4302" y="13176"/>
                  <a:pt x="4390" y="13171"/>
                </a:cubicBezTo>
                <a:cubicBezTo>
                  <a:pt x="4439" y="13168"/>
                  <a:pt x="4490" y="13171"/>
                  <a:pt x="4539" y="13171"/>
                </a:cubicBezTo>
              </a:path>
              <a:path w="6376" h="4045">
                <a:moveTo>
                  <a:pt x="4316" y="13345"/>
                </a:moveTo>
                <a:cubicBezTo>
                  <a:pt x="4372" y="13390"/>
                  <a:pt x="4418" y="13415"/>
                  <a:pt x="4490" y="13419"/>
                </a:cubicBezTo>
                <a:cubicBezTo>
                  <a:pt x="4539" y="13422"/>
                  <a:pt x="4589" y="13419"/>
                  <a:pt x="4638" y="13419"/>
                </a:cubicBezTo>
              </a:path>
              <a:path w="6376" h="4045">
                <a:moveTo>
                  <a:pt x="4986" y="12774"/>
                </a:moveTo>
                <a:cubicBezTo>
                  <a:pt x="4986" y="12943"/>
                  <a:pt x="4993" y="13106"/>
                  <a:pt x="5011" y="13271"/>
                </a:cubicBezTo>
                <a:cubicBezTo>
                  <a:pt x="5022" y="13371"/>
                  <a:pt x="5049" y="13469"/>
                  <a:pt x="5060" y="13568"/>
                </a:cubicBezTo>
                <a:cubicBezTo>
                  <a:pt x="5066" y="13624"/>
                  <a:pt x="5050" y="13745"/>
                  <a:pt x="5085" y="13791"/>
                </a:cubicBezTo>
                <a:cubicBezTo>
                  <a:pt x="5093" y="13791"/>
                  <a:pt x="5102" y="13791"/>
                  <a:pt x="5110" y="13791"/>
                </a:cubicBezTo>
              </a:path>
              <a:path w="6376" h="4045">
                <a:moveTo>
                  <a:pt x="5259" y="13122"/>
                </a:moveTo>
                <a:cubicBezTo>
                  <a:pt x="5343" y="13206"/>
                  <a:pt x="5350" y="13247"/>
                  <a:pt x="5407" y="13345"/>
                </a:cubicBezTo>
                <a:cubicBezTo>
                  <a:pt x="5466" y="13447"/>
                  <a:pt x="5535" y="13526"/>
                  <a:pt x="5606" y="13618"/>
                </a:cubicBezTo>
                <a:cubicBezTo>
                  <a:pt x="5690" y="13727"/>
                  <a:pt x="5737" y="13788"/>
                  <a:pt x="5854" y="13866"/>
                </a:cubicBezTo>
              </a:path>
              <a:path w="6376" h="4045">
                <a:moveTo>
                  <a:pt x="5705" y="12998"/>
                </a:moveTo>
                <a:cubicBezTo>
                  <a:pt x="5664" y="13038"/>
                  <a:pt x="5641" y="13080"/>
                  <a:pt x="5606" y="13122"/>
                </a:cubicBezTo>
                <a:cubicBezTo>
                  <a:pt x="5546" y="13195"/>
                  <a:pt x="5519" y="13257"/>
                  <a:pt x="5482" y="13345"/>
                </a:cubicBezTo>
                <a:cubicBezTo>
                  <a:pt x="5445" y="13435"/>
                  <a:pt x="5395" y="13547"/>
                  <a:pt x="5383" y="13643"/>
                </a:cubicBezTo>
                <a:cubicBezTo>
                  <a:pt x="5383" y="13701"/>
                  <a:pt x="5383" y="13709"/>
                  <a:pt x="5383" y="13742"/>
                </a:cubicBezTo>
              </a:path>
              <a:path w="6376" h="4045">
                <a:moveTo>
                  <a:pt x="6127" y="13097"/>
                </a:moveTo>
                <a:cubicBezTo>
                  <a:pt x="6154" y="13219"/>
                  <a:pt x="6195" y="13346"/>
                  <a:pt x="6201" y="13469"/>
                </a:cubicBezTo>
                <a:cubicBezTo>
                  <a:pt x="6201" y="13486"/>
                  <a:pt x="6201" y="13502"/>
                  <a:pt x="6201" y="13519"/>
                </a:cubicBezTo>
              </a:path>
              <a:path w="6376" h="4045">
                <a:moveTo>
                  <a:pt x="5978" y="13271"/>
                </a:moveTo>
                <a:cubicBezTo>
                  <a:pt x="6127" y="13207"/>
                  <a:pt x="6140" y="13233"/>
                  <a:pt x="6300" y="13271"/>
                </a:cubicBezTo>
              </a:path>
              <a:path w="6376" h="4045">
                <a:moveTo>
                  <a:pt x="6796" y="12973"/>
                </a:moveTo>
                <a:cubicBezTo>
                  <a:pt x="6766" y="12990"/>
                  <a:pt x="6683" y="13032"/>
                  <a:pt x="6672" y="13072"/>
                </a:cubicBezTo>
                <a:cubicBezTo>
                  <a:pt x="6652" y="13143"/>
                  <a:pt x="6630" y="13245"/>
                  <a:pt x="6648" y="13320"/>
                </a:cubicBezTo>
                <a:cubicBezTo>
                  <a:pt x="6667" y="13400"/>
                  <a:pt x="6730" y="13455"/>
                  <a:pt x="6772" y="13519"/>
                </a:cubicBezTo>
                <a:cubicBezTo>
                  <a:pt x="6824" y="13597"/>
                  <a:pt x="6861" y="13625"/>
                  <a:pt x="6945" y="13667"/>
                </a:cubicBezTo>
                <a:cubicBezTo>
                  <a:pt x="7023" y="13706"/>
                  <a:pt x="7117" y="13666"/>
                  <a:pt x="7169" y="13593"/>
                </a:cubicBezTo>
                <a:cubicBezTo>
                  <a:pt x="7221" y="13521"/>
                  <a:pt x="7218" y="13455"/>
                  <a:pt x="7218" y="13370"/>
                </a:cubicBezTo>
                <a:cubicBezTo>
                  <a:pt x="7218" y="13228"/>
                  <a:pt x="7192" y="13195"/>
                  <a:pt x="7119" y="13072"/>
                </a:cubicBezTo>
                <a:cubicBezTo>
                  <a:pt x="7084" y="13014"/>
                  <a:pt x="7016" y="12964"/>
                  <a:pt x="6945" y="12948"/>
                </a:cubicBezTo>
                <a:cubicBezTo>
                  <a:pt x="6869" y="12931"/>
                  <a:pt x="6811" y="12965"/>
                  <a:pt x="6747" y="12998"/>
                </a:cubicBezTo>
              </a:path>
              <a:path w="6376" h="4045">
                <a:moveTo>
                  <a:pt x="843" y="15280"/>
                </a:moveTo>
                <a:cubicBezTo>
                  <a:pt x="882" y="15343"/>
                  <a:pt x="889" y="15427"/>
                  <a:pt x="918" y="15503"/>
                </a:cubicBezTo>
                <a:cubicBezTo>
                  <a:pt x="949" y="15585"/>
                  <a:pt x="962" y="15665"/>
                  <a:pt x="992" y="15751"/>
                </a:cubicBezTo>
                <a:cubicBezTo>
                  <a:pt x="1021" y="15835"/>
                  <a:pt x="1038" y="15952"/>
                  <a:pt x="1091" y="16024"/>
                </a:cubicBezTo>
                <a:cubicBezTo>
                  <a:pt x="1108" y="16040"/>
                  <a:pt x="1124" y="16057"/>
                  <a:pt x="1141" y="16073"/>
                </a:cubicBezTo>
              </a:path>
              <a:path w="6376" h="4045">
                <a:moveTo>
                  <a:pt x="1389" y="15280"/>
                </a:moveTo>
                <a:cubicBezTo>
                  <a:pt x="1296" y="15354"/>
                  <a:pt x="1255" y="15434"/>
                  <a:pt x="1215" y="15553"/>
                </a:cubicBezTo>
                <a:cubicBezTo>
                  <a:pt x="1170" y="15685"/>
                  <a:pt x="1106" y="15816"/>
                  <a:pt x="1067" y="15949"/>
                </a:cubicBezTo>
                <a:cubicBezTo>
                  <a:pt x="1010" y="16145"/>
                  <a:pt x="971" y="16348"/>
                  <a:pt x="918" y="16545"/>
                </a:cubicBezTo>
                <a:cubicBezTo>
                  <a:pt x="893" y="16639"/>
                  <a:pt x="854" y="16722"/>
                  <a:pt x="843" y="16818"/>
                </a:cubicBezTo>
              </a:path>
              <a:path w="6376" h="4045">
                <a:moveTo>
                  <a:pt x="1513" y="15329"/>
                </a:moveTo>
                <a:cubicBezTo>
                  <a:pt x="1571" y="15337"/>
                  <a:pt x="1629" y="15346"/>
                  <a:pt x="1687" y="15354"/>
                </a:cubicBezTo>
              </a:path>
              <a:path w="6376" h="4045">
                <a:moveTo>
                  <a:pt x="1513" y="15528"/>
                </a:moveTo>
                <a:cubicBezTo>
                  <a:pt x="1589" y="15584"/>
                  <a:pt x="1616" y="15577"/>
                  <a:pt x="1712" y="15577"/>
                </a:cubicBezTo>
              </a:path>
              <a:path w="6376" h="4045">
                <a:moveTo>
                  <a:pt x="2009" y="14858"/>
                </a:moveTo>
                <a:cubicBezTo>
                  <a:pt x="2085" y="14839"/>
                  <a:pt x="2083" y="14845"/>
                  <a:pt x="2158" y="14883"/>
                </a:cubicBezTo>
                <a:cubicBezTo>
                  <a:pt x="2129" y="14940"/>
                  <a:pt x="2109" y="15007"/>
                  <a:pt x="2084" y="15056"/>
                </a:cubicBezTo>
                <a:cubicBezTo>
                  <a:pt x="2067" y="15091"/>
                  <a:pt x="2084" y="15175"/>
                  <a:pt x="2133" y="15205"/>
                </a:cubicBezTo>
                <a:cubicBezTo>
                  <a:pt x="2198" y="15227"/>
                  <a:pt x="2213" y="15235"/>
                  <a:pt x="2257" y="15230"/>
                </a:cubicBezTo>
              </a:path>
              <a:path w="6376" h="4045">
                <a:moveTo>
                  <a:pt x="2456" y="14784"/>
                </a:moveTo>
                <a:cubicBezTo>
                  <a:pt x="2400" y="14871"/>
                  <a:pt x="2327" y="14963"/>
                  <a:pt x="2282" y="15056"/>
                </a:cubicBezTo>
                <a:cubicBezTo>
                  <a:pt x="2229" y="15165"/>
                  <a:pt x="2156" y="15267"/>
                  <a:pt x="2108" y="15379"/>
                </a:cubicBezTo>
                <a:cubicBezTo>
                  <a:pt x="2060" y="15490"/>
                  <a:pt x="2017" y="15596"/>
                  <a:pt x="1960" y="15701"/>
                </a:cubicBezTo>
                <a:cubicBezTo>
                  <a:pt x="1934" y="15749"/>
                  <a:pt x="1922" y="15803"/>
                  <a:pt x="1910" y="15850"/>
                </a:cubicBezTo>
              </a:path>
              <a:path w="6376" h="4045">
                <a:moveTo>
                  <a:pt x="2257" y="15404"/>
                </a:moveTo>
                <a:cubicBezTo>
                  <a:pt x="2353" y="15372"/>
                  <a:pt x="2372" y="15381"/>
                  <a:pt x="2456" y="15429"/>
                </a:cubicBezTo>
                <a:cubicBezTo>
                  <a:pt x="2445" y="15506"/>
                  <a:pt x="2420" y="15535"/>
                  <a:pt x="2332" y="15553"/>
                </a:cubicBezTo>
                <a:cubicBezTo>
                  <a:pt x="2315" y="15553"/>
                  <a:pt x="2299" y="15553"/>
                  <a:pt x="2282" y="15553"/>
                </a:cubicBezTo>
                <a:cubicBezTo>
                  <a:pt x="2291" y="15618"/>
                  <a:pt x="2324" y="15663"/>
                  <a:pt x="2356" y="15726"/>
                </a:cubicBezTo>
                <a:cubicBezTo>
                  <a:pt x="2399" y="15812"/>
                  <a:pt x="2389" y="15861"/>
                  <a:pt x="2381" y="15949"/>
                </a:cubicBezTo>
                <a:cubicBezTo>
                  <a:pt x="2381" y="15966"/>
                  <a:pt x="2381" y="15982"/>
                  <a:pt x="2381" y="15999"/>
                </a:cubicBezTo>
                <a:cubicBezTo>
                  <a:pt x="2306" y="15955"/>
                  <a:pt x="2280" y="15931"/>
                  <a:pt x="2307" y="15850"/>
                </a:cubicBezTo>
              </a:path>
              <a:path w="6376" h="4045">
                <a:moveTo>
                  <a:pt x="2704" y="15255"/>
                </a:moveTo>
                <a:cubicBezTo>
                  <a:pt x="2755" y="15365"/>
                  <a:pt x="2789" y="15475"/>
                  <a:pt x="2853" y="15577"/>
                </a:cubicBezTo>
                <a:cubicBezTo>
                  <a:pt x="2893" y="15640"/>
                  <a:pt x="2938" y="15689"/>
                  <a:pt x="2977" y="15751"/>
                </a:cubicBezTo>
              </a:path>
              <a:path w="6376" h="4045">
                <a:moveTo>
                  <a:pt x="2977" y="15230"/>
                </a:moveTo>
                <a:cubicBezTo>
                  <a:pt x="2917" y="15319"/>
                  <a:pt x="2862" y="15420"/>
                  <a:pt x="2803" y="15503"/>
                </a:cubicBezTo>
                <a:cubicBezTo>
                  <a:pt x="2751" y="15576"/>
                  <a:pt x="2738" y="15627"/>
                  <a:pt x="2704" y="15701"/>
                </a:cubicBezTo>
                <a:cubicBezTo>
                  <a:pt x="2696" y="15709"/>
                  <a:pt x="2687" y="15718"/>
                  <a:pt x="2679" y="15726"/>
                </a:cubicBezTo>
              </a:path>
              <a:path w="6376" h="4045">
                <a:moveTo>
                  <a:pt x="3200" y="15404"/>
                </a:moveTo>
                <a:cubicBezTo>
                  <a:pt x="3299" y="15404"/>
                  <a:pt x="3315" y="15404"/>
                  <a:pt x="3373" y="15404"/>
                </a:cubicBezTo>
              </a:path>
              <a:path w="6376" h="4045">
                <a:moveTo>
                  <a:pt x="3597" y="15106"/>
                </a:moveTo>
                <a:cubicBezTo>
                  <a:pt x="3694" y="15057"/>
                  <a:pt x="3714" y="15076"/>
                  <a:pt x="3820" y="15081"/>
                </a:cubicBezTo>
                <a:cubicBezTo>
                  <a:pt x="3872" y="15083"/>
                  <a:pt x="3929" y="15099"/>
                  <a:pt x="3969" y="15131"/>
                </a:cubicBezTo>
                <a:cubicBezTo>
                  <a:pt x="4038" y="15186"/>
                  <a:pt x="3977" y="15290"/>
                  <a:pt x="3969" y="15354"/>
                </a:cubicBezTo>
                <a:cubicBezTo>
                  <a:pt x="3955" y="15467"/>
                  <a:pt x="3949" y="15587"/>
                  <a:pt x="3944" y="15701"/>
                </a:cubicBezTo>
                <a:cubicBezTo>
                  <a:pt x="3939" y="15833"/>
                  <a:pt x="3944" y="15966"/>
                  <a:pt x="3944" y="16098"/>
                </a:cubicBezTo>
              </a:path>
              <a:path w="6376" h="4045">
                <a:moveTo>
                  <a:pt x="1339" y="16098"/>
                </a:moveTo>
                <a:cubicBezTo>
                  <a:pt x="1324" y="16007"/>
                  <a:pt x="1315" y="15923"/>
                  <a:pt x="1315" y="15825"/>
                </a:cubicBezTo>
                <a:cubicBezTo>
                  <a:pt x="1315" y="15697"/>
                  <a:pt x="1329" y="15552"/>
                  <a:pt x="1364" y="15429"/>
                </a:cubicBezTo>
                <a:cubicBezTo>
                  <a:pt x="1381" y="15379"/>
                  <a:pt x="1397" y="15330"/>
                  <a:pt x="1414" y="15280"/>
                </a:cubicBezTo>
                <a:cubicBezTo>
                  <a:pt x="1432" y="15377"/>
                  <a:pt x="1439" y="15490"/>
                  <a:pt x="1439" y="15602"/>
                </a:cubicBezTo>
                <a:cubicBezTo>
                  <a:pt x="1439" y="15707"/>
                  <a:pt x="1433" y="15873"/>
                  <a:pt x="1463" y="15974"/>
                </a:cubicBezTo>
                <a:cubicBezTo>
                  <a:pt x="1471" y="15982"/>
                  <a:pt x="1480" y="15991"/>
                  <a:pt x="1488" y="15999"/>
                </a:cubicBezTo>
                <a:cubicBezTo>
                  <a:pt x="1510" y="15919"/>
                  <a:pt x="1529" y="15830"/>
                  <a:pt x="1563" y="15751"/>
                </a:cubicBezTo>
                <a:cubicBezTo>
                  <a:pt x="1614" y="15634"/>
                  <a:pt x="1648" y="15486"/>
                  <a:pt x="1712" y="15379"/>
                </a:cubicBezTo>
                <a:cubicBezTo>
                  <a:pt x="1753" y="15337"/>
                  <a:pt x="1761" y="15329"/>
                  <a:pt x="1786" y="15304"/>
                </a:cubicBezTo>
                <a:cubicBezTo>
                  <a:pt x="1861" y="15359"/>
                  <a:pt x="1865" y="15333"/>
                  <a:pt x="1910" y="15453"/>
                </a:cubicBezTo>
                <a:cubicBezTo>
                  <a:pt x="1944" y="15544"/>
                  <a:pt x="1964" y="15640"/>
                  <a:pt x="2009" y="15726"/>
                </a:cubicBezTo>
                <a:cubicBezTo>
                  <a:pt x="2017" y="15734"/>
                  <a:pt x="2026" y="15743"/>
                  <a:pt x="2034" y="15751"/>
                </a:cubicBezTo>
                <a:cubicBezTo>
                  <a:pt x="2088" y="15649"/>
                  <a:pt x="2127" y="15569"/>
                  <a:pt x="2158" y="15453"/>
                </a:cubicBezTo>
                <a:cubicBezTo>
                  <a:pt x="2208" y="15262"/>
                  <a:pt x="2290" y="15087"/>
                  <a:pt x="2406" y="14932"/>
                </a:cubicBezTo>
                <a:cubicBezTo>
                  <a:pt x="2476" y="15032"/>
                  <a:pt x="2455" y="15082"/>
                  <a:pt x="2480" y="15205"/>
                </a:cubicBezTo>
                <a:cubicBezTo>
                  <a:pt x="2518" y="15391"/>
                  <a:pt x="2547" y="15751"/>
                  <a:pt x="2654" y="15925"/>
                </a:cubicBezTo>
                <a:cubicBezTo>
                  <a:pt x="2671" y="15933"/>
                  <a:pt x="2687" y="15941"/>
                  <a:pt x="2704" y="15949"/>
                </a:cubicBezTo>
                <a:cubicBezTo>
                  <a:pt x="2793" y="15860"/>
                  <a:pt x="2822" y="15790"/>
                  <a:pt x="2877" y="15677"/>
                </a:cubicBezTo>
                <a:cubicBezTo>
                  <a:pt x="2939" y="15549"/>
                  <a:pt x="2968" y="15392"/>
                  <a:pt x="3051" y="15280"/>
                </a:cubicBezTo>
                <a:cubicBezTo>
                  <a:pt x="3093" y="15238"/>
                  <a:pt x="3101" y="15231"/>
                  <a:pt x="3125" y="15205"/>
                </a:cubicBezTo>
                <a:cubicBezTo>
                  <a:pt x="3194" y="15294"/>
                  <a:pt x="3221" y="15349"/>
                  <a:pt x="3249" y="15478"/>
                </a:cubicBezTo>
                <a:cubicBezTo>
                  <a:pt x="3278" y="15612"/>
                  <a:pt x="3290" y="15719"/>
                  <a:pt x="3373" y="15825"/>
                </a:cubicBezTo>
                <a:cubicBezTo>
                  <a:pt x="3447" y="15727"/>
                  <a:pt x="3474" y="15642"/>
                  <a:pt x="3522" y="15528"/>
                </a:cubicBezTo>
                <a:cubicBezTo>
                  <a:pt x="3580" y="15389"/>
                  <a:pt x="3650" y="15268"/>
                  <a:pt x="3746" y="15156"/>
                </a:cubicBezTo>
                <a:cubicBezTo>
                  <a:pt x="3847" y="15229"/>
                  <a:pt x="3865" y="15270"/>
                  <a:pt x="3919" y="15404"/>
                </a:cubicBezTo>
                <a:cubicBezTo>
                  <a:pt x="3960" y="15506"/>
                  <a:pt x="3981" y="15552"/>
                  <a:pt x="4043" y="15627"/>
                </a:cubicBezTo>
                <a:cubicBezTo>
                  <a:pt x="4108" y="15567"/>
                  <a:pt x="4132" y="15522"/>
                  <a:pt x="4192" y="15453"/>
                </a:cubicBezTo>
                <a:cubicBezTo>
                  <a:pt x="4246" y="15392"/>
                  <a:pt x="4303" y="15385"/>
                  <a:pt x="4366" y="15429"/>
                </a:cubicBezTo>
                <a:cubicBezTo>
                  <a:pt x="4449" y="15487"/>
                  <a:pt x="4494" y="15622"/>
                  <a:pt x="4589" y="15677"/>
                </a:cubicBezTo>
                <a:cubicBezTo>
                  <a:pt x="4614" y="15685"/>
                  <a:pt x="4638" y="15693"/>
                  <a:pt x="4663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14"/>
          <p:cNvSpPr/>
          <p:nvPr/>
        </p:nvSpPr>
        <p:spPr>
          <a:xfrm>
            <a:off x="3054240" y="3589200"/>
            <a:ext cx="276480" cy="965160"/>
          </a:xfrm>
          <a:custGeom>
            <a:avLst/>
            <a:gdLst/>
            <a:ahLst/>
            <a:rect l="l" t="t" r="r" b="b"/>
            <a:pathLst>
              <a:path w="770" h="2680">
                <a:moveTo>
                  <a:pt x="8483" y="9971"/>
                </a:moveTo>
                <a:cubicBezTo>
                  <a:pt x="8519" y="10078"/>
                  <a:pt x="8533" y="10156"/>
                  <a:pt x="8533" y="10269"/>
                </a:cubicBezTo>
                <a:cubicBezTo>
                  <a:pt x="8533" y="10359"/>
                  <a:pt x="8546" y="10431"/>
                  <a:pt x="8558" y="10517"/>
                </a:cubicBezTo>
                <a:cubicBezTo>
                  <a:pt x="8572" y="10617"/>
                  <a:pt x="8564" y="10725"/>
                  <a:pt x="8582" y="10815"/>
                </a:cubicBezTo>
                <a:cubicBezTo>
                  <a:pt x="8582" y="10856"/>
                  <a:pt x="8582" y="10880"/>
                  <a:pt x="8582" y="10840"/>
                </a:cubicBezTo>
              </a:path>
              <a:path w="770" h="2680">
                <a:moveTo>
                  <a:pt x="8706" y="11757"/>
                </a:moveTo>
                <a:cubicBezTo>
                  <a:pt x="8699" y="11817"/>
                  <a:pt x="8698" y="11898"/>
                  <a:pt x="8682" y="11956"/>
                </a:cubicBezTo>
                <a:cubicBezTo>
                  <a:pt x="8652" y="12063"/>
                  <a:pt x="8667" y="12121"/>
                  <a:pt x="8682" y="12229"/>
                </a:cubicBezTo>
                <a:cubicBezTo>
                  <a:pt x="8694" y="12313"/>
                  <a:pt x="8675" y="12402"/>
                  <a:pt x="8731" y="12477"/>
                </a:cubicBezTo>
                <a:cubicBezTo>
                  <a:pt x="8800" y="12571"/>
                  <a:pt x="8858" y="12595"/>
                  <a:pt x="8954" y="12626"/>
                </a:cubicBezTo>
                <a:cubicBezTo>
                  <a:pt x="9031" y="12651"/>
                  <a:pt x="9098" y="12626"/>
                  <a:pt x="9153" y="12551"/>
                </a:cubicBezTo>
                <a:cubicBezTo>
                  <a:pt x="9204" y="12482"/>
                  <a:pt x="9224" y="12384"/>
                  <a:pt x="9227" y="12303"/>
                </a:cubicBezTo>
                <a:cubicBezTo>
                  <a:pt x="9231" y="12204"/>
                  <a:pt x="9271" y="12107"/>
                  <a:pt x="9252" y="12005"/>
                </a:cubicBezTo>
                <a:cubicBezTo>
                  <a:pt x="9235" y="11914"/>
                  <a:pt x="9226" y="11815"/>
                  <a:pt x="9178" y="11733"/>
                </a:cubicBezTo>
                <a:cubicBezTo>
                  <a:pt x="9127" y="11646"/>
                  <a:pt x="9076" y="11580"/>
                  <a:pt x="9004" y="11509"/>
                </a:cubicBezTo>
                <a:cubicBezTo>
                  <a:pt x="8967" y="11473"/>
                  <a:pt x="8898" y="11444"/>
                  <a:pt x="8855" y="11435"/>
                </a:cubicBezTo>
                <a:cubicBezTo>
                  <a:pt x="8802" y="11424"/>
                  <a:pt x="8744" y="11475"/>
                  <a:pt x="8706" y="11509"/>
                </a:cubicBezTo>
                <a:cubicBezTo>
                  <a:pt x="8670" y="11542"/>
                  <a:pt x="8657" y="11633"/>
                  <a:pt x="8632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15"/>
          <p:cNvSpPr/>
          <p:nvPr/>
        </p:nvSpPr>
        <p:spPr>
          <a:xfrm>
            <a:off x="3840120" y="3625920"/>
            <a:ext cx="509760" cy="1081080"/>
          </a:xfrm>
          <a:custGeom>
            <a:avLst/>
            <a:gdLst/>
            <a:ahLst/>
            <a:rect l="l" t="t" r="r" b="b"/>
            <a:pathLst>
              <a:path w="1415" h="3002">
                <a:moveTo>
                  <a:pt x="10790" y="10145"/>
                </a:moveTo>
                <a:cubicBezTo>
                  <a:pt x="10767" y="10208"/>
                  <a:pt x="10702" y="10311"/>
                  <a:pt x="10691" y="10368"/>
                </a:cubicBezTo>
                <a:cubicBezTo>
                  <a:pt x="10674" y="10459"/>
                  <a:pt x="10666" y="10545"/>
                  <a:pt x="10666" y="10641"/>
                </a:cubicBezTo>
                <a:cubicBezTo>
                  <a:pt x="10666" y="10696"/>
                  <a:pt x="10683" y="10794"/>
                  <a:pt x="10716" y="10840"/>
                </a:cubicBezTo>
                <a:cubicBezTo>
                  <a:pt x="10763" y="10905"/>
                  <a:pt x="10822" y="10990"/>
                  <a:pt x="10889" y="11038"/>
                </a:cubicBezTo>
                <a:cubicBezTo>
                  <a:pt x="10946" y="11079"/>
                  <a:pt x="11018" y="11101"/>
                  <a:pt x="11088" y="11088"/>
                </a:cubicBezTo>
                <a:cubicBezTo>
                  <a:pt x="11196" y="11069"/>
                  <a:pt x="11234" y="11032"/>
                  <a:pt x="11286" y="10939"/>
                </a:cubicBezTo>
                <a:cubicBezTo>
                  <a:pt x="11332" y="10857"/>
                  <a:pt x="11332" y="10733"/>
                  <a:pt x="11336" y="10641"/>
                </a:cubicBezTo>
                <a:cubicBezTo>
                  <a:pt x="11340" y="10539"/>
                  <a:pt x="11318" y="10464"/>
                  <a:pt x="11286" y="10368"/>
                </a:cubicBezTo>
                <a:cubicBezTo>
                  <a:pt x="11248" y="10254"/>
                  <a:pt x="11194" y="10222"/>
                  <a:pt x="11112" y="10145"/>
                </a:cubicBezTo>
                <a:cubicBezTo>
                  <a:pt x="11066" y="10102"/>
                  <a:pt x="10992" y="10023"/>
                  <a:pt x="10914" y="10071"/>
                </a:cubicBezTo>
                <a:cubicBezTo>
                  <a:pt x="10881" y="10091"/>
                  <a:pt x="10837" y="10156"/>
                  <a:pt x="10815" y="10195"/>
                </a:cubicBezTo>
              </a:path>
              <a:path w="1415" h="3002">
                <a:moveTo>
                  <a:pt x="10864" y="11881"/>
                </a:moveTo>
                <a:cubicBezTo>
                  <a:pt x="10955" y="11881"/>
                  <a:pt x="11046" y="11881"/>
                  <a:pt x="11137" y="11881"/>
                </a:cubicBezTo>
              </a:path>
              <a:path w="1415" h="3002">
                <a:moveTo>
                  <a:pt x="11286" y="11757"/>
                </a:moveTo>
                <a:cubicBezTo>
                  <a:pt x="11346" y="11748"/>
                  <a:pt x="11439" y="11721"/>
                  <a:pt x="11485" y="11782"/>
                </a:cubicBezTo>
                <a:cubicBezTo>
                  <a:pt x="11510" y="11815"/>
                  <a:pt x="11574" y="11887"/>
                  <a:pt x="11559" y="11931"/>
                </a:cubicBezTo>
                <a:cubicBezTo>
                  <a:pt x="11543" y="11979"/>
                  <a:pt x="11468" y="12027"/>
                  <a:pt x="11435" y="12055"/>
                </a:cubicBezTo>
                <a:cubicBezTo>
                  <a:pt x="11389" y="12094"/>
                  <a:pt x="11301" y="12166"/>
                  <a:pt x="11286" y="12229"/>
                </a:cubicBezTo>
                <a:cubicBezTo>
                  <a:pt x="11271" y="12292"/>
                  <a:pt x="11307" y="12367"/>
                  <a:pt x="11361" y="12402"/>
                </a:cubicBezTo>
                <a:cubicBezTo>
                  <a:pt x="11420" y="12440"/>
                  <a:pt x="11517" y="12491"/>
                  <a:pt x="11584" y="12502"/>
                </a:cubicBezTo>
                <a:cubicBezTo>
                  <a:pt x="11655" y="12514"/>
                  <a:pt x="11767" y="12509"/>
                  <a:pt x="11832" y="12477"/>
                </a:cubicBezTo>
                <a:cubicBezTo>
                  <a:pt x="11840" y="12469"/>
                  <a:pt x="11849" y="12460"/>
                  <a:pt x="11857" y="12452"/>
                </a:cubicBezTo>
              </a:path>
              <a:path w="1415" h="3002">
                <a:moveTo>
                  <a:pt x="10790" y="11286"/>
                </a:moveTo>
                <a:cubicBezTo>
                  <a:pt x="10843" y="11444"/>
                  <a:pt x="10917" y="11501"/>
                  <a:pt x="11013" y="11633"/>
                </a:cubicBezTo>
                <a:cubicBezTo>
                  <a:pt x="11140" y="11807"/>
                  <a:pt x="11271" y="11964"/>
                  <a:pt x="11410" y="12129"/>
                </a:cubicBezTo>
                <a:cubicBezTo>
                  <a:pt x="11577" y="12328"/>
                  <a:pt x="11720" y="12546"/>
                  <a:pt x="11881" y="12750"/>
                </a:cubicBezTo>
                <a:cubicBezTo>
                  <a:pt x="11990" y="12881"/>
                  <a:pt x="12018" y="12912"/>
                  <a:pt x="12080" y="12998"/>
                </a:cubicBezTo>
              </a:path>
              <a:path w="1415" h="3002">
                <a:moveTo>
                  <a:pt x="11881" y="11112"/>
                </a:moveTo>
                <a:cubicBezTo>
                  <a:pt x="11855" y="11233"/>
                  <a:pt x="11788" y="11323"/>
                  <a:pt x="11733" y="11435"/>
                </a:cubicBezTo>
                <a:cubicBezTo>
                  <a:pt x="11651" y="11602"/>
                  <a:pt x="11564" y="11761"/>
                  <a:pt x="11485" y="11931"/>
                </a:cubicBezTo>
                <a:cubicBezTo>
                  <a:pt x="11381" y="12154"/>
                  <a:pt x="11325" y="12366"/>
                  <a:pt x="11261" y="12601"/>
                </a:cubicBezTo>
                <a:cubicBezTo>
                  <a:pt x="11218" y="12759"/>
                  <a:pt x="11183" y="12915"/>
                  <a:pt x="11137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Ink 16"/>
          <p:cNvSpPr/>
          <p:nvPr/>
        </p:nvSpPr>
        <p:spPr>
          <a:xfrm>
            <a:off x="5983200" y="3295800"/>
            <a:ext cx="204840" cy="249120"/>
          </a:xfrm>
          <a:custGeom>
            <a:avLst/>
            <a:gdLst/>
            <a:ahLst/>
            <a:rect l="l" t="t" r="r" b="b"/>
            <a:pathLst>
              <a:path w="572" h="695">
                <a:moveTo>
                  <a:pt x="16892" y="9153"/>
                </a:moveTo>
                <a:cubicBezTo>
                  <a:pt x="16899" y="9240"/>
                  <a:pt x="16917" y="9313"/>
                  <a:pt x="16917" y="9401"/>
                </a:cubicBezTo>
                <a:cubicBezTo>
                  <a:pt x="16917" y="9481"/>
                  <a:pt x="16904" y="9558"/>
                  <a:pt x="16892" y="9624"/>
                </a:cubicBezTo>
                <a:cubicBezTo>
                  <a:pt x="16875" y="9712"/>
                  <a:pt x="16887" y="9744"/>
                  <a:pt x="16842" y="9823"/>
                </a:cubicBezTo>
              </a:path>
              <a:path w="572" h="695">
                <a:moveTo>
                  <a:pt x="16619" y="9500"/>
                </a:moveTo>
                <a:cubicBezTo>
                  <a:pt x="16665" y="9553"/>
                  <a:pt x="16716" y="9608"/>
                  <a:pt x="16743" y="9674"/>
                </a:cubicBezTo>
                <a:cubicBezTo>
                  <a:pt x="16772" y="9745"/>
                  <a:pt x="16790" y="9784"/>
                  <a:pt x="16842" y="9823"/>
                </a:cubicBezTo>
                <a:cubicBezTo>
                  <a:pt x="16888" y="9858"/>
                  <a:pt x="16933" y="9798"/>
                  <a:pt x="16966" y="9748"/>
                </a:cubicBezTo>
                <a:cubicBezTo>
                  <a:pt x="17012" y="9680"/>
                  <a:pt x="17098" y="9641"/>
                  <a:pt x="17140" y="9599"/>
                </a:cubicBezTo>
                <a:cubicBezTo>
                  <a:pt x="17162" y="9556"/>
                  <a:pt x="17166" y="9544"/>
                  <a:pt x="17190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Ink 17"/>
          <p:cNvSpPr/>
          <p:nvPr/>
        </p:nvSpPr>
        <p:spPr>
          <a:xfrm>
            <a:off x="6107040" y="3830760"/>
            <a:ext cx="28800" cy="295200"/>
          </a:xfrm>
          <a:custGeom>
            <a:avLst/>
            <a:gdLst/>
            <a:ahLst/>
            <a:rect l="l" t="t" r="r" b="b"/>
            <a:pathLst>
              <a:path w="76" h="820">
                <a:moveTo>
                  <a:pt x="16991" y="10641"/>
                </a:moveTo>
                <a:cubicBezTo>
                  <a:pt x="17028" y="10743"/>
                  <a:pt x="17041" y="10805"/>
                  <a:pt x="17041" y="10914"/>
                </a:cubicBezTo>
                <a:cubicBezTo>
                  <a:pt x="17041" y="11029"/>
                  <a:pt x="17031" y="11126"/>
                  <a:pt x="17016" y="11237"/>
                </a:cubicBezTo>
                <a:cubicBezTo>
                  <a:pt x="17004" y="11328"/>
                  <a:pt x="17020" y="11380"/>
                  <a:pt x="1696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18"/>
          <p:cNvSpPr/>
          <p:nvPr/>
        </p:nvSpPr>
        <p:spPr>
          <a:xfrm>
            <a:off x="6607080" y="3295800"/>
            <a:ext cx="438120" cy="795240"/>
          </a:xfrm>
          <a:custGeom>
            <a:avLst/>
            <a:gdLst/>
            <a:ahLst/>
            <a:rect l="l" t="t" r="r" b="b"/>
            <a:pathLst>
              <a:path w="1217" h="2209">
                <a:moveTo>
                  <a:pt x="18653" y="9451"/>
                </a:moveTo>
                <a:cubicBezTo>
                  <a:pt x="18713" y="9486"/>
                  <a:pt x="18759" y="9460"/>
                  <a:pt x="18827" y="9475"/>
                </a:cubicBezTo>
                <a:cubicBezTo>
                  <a:pt x="18898" y="9491"/>
                  <a:pt x="18963" y="9534"/>
                  <a:pt x="19025" y="9550"/>
                </a:cubicBezTo>
              </a:path>
              <a:path w="1217" h="2209">
                <a:moveTo>
                  <a:pt x="19323" y="9153"/>
                </a:moveTo>
                <a:cubicBezTo>
                  <a:pt x="19333" y="9255"/>
                  <a:pt x="19343" y="9270"/>
                  <a:pt x="19323" y="9376"/>
                </a:cubicBezTo>
                <a:cubicBezTo>
                  <a:pt x="19313" y="9429"/>
                  <a:pt x="19313" y="9498"/>
                  <a:pt x="19298" y="9550"/>
                </a:cubicBezTo>
                <a:cubicBezTo>
                  <a:pt x="19281" y="9611"/>
                  <a:pt x="19257" y="9686"/>
                  <a:pt x="19248" y="9748"/>
                </a:cubicBezTo>
                <a:cubicBezTo>
                  <a:pt x="19239" y="9817"/>
                  <a:pt x="19275" y="9857"/>
                  <a:pt x="19224" y="9823"/>
                </a:cubicBezTo>
              </a:path>
              <a:path w="1217" h="2209">
                <a:moveTo>
                  <a:pt x="18355" y="10815"/>
                </a:moveTo>
                <a:cubicBezTo>
                  <a:pt x="18417" y="10823"/>
                  <a:pt x="18476" y="10854"/>
                  <a:pt x="18529" y="10864"/>
                </a:cubicBezTo>
                <a:cubicBezTo>
                  <a:pt x="18593" y="10876"/>
                  <a:pt x="18607" y="10882"/>
                  <a:pt x="18678" y="10889"/>
                </a:cubicBezTo>
              </a:path>
              <a:path w="1217" h="2209">
                <a:moveTo>
                  <a:pt x="19075" y="10344"/>
                </a:moveTo>
                <a:cubicBezTo>
                  <a:pt x="19226" y="10263"/>
                  <a:pt x="19235" y="10242"/>
                  <a:pt x="19372" y="10344"/>
                </a:cubicBezTo>
                <a:cubicBezTo>
                  <a:pt x="19450" y="10402"/>
                  <a:pt x="19403" y="10571"/>
                  <a:pt x="19372" y="10641"/>
                </a:cubicBezTo>
                <a:cubicBezTo>
                  <a:pt x="19333" y="10729"/>
                  <a:pt x="19251" y="10804"/>
                  <a:pt x="19199" y="10889"/>
                </a:cubicBezTo>
                <a:cubicBezTo>
                  <a:pt x="19139" y="10987"/>
                  <a:pt x="19077" y="11084"/>
                  <a:pt x="19025" y="11187"/>
                </a:cubicBezTo>
                <a:cubicBezTo>
                  <a:pt x="18992" y="11254"/>
                  <a:pt x="18950" y="11272"/>
                  <a:pt x="18976" y="11336"/>
                </a:cubicBezTo>
                <a:cubicBezTo>
                  <a:pt x="19068" y="11376"/>
                  <a:pt x="19130" y="11351"/>
                  <a:pt x="19224" y="11336"/>
                </a:cubicBezTo>
                <a:cubicBezTo>
                  <a:pt x="19298" y="11324"/>
                  <a:pt x="19376" y="11322"/>
                  <a:pt x="19447" y="11311"/>
                </a:cubicBezTo>
                <a:cubicBezTo>
                  <a:pt x="19512" y="11301"/>
                  <a:pt x="19578" y="11296"/>
                  <a:pt x="19546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19"/>
          <p:cNvSpPr/>
          <p:nvPr/>
        </p:nvSpPr>
        <p:spPr>
          <a:xfrm>
            <a:off x="7331040" y="3197160"/>
            <a:ext cx="428760" cy="901800"/>
          </a:xfrm>
          <a:custGeom>
            <a:avLst/>
            <a:gdLst/>
            <a:ahLst/>
            <a:rect l="l" t="t" r="r" b="b"/>
            <a:pathLst>
              <a:path w="1191" h="2506">
                <a:moveTo>
                  <a:pt x="20886" y="9178"/>
                </a:moveTo>
                <a:cubicBezTo>
                  <a:pt x="20923" y="9130"/>
                  <a:pt x="20949" y="9044"/>
                  <a:pt x="20985" y="9004"/>
                </a:cubicBezTo>
                <a:cubicBezTo>
                  <a:pt x="21005" y="8982"/>
                  <a:pt x="21090" y="8951"/>
                  <a:pt x="21109" y="8930"/>
                </a:cubicBezTo>
                <a:cubicBezTo>
                  <a:pt x="21187" y="8844"/>
                  <a:pt x="21189" y="8887"/>
                  <a:pt x="21282" y="8930"/>
                </a:cubicBezTo>
                <a:cubicBezTo>
                  <a:pt x="21365" y="8969"/>
                  <a:pt x="21330" y="9077"/>
                  <a:pt x="21307" y="9153"/>
                </a:cubicBezTo>
                <a:cubicBezTo>
                  <a:pt x="21282" y="9238"/>
                  <a:pt x="21240" y="9298"/>
                  <a:pt x="21208" y="9376"/>
                </a:cubicBezTo>
                <a:cubicBezTo>
                  <a:pt x="21186" y="9428"/>
                  <a:pt x="21145" y="9558"/>
                  <a:pt x="21109" y="9599"/>
                </a:cubicBezTo>
                <a:cubicBezTo>
                  <a:pt x="21071" y="9642"/>
                  <a:pt x="20990" y="9719"/>
                  <a:pt x="20935" y="9748"/>
                </a:cubicBezTo>
                <a:cubicBezTo>
                  <a:pt x="20910" y="9748"/>
                  <a:pt x="20902" y="9748"/>
                  <a:pt x="20886" y="9748"/>
                </a:cubicBezTo>
                <a:cubicBezTo>
                  <a:pt x="20853" y="9673"/>
                  <a:pt x="20863" y="9624"/>
                  <a:pt x="20910" y="9550"/>
                </a:cubicBezTo>
                <a:cubicBezTo>
                  <a:pt x="20936" y="9509"/>
                  <a:pt x="21056" y="9527"/>
                  <a:pt x="21084" y="9550"/>
                </a:cubicBezTo>
                <a:cubicBezTo>
                  <a:pt x="21136" y="9593"/>
                  <a:pt x="21134" y="9713"/>
                  <a:pt x="21158" y="9773"/>
                </a:cubicBezTo>
                <a:cubicBezTo>
                  <a:pt x="21166" y="9790"/>
                  <a:pt x="21175" y="9806"/>
                  <a:pt x="21183" y="9823"/>
                </a:cubicBezTo>
              </a:path>
              <a:path w="1191" h="2506">
                <a:moveTo>
                  <a:pt x="20960" y="10071"/>
                </a:moveTo>
                <a:cubicBezTo>
                  <a:pt x="20960" y="10087"/>
                  <a:pt x="20960" y="10104"/>
                  <a:pt x="20960" y="10120"/>
                </a:cubicBezTo>
                <a:cubicBezTo>
                  <a:pt x="20961" y="10106"/>
                  <a:pt x="20961" y="10023"/>
                  <a:pt x="21010" y="9971"/>
                </a:cubicBezTo>
                <a:cubicBezTo>
                  <a:pt x="21029" y="9951"/>
                  <a:pt x="21086" y="9917"/>
                  <a:pt x="21109" y="9897"/>
                </a:cubicBezTo>
                <a:cubicBezTo>
                  <a:pt x="21174" y="9839"/>
                  <a:pt x="21175" y="9847"/>
                  <a:pt x="21258" y="9847"/>
                </a:cubicBezTo>
                <a:cubicBezTo>
                  <a:pt x="21289" y="9945"/>
                  <a:pt x="21288" y="10019"/>
                  <a:pt x="21258" y="10120"/>
                </a:cubicBezTo>
                <a:cubicBezTo>
                  <a:pt x="21219" y="10252"/>
                  <a:pt x="21163" y="10369"/>
                  <a:pt x="21109" y="10492"/>
                </a:cubicBezTo>
                <a:cubicBezTo>
                  <a:pt x="21067" y="10586"/>
                  <a:pt x="20994" y="10649"/>
                  <a:pt x="20935" y="10740"/>
                </a:cubicBezTo>
                <a:cubicBezTo>
                  <a:pt x="20882" y="10821"/>
                  <a:pt x="20811" y="10858"/>
                  <a:pt x="20737" y="10914"/>
                </a:cubicBezTo>
                <a:cubicBezTo>
                  <a:pt x="20653" y="10978"/>
                  <a:pt x="20617" y="10889"/>
                  <a:pt x="20613" y="10815"/>
                </a:cubicBezTo>
                <a:cubicBezTo>
                  <a:pt x="20610" y="10754"/>
                  <a:pt x="20648" y="10688"/>
                  <a:pt x="20687" y="10641"/>
                </a:cubicBezTo>
                <a:cubicBezTo>
                  <a:pt x="20745" y="10572"/>
                  <a:pt x="20756" y="10571"/>
                  <a:pt x="20836" y="10567"/>
                </a:cubicBezTo>
                <a:cubicBezTo>
                  <a:pt x="20923" y="10562"/>
                  <a:pt x="20944" y="10563"/>
                  <a:pt x="20985" y="10641"/>
                </a:cubicBezTo>
                <a:cubicBezTo>
                  <a:pt x="21019" y="10708"/>
                  <a:pt x="21049" y="10753"/>
                  <a:pt x="21084" y="10815"/>
                </a:cubicBezTo>
              </a:path>
              <a:path w="1191" h="2506">
                <a:moveTo>
                  <a:pt x="20960" y="9823"/>
                </a:moveTo>
                <a:cubicBezTo>
                  <a:pt x="20982" y="9934"/>
                  <a:pt x="21007" y="10035"/>
                  <a:pt x="21034" y="10145"/>
                </a:cubicBezTo>
                <a:cubicBezTo>
                  <a:pt x="21066" y="10277"/>
                  <a:pt x="21093" y="10432"/>
                  <a:pt x="21109" y="10567"/>
                </a:cubicBezTo>
                <a:cubicBezTo>
                  <a:pt x="21123" y="10684"/>
                  <a:pt x="21138" y="10803"/>
                  <a:pt x="21183" y="10914"/>
                </a:cubicBezTo>
                <a:cubicBezTo>
                  <a:pt x="21204" y="10966"/>
                  <a:pt x="21211" y="10977"/>
                  <a:pt x="21258" y="10988"/>
                </a:cubicBezTo>
              </a:path>
              <a:path w="1191" h="2506">
                <a:moveTo>
                  <a:pt x="21555" y="9624"/>
                </a:moveTo>
                <a:cubicBezTo>
                  <a:pt x="21509" y="9693"/>
                  <a:pt x="21433" y="9745"/>
                  <a:pt x="21382" y="9823"/>
                </a:cubicBezTo>
                <a:cubicBezTo>
                  <a:pt x="21285" y="9970"/>
                  <a:pt x="21187" y="10080"/>
                  <a:pt x="21084" y="10220"/>
                </a:cubicBezTo>
                <a:cubicBezTo>
                  <a:pt x="20939" y="10418"/>
                  <a:pt x="20830" y="10639"/>
                  <a:pt x="20687" y="10840"/>
                </a:cubicBezTo>
                <a:cubicBezTo>
                  <a:pt x="20561" y="11017"/>
                  <a:pt x="20467" y="11192"/>
                  <a:pt x="20365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20"/>
          <p:cNvSpPr/>
          <p:nvPr/>
        </p:nvSpPr>
        <p:spPr>
          <a:xfrm>
            <a:off x="5589720" y="4348080"/>
            <a:ext cx="1714320" cy="1305000"/>
          </a:xfrm>
          <a:custGeom>
            <a:avLst/>
            <a:gdLst/>
            <a:ahLst/>
            <a:rect l="l" t="t" r="r" b="b"/>
            <a:pathLst>
              <a:path w="4763" h="3622">
                <a:moveTo>
                  <a:pt x="15528" y="12725"/>
                </a:moveTo>
                <a:cubicBezTo>
                  <a:pt x="15564" y="12807"/>
                  <a:pt x="15592" y="12891"/>
                  <a:pt x="15627" y="12973"/>
                </a:cubicBezTo>
                <a:cubicBezTo>
                  <a:pt x="15676" y="13087"/>
                  <a:pt x="15739" y="13203"/>
                  <a:pt x="15776" y="13320"/>
                </a:cubicBezTo>
                <a:cubicBezTo>
                  <a:pt x="15814" y="13439"/>
                  <a:pt x="15840" y="13569"/>
                  <a:pt x="15850" y="13692"/>
                </a:cubicBezTo>
                <a:cubicBezTo>
                  <a:pt x="15860" y="13809"/>
                  <a:pt x="15875" y="13920"/>
                  <a:pt x="15875" y="14039"/>
                </a:cubicBezTo>
              </a:path>
              <a:path w="4763" h="3622">
                <a:moveTo>
                  <a:pt x="16272" y="12328"/>
                </a:moveTo>
                <a:cubicBezTo>
                  <a:pt x="16238" y="12455"/>
                  <a:pt x="16222" y="12572"/>
                  <a:pt x="16197" y="12700"/>
                </a:cubicBezTo>
                <a:cubicBezTo>
                  <a:pt x="16146" y="12959"/>
                  <a:pt x="16082" y="13212"/>
                  <a:pt x="16024" y="13469"/>
                </a:cubicBezTo>
                <a:cubicBezTo>
                  <a:pt x="15949" y="13802"/>
                  <a:pt x="15908" y="14121"/>
                  <a:pt x="15875" y="14461"/>
                </a:cubicBezTo>
                <a:cubicBezTo>
                  <a:pt x="15846" y="14758"/>
                  <a:pt x="15860" y="15058"/>
                  <a:pt x="15900" y="15354"/>
                </a:cubicBezTo>
                <a:cubicBezTo>
                  <a:pt x="15916" y="15473"/>
                  <a:pt x="15941" y="15586"/>
                  <a:pt x="15974" y="15701"/>
                </a:cubicBezTo>
              </a:path>
              <a:path w="4763" h="3622">
                <a:moveTo>
                  <a:pt x="16669" y="12849"/>
                </a:moveTo>
                <a:cubicBezTo>
                  <a:pt x="16769" y="12849"/>
                  <a:pt x="16875" y="12865"/>
                  <a:pt x="16966" y="12824"/>
                </a:cubicBezTo>
                <a:cubicBezTo>
                  <a:pt x="17041" y="12790"/>
                  <a:pt x="17116" y="12762"/>
                  <a:pt x="17190" y="12725"/>
                </a:cubicBezTo>
              </a:path>
              <a:path w="4763" h="3622">
                <a:moveTo>
                  <a:pt x="16718" y="13370"/>
                </a:moveTo>
                <a:cubicBezTo>
                  <a:pt x="16802" y="13391"/>
                  <a:pt x="16902" y="13414"/>
                  <a:pt x="16991" y="13395"/>
                </a:cubicBezTo>
                <a:cubicBezTo>
                  <a:pt x="17068" y="13379"/>
                  <a:pt x="17147" y="13369"/>
                  <a:pt x="17214" y="13345"/>
                </a:cubicBezTo>
                <a:cubicBezTo>
                  <a:pt x="17231" y="13337"/>
                  <a:pt x="17247" y="13328"/>
                  <a:pt x="17264" y="13320"/>
                </a:cubicBezTo>
              </a:path>
              <a:path w="4763" h="3622">
                <a:moveTo>
                  <a:pt x="17835" y="12254"/>
                </a:moveTo>
                <a:cubicBezTo>
                  <a:pt x="17844" y="12357"/>
                  <a:pt x="17846" y="12401"/>
                  <a:pt x="17835" y="12502"/>
                </a:cubicBezTo>
                <a:cubicBezTo>
                  <a:pt x="17821" y="12625"/>
                  <a:pt x="17834" y="12753"/>
                  <a:pt x="17810" y="12874"/>
                </a:cubicBezTo>
                <a:cubicBezTo>
                  <a:pt x="17787" y="12994"/>
                  <a:pt x="17749" y="13123"/>
                  <a:pt x="17735" y="13246"/>
                </a:cubicBezTo>
                <a:cubicBezTo>
                  <a:pt x="17722" y="13362"/>
                  <a:pt x="17711" y="13476"/>
                  <a:pt x="17711" y="13593"/>
                </a:cubicBezTo>
                <a:cubicBezTo>
                  <a:pt x="17711" y="13643"/>
                  <a:pt x="17711" y="13692"/>
                  <a:pt x="17711" y="13742"/>
                </a:cubicBezTo>
              </a:path>
              <a:path w="4763" h="3622">
                <a:moveTo>
                  <a:pt x="17983" y="13122"/>
                </a:moveTo>
                <a:cubicBezTo>
                  <a:pt x="18035" y="13172"/>
                  <a:pt x="18031" y="13191"/>
                  <a:pt x="18058" y="13246"/>
                </a:cubicBezTo>
                <a:cubicBezTo>
                  <a:pt x="18083" y="13295"/>
                  <a:pt x="18122" y="13375"/>
                  <a:pt x="18157" y="13419"/>
                </a:cubicBezTo>
                <a:cubicBezTo>
                  <a:pt x="18208" y="13484"/>
                  <a:pt x="18235" y="13551"/>
                  <a:pt x="18281" y="13618"/>
                </a:cubicBezTo>
                <a:cubicBezTo>
                  <a:pt x="18306" y="13654"/>
                  <a:pt x="18343" y="13683"/>
                  <a:pt x="18380" y="13692"/>
                </a:cubicBezTo>
              </a:path>
              <a:path w="4763" h="3622">
                <a:moveTo>
                  <a:pt x="18306" y="12948"/>
                </a:moveTo>
                <a:cubicBezTo>
                  <a:pt x="18256" y="13039"/>
                  <a:pt x="18250" y="13124"/>
                  <a:pt x="18207" y="13221"/>
                </a:cubicBezTo>
                <a:cubicBezTo>
                  <a:pt x="18154" y="13342"/>
                  <a:pt x="18113" y="13464"/>
                  <a:pt x="18083" y="13593"/>
                </a:cubicBezTo>
                <a:cubicBezTo>
                  <a:pt x="18075" y="13634"/>
                  <a:pt x="18066" y="13676"/>
                  <a:pt x="18058" y="13717"/>
                </a:cubicBezTo>
              </a:path>
              <a:path w="4763" h="3622">
                <a:moveTo>
                  <a:pt x="18827" y="12973"/>
                </a:moveTo>
                <a:cubicBezTo>
                  <a:pt x="18897" y="12964"/>
                  <a:pt x="18983" y="12944"/>
                  <a:pt x="19050" y="12923"/>
                </a:cubicBezTo>
                <a:cubicBezTo>
                  <a:pt x="19067" y="12915"/>
                  <a:pt x="19083" y="12906"/>
                  <a:pt x="19100" y="12898"/>
                </a:cubicBezTo>
              </a:path>
              <a:path w="4763" h="3622">
                <a:moveTo>
                  <a:pt x="19298" y="12427"/>
                </a:moveTo>
                <a:cubicBezTo>
                  <a:pt x="19344" y="12336"/>
                  <a:pt x="19372" y="12270"/>
                  <a:pt x="19447" y="12204"/>
                </a:cubicBezTo>
                <a:cubicBezTo>
                  <a:pt x="19490" y="12166"/>
                  <a:pt x="19543" y="12127"/>
                  <a:pt x="19596" y="12105"/>
                </a:cubicBezTo>
                <a:cubicBezTo>
                  <a:pt x="19654" y="12081"/>
                  <a:pt x="19751" y="12062"/>
                  <a:pt x="19794" y="12129"/>
                </a:cubicBezTo>
                <a:cubicBezTo>
                  <a:pt x="19827" y="12180"/>
                  <a:pt x="19787" y="12353"/>
                  <a:pt x="19769" y="12402"/>
                </a:cubicBezTo>
                <a:cubicBezTo>
                  <a:pt x="19734" y="12494"/>
                  <a:pt x="19699" y="12581"/>
                  <a:pt x="19670" y="12675"/>
                </a:cubicBezTo>
                <a:cubicBezTo>
                  <a:pt x="19637" y="12781"/>
                  <a:pt x="19584" y="12873"/>
                  <a:pt x="19546" y="12973"/>
                </a:cubicBezTo>
                <a:cubicBezTo>
                  <a:pt x="19507" y="13075"/>
                  <a:pt x="19470" y="13171"/>
                  <a:pt x="19422" y="13271"/>
                </a:cubicBezTo>
                <a:cubicBezTo>
                  <a:pt x="19379" y="13360"/>
                  <a:pt x="19384" y="13392"/>
                  <a:pt x="19397" y="13469"/>
                </a:cubicBezTo>
                <a:cubicBezTo>
                  <a:pt x="19441" y="13430"/>
                  <a:pt x="19469" y="13399"/>
                  <a:pt x="19521" y="13370"/>
                </a:cubicBezTo>
                <a:cubicBezTo>
                  <a:pt x="19587" y="13333"/>
                  <a:pt x="19671" y="13323"/>
                  <a:pt x="19745" y="13320"/>
                </a:cubicBezTo>
                <a:cubicBezTo>
                  <a:pt x="19912" y="13314"/>
                  <a:pt x="20082" y="13318"/>
                  <a:pt x="20241" y="13345"/>
                </a:cubicBezTo>
                <a:cubicBezTo>
                  <a:pt x="20257" y="13345"/>
                  <a:pt x="20274" y="13345"/>
                  <a:pt x="20290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21"/>
          <p:cNvSpPr/>
          <p:nvPr/>
        </p:nvSpPr>
        <p:spPr>
          <a:xfrm>
            <a:off x="2152800" y="3562200"/>
            <a:ext cx="204480" cy="955800"/>
          </a:xfrm>
          <a:custGeom>
            <a:avLst/>
            <a:gdLst/>
            <a:ahLst/>
            <a:rect l="l" t="t" r="r" b="b"/>
            <a:pathLst>
              <a:path w="571" h="2655">
                <a:moveTo>
                  <a:pt x="6102" y="9971"/>
                </a:moveTo>
                <a:cubicBezTo>
                  <a:pt x="6102" y="9946"/>
                  <a:pt x="6102" y="9922"/>
                  <a:pt x="6102" y="9897"/>
                </a:cubicBezTo>
                <a:cubicBezTo>
                  <a:pt x="6184" y="9956"/>
                  <a:pt x="6156" y="9960"/>
                  <a:pt x="6176" y="10046"/>
                </a:cubicBezTo>
                <a:cubicBezTo>
                  <a:pt x="6200" y="10149"/>
                  <a:pt x="6201" y="10237"/>
                  <a:pt x="6201" y="10344"/>
                </a:cubicBezTo>
                <a:cubicBezTo>
                  <a:pt x="6201" y="10445"/>
                  <a:pt x="6192" y="11049"/>
                  <a:pt x="6226" y="11038"/>
                </a:cubicBezTo>
              </a:path>
              <a:path w="571" h="2655">
                <a:moveTo>
                  <a:pt x="5978" y="10517"/>
                </a:moveTo>
                <a:cubicBezTo>
                  <a:pt x="5994" y="10608"/>
                  <a:pt x="6013" y="10703"/>
                  <a:pt x="6028" y="10790"/>
                </a:cubicBezTo>
                <a:cubicBezTo>
                  <a:pt x="6041" y="10869"/>
                  <a:pt x="6054" y="10978"/>
                  <a:pt x="6102" y="11038"/>
                </a:cubicBezTo>
                <a:cubicBezTo>
                  <a:pt x="6143" y="11089"/>
                  <a:pt x="6173" y="11106"/>
                  <a:pt x="6226" y="11063"/>
                </a:cubicBezTo>
                <a:cubicBezTo>
                  <a:pt x="6282" y="11018"/>
                  <a:pt x="6343" y="10984"/>
                  <a:pt x="6400" y="10939"/>
                </a:cubicBezTo>
                <a:cubicBezTo>
                  <a:pt x="6481" y="10875"/>
                  <a:pt x="6494" y="10859"/>
                  <a:pt x="6548" y="10790"/>
                </a:cubicBezTo>
              </a:path>
              <a:path w="571" h="2655">
                <a:moveTo>
                  <a:pt x="6400" y="11534"/>
                </a:moveTo>
                <a:cubicBezTo>
                  <a:pt x="6390" y="11611"/>
                  <a:pt x="6375" y="11675"/>
                  <a:pt x="6375" y="11757"/>
                </a:cubicBezTo>
                <a:cubicBezTo>
                  <a:pt x="6375" y="11862"/>
                  <a:pt x="6354" y="11953"/>
                  <a:pt x="6350" y="12055"/>
                </a:cubicBezTo>
                <a:cubicBezTo>
                  <a:pt x="6347" y="12148"/>
                  <a:pt x="6375" y="12233"/>
                  <a:pt x="6375" y="12328"/>
                </a:cubicBezTo>
                <a:cubicBezTo>
                  <a:pt x="6375" y="12395"/>
                  <a:pt x="6389" y="12448"/>
                  <a:pt x="6400" y="12502"/>
                </a:cubicBezTo>
                <a:cubicBezTo>
                  <a:pt x="6400" y="12518"/>
                  <a:pt x="6400" y="12535"/>
                  <a:pt x="640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Sketch f(x) = (x</a:t>
            </a:r>
            <a:r>
              <a:rPr b="0" lang="en-US" sz="4400" spc="-1" strike="noStrike" baseline="30000">
                <a:solidFill>
                  <a:srgbClr val="e1dfa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e1dfaf"/>
                </a:solidFill>
                <a:latin typeface="Arial"/>
              </a:rPr>
              <a:t> + 3x – 4)/(x + 1)</a:t>
            </a: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nt asympt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Ink 4"/>
          <p:cNvSpPr/>
          <p:nvPr/>
        </p:nvSpPr>
        <p:spPr>
          <a:xfrm>
            <a:off x="3340080" y="1509840"/>
            <a:ext cx="1463760" cy="660240"/>
          </a:xfrm>
          <a:custGeom>
            <a:avLst/>
            <a:gdLst/>
            <a:ahLst/>
            <a:rect l="l" t="t" r="r" b="b"/>
            <a:pathLst>
              <a:path w="4069" h="1837">
                <a:moveTo>
                  <a:pt x="9674" y="4291"/>
                </a:moveTo>
                <a:cubicBezTo>
                  <a:pt x="9637" y="4382"/>
                  <a:pt x="9605" y="4397"/>
                  <a:pt x="9550" y="4465"/>
                </a:cubicBezTo>
                <a:cubicBezTo>
                  <a:pt x="9501" y="4526"/>
                  <a:pt x="9493" y="4620"/>
                  <a:pt x="9451" y="4688"/>
                </a:cubicBezTo>
                <a:cubicBezTo>
                  <a:pt x="9398" y="4776"/>
                  <a:pt x="9342" y="4881"/>
                  <a:pt x="9327" y="4986"/>
                </a:cubicBezTo>
                <a:cubicBezTo>
                  <a:pt x="9313" y="5079"/>
                  <a:pt x="9302" y="5161"/>
                  <a:pt x="9302" y="5259"/>
                </a:cubicBezTo>
                <a:cubicBezTo>
                  <a:pt x="9302" y="5359"/>
                  <a:pt x="9274" y="5433"/>
                  <a:pt x="9302" y="5531"/>
                </a:cubicBezTo>
                <a:cubicBezTo>
                  <a:pt x="9316" y="5580"/>
                  <a:pt x="9367" y="5644"/>
                  <a:pt x="9401" y="5680"/>
                </a:cubicBezTo>
                <a:cubicBezTo>
                  <a:pt x="9441" y="5723"/>
                  <a:pt x="9484" y="5763"/>
                  <a:pt x="9525" y="5804"/>
                </a:cubicBezTo>
                <a:cubicBezTo>
                  <a:pt x="9569" y="5848"/>
                  <a:pt x="9617" y="5853"/>
                  <a:pt x="9624" y="5854"/>
                </a:cubicBezTo>
              </a:path>
              <a:path w="4069" h="1837">
                <a:moveTo>
                  <a:pt x="10145" y="4688"/>
                </a:moveTo>
                <a:cubicBezTo>
                  <a:pt x="10085" y="4748"/>
                  <a:pt x="10078" y="4809"/>
                  <a:pt x="10046" y="4887"/>
                </a:cubicBezTo>
                <a:cubicBezTo>
                  <a:pt x="10012" y="4970"/>
                  <a:pt x="10006" y="5093"/>
                  <a:pt x="10021" y="5184"/>
                </a:cubicBezTo>
                <a:cubicBezTo>
                  <a:pt x="10030" y="5235"/>
                  <a:pt x="10080" y="5370"/>
                  <a:pt x="10120" y="5407"/>
                </a:cubicBezTo>
                <a:cubicBezTo>
                  <a:pt x="10183" y="5466"/>
                  <a:pt x="10299" y="5428"/>
                  <a:pt x="10368" y="5407"/>
                </a:cubicBezTo>
                <a:cubicBezTo>
                  <a:pt x="10462" y="5379"/>
                  <a:pt x="10508" y="5326"/>
                  <a:pt x="10567" y="5259"/>
                </a:cubicBezTo>
                <a:cubicBezTo>
                  <a:pt x="10626" y="5191"/>
                  <a:pt x="10653" y="5057"/>
                  <a:pt x="10666" y="4961"/>
                </a:cubicBezTo>
                <a:cubicBezTo>
                  <a:pt x="10675" y="4892"/>
                  <a:pt x="10684" y="4773"/>
                  <a:pt x="10641" y="4713"/>
                </a:cubicBezTo>
                <a:cubicBezTo>
                  <a:pt x="10586" y="4636"/>
                  <a:pt x="10509" y="4598"/>
                  <a:pt x="10418" y="4589"/>
                </a:cubicBezTo>
                <a:cubicBezTo>
                  <a:pt x="10347" y="4582"/>
                  <a:pt x="10282" y="4632"/>
                  <a:pt x="10220" y="4663"/>
                </a:cubicBezTo>
                <a:cubicBezTo>
                  <a:pt x="10168" y="4689"/>
                  <a:pt x="10157" y="4689"/>
                  <a:pt x="10145" y="4738"/>
                </a:cubicBezTo>
              </a:path>
              <a:path w="4069" h="1837">
                <a:moveTo>
                  <a:pt x="10988" y="5209"/>
                </a:moveTo>
                <a:cubicBezTo>
                  <a:pt x="11031" y="5294"/>
                  <a:pt x="11038" y="5336"/>
                  <a:pt x="11038" y="5432"/>
                </a:cubicBezTo>
                <a:cubicBezTo>
                  <a:pt x="11038" y="5532"/>
                  <a:pt x="11019" y="5617"/>
                  <a:pt x="10964" y="5705"/>
                </a:cubicBezTo>
                <a:cubicBezTo>
                  <a:pt x="10953" y="5723"/>
                  <a:pt x="10862" y="5798"/>
                  <a:pt x="10840" y="5804"/>
                </a:cubicBezTo>
                <a:cubicBezTo>
                  <a:pt x="10782" y="5821"/>
                  <a:pt x="10686" y="5781"/>
                  <a:pt x="10641" y="5755"/>
                </a:cubicBezTo>
              </a:path>
              <a:path w="4069" h="1837">
                <a:moveTo>
                  <a:pt x="11212" y="4862"/>
                </a:moveTo>
                <a:cubicBezTo>
                  <a:pt x="11296" y="4845"/>
                  <a:pt x="11321" y="4862"/>
                  <a:pt x="11410" y="4862"/>
                </a:cubicBezTo>
                <a:cubicBezTo>
                  <a:pt x="11521" y="4862"/>
                  <a:pt x="11772" y="4906"/>
                  <a:pt x="11857" y="4837"/>
                </a:cubicBezTo>
                <a:cubicBezTo>
                  <a:pt x="11865" y="4829"/>
                  <a:pt x="11873" y="4820"/>
                  <a:pt x="11881" y="4812"/>
                </a:cubicBezTo>
              </a:path>
              <a:path w="4069" h="1837">
                <a:moveTo>
                  <a:pt x="12204" y="4539"/>
                </a:moveTo>
                <a:cubicBezTo>
                  <a:pt x="12251" y="4617"/>
                  <a:pt x="12206" y="4685"/>
                  <a:pt x="12154" y="4762"/>
                </a:cubicBezTo>
                <a:cubicBezTo>
                  <a:pt x="12133" y="4793"/>
                  <a:pt x="12092" y="4869"/>
                  <a:pt x="12105" y="4911"/>
                </a:cubicBezTo>
                <a:cubicBezTo>
                  <a:pt x="12129" y="4987"/>
                  <a:pt x="12245" y="4983"/>
                  <a:pt x="12303" y="4986"/>
                </a:cubicBezTo>
                <a:cubicBezTo>
                  <a:pt x="12388" y="4990"/>
                  <a:pt x="12580" y="5017"/>
                  <a:pt x="12650" y="4961"/>
                </a:cubicBezTo>
                <a:cubicBezTo>
                  <a:pt x="12673" y="4938"/>
                  <a:pt x="12681" y="4934"/>
                  <a:pt x="12675" y="4911"/>
                </a:cubicBezTo>
              </a:path>
              <a:path w="4069" h="1837">
                <a:moveTo>
                  <a:pt x="12576" y="4440"/>
                </a:moveTo>
                <a:cubicBezTo>
                  <a:pt x="12589" y="4528"/>
                  <a:pt x="12585" y="4542"/>
                  <a:pt x="12576" y="4638"/>
                </a:cubicBezTo>
                <a:cubicBezTo>
                  <a:pt x="12557" y="4831"/>
                  <a:pt x="12516" y="5012"/>
                  <a:pt x="12502" y="5209"/>
                </a:cubicBezTo>
                <a:cubicBezTo>
                  <a:pt x="12495" y="5312"/>
                  <a:pt x="12477" y="5403"/>
                  <a:pt x="12477" y="5507"/>
                </a:cubicBezTo>
                <a:cubicBezTo>
                  <a:pt x="12477" y="5621"/>
                  <a:pt x="12490" y="5488"/>
                  <a:pt x="12502" y="5457"/>
                </a:cubicBezTo>
              </a:path>
              <a:path w="4069" h="1837">
                <a:moveTo>
                  <a:pt x="12898" y="4217"/>
                </a:moveTo>
                <a:cubicBezTo>
                  <a:pt x="12965" y="4198"/>
                  <a:pt x="13054" y="4219"/>
                  <a:pt x="13097" y="4291"/>
                </a:cubicBezTo>
                <a:cubicBezTo>
                  <a:pt x="13143" y="4368"/>
                  <a:pt x="13185" y="4483"/>
                  <a:pt x="13221" y="4564"/>
                </a:cubicBezTo>
                <a:cubicBezTo>
                  <a:pt x="13264" y="4659"/>
                  <a:pt x="13310" y="4807"/>
                  <a:pt x="13320" y="4911"/>
                </a:cubicBezTo>
                <a:cubicBezTo>
                  <a:pt x="13335" y="5062"/>
                  <a:pt x="13335" y="5184"/>
                  <a:pt x="13320" y="5333"/>
                </a:cubicBezTo>
                <a:cubicBezTo>
                  <a:pt x="13309" y="5442"/>
                  <a:pt x="13302" y="5550"/>
                  <a:pt x="13271" y="5655"/>
                </a:cubicBezTo>
                <a:cubicBezTo>
                  <a:pt x="13249" y="5731"/>
                  <a:pt x="13227" y="5810"/>
                  <a:pt x="13196" y="5879"/>
                </a:cubicBezTo>
                <a:cubicBezTo>
                  <a:pt x="13177" y="5920"/>
                  <a:pt x="13102" y="6048"/>
                  <a:pt x="13072" y="6003"/>
                </a:cubicBezTo>
                <a:cubicBezTo>
                  <a:pt x="13072" y="5995"/>
                  <a:pt x="13072" y="5986"/>
                  <a:pt x="13072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5"/>
          <p:cNvSpPr/>
          <p:nvPr/>
        </p:nvSpPr>
        <p:spPr>
          <a:xfrm>
            <a:off x="5180040" y="1241280"/>
            <a:ext cx="669960" cy="339840"/>
          </a:xfrm>
          <a:custGeom>
            <a:avLst/>
            <a:gdLst/>
            <a:ahLst/>
            <a:rect l="l" t="t" r="r" b="b"/>
            <a:pathLst>
              <a:path w="1861" h="943">
                <a:moveTo>
                  <a:pt x="14734" y="3646"/>
                </a:moveTo>
                <a:cubicBezTo>
                  <a:pt x="14742" y="3654"/>
                  <a:pt x="14751" y="3663"/>
                  <a:pt x="14759" y="3671"/>
                </a:cubicBezTo>
                <a:cubicBezTo>
                  <a:pt x="14796" y="3610"/>
                  <a:pt x="14779" y="3582"/>
                  <a:pt x="14734" y="3522"/>
                </a:cubicBezTo>
                <a:cubicBezTo>
                  <a:pt x="14688" y="3461"/>
                  <a:pt x="14604" y="3459"/>
                  <a:pt x="14560" y="3522"/>
                </a:cubicBezTo>
                <a:cubicBezTo>
                  <a:pt x="14517" y="3584"/>
                  <a:pt x="14514" y="3698"/>
                  <a:pt x="14511" y="3770"/>
                </a:cubicBezTo>
                <a:cubicBezTo>
                  <a:pt x="14507" y="3871"/>
                  <a:pt x="14515" y="4019"/>
                  <a:pt x="14536" y="4118"/>
                </a:cubicBezTo>
                <a:cubicBezTo>
                  <a:pt x="14550" y="4184"/>
                  <a:pt x="14623" y="4269"/>
                  <a:pt x="14610" y="4341"/>
                </a:cubicBezTo>
                <a:cubicBezTo>
                  <a:pt x="14582" y="4341"/>
                  <a:pt x="14571" y="4339"/>
                  <a:pt x="14560" y="4316"/>
                </a:cubicBezTo>
              </a:path>
              <a:path w="1861" h="943">
                <a:moveTo>
                  <a:pt x="14387" y="4167"/>
                </a:moveTo>
                <a:cubicBezTo>
                  <a:pt x="14448" y="4187"/>
                  <a:pt x="14516" y="4172"/>
                  <a:pt x="14585" y="4142"/>
                </a:cubicBezTo>
                <a:cubicBezTo>
                  <a:pt x="14646" y="4115"/>
                  <a:pt x="14701" y="4076"/>
                  <a:pt x="14759" y="4043"/>
                </a:cubicBezTo>
              </a:path>
              <a:path w="1861" h="943">
                <a:moveTo>
                  <a:pt x="14957" y="3746"/>
                </a:moveTo>
                <a:cubicBezTo>
                  <a:pt x="14936" y="3837"/>
                  <a:pt x="14853" y="4054"/>
                  <a:pt x="14883" y="4167"/>
                </a:cubicBezTo>
                <a:cubicBezTo>
                  <a:pt x="14888" y="4186"/>
                  <a:pt x="14954" y="4293"/>
                  <a:pt x="14982" y="4291"/>
                </a:cubicBezTo>
                <a:cubicBezTo>
                  <a:pt x="15049" y="4268"/>
                  <a:pt x="15067" y="4263"/>
                  <a:pt x="15106" y="4242"/>
                </a:cubicBezTo>
              </a:path>
              <a:path w="1861" h="943">
                <a:moveTo>
                  <a:pt x="15180" y="3994"/>
                </a:moveTo>
                <a:cubicBezTo>
                  <a:pt x="15211" y="4054"/>
                  <a:pt x="15245" y="4177"/>
                  <a:pt x="15329" y="4192"/>
                </a:cubicBezTo>
                <a:cubicBezTo>
                  <a:pt x="15430" y="4210"/>
                  <a:pt x="15483" y="4171"/>
                  <a:pt x="15528" y="4093"/>
                </a:cubicBezTo>
              </a:path>
              <a:path w="1861" h="943">
                <a:moveTo>
                  <a:pt x="15379" y="3919"/>
                </a:moveTo>
                <a:cubicBezTo>
                  <a:pt x="15309" y="4063"/>
                  <a:pt x="15311" y="4381"/>
                  <a:pt x="15156" y="4341"/>
                </a:cubicBezTo>
                <a:cubicBezTo>
                  <a:pt x="15156" y="4333"/>
                  <a:pt x="15156" y="4324"/>
                  <a:pt x="15156" y="4316"/>
                </a:cubicBezTo>
              </a:path>
              <a:path w="1861" h="943">
                <a:moveTo>
                  <a:pt x="15304" y="3448"/>
                </a:moveTo>
                <a:cubicBezTo>
                  <a:pt x="15477" y="3538"/>
                  <a:pt x="15546" y="3603"/>
                  <a:pt x="15602" y="3795"/>
                </a:cubicBezTo>
                <a:cubicBezTo>
                  <a:pt x="15634" y="3904"/>
                  <a:pt x="15704" y="4023"/>
                  <a:pt x="15677" y="4142"/>
                </a:cubicBezTo>
                <a:cubicBezTo>
                  <a:pt x="15664" y="4199"/>
                  <a:pt x="15650" y="4303"/>
                  <a:pt x="15602" y="4341"/>
                </a:cubicBezTo>
                <a:cubicBezTo>
                  <a:pt x="15539" y="4391"/>
                  <a:pt x="15488" y="4430"/>
                  <a:pt x="15503" y="4341"/>
                </a:cubicBezTo>
              </a:path>
              <a:path w="1861" h="943">
                <a:moveTo>
                  <a:pt x="15974" y="3994"/>
                </a:moveTo>
                <a:cubicBezTo>
                  <a:pt x="16024" y="3994"/>
                  <a:pt x="16073" y="3994"/>
                  <a:pt x="16123" y="3994"/>
                </a:cubicBezTo>
              </a:path>
              <a:path w="1861" h="943">
                <a:moveTo>
                  <a:pt x="15949" y="4242"/>
                </a:moveTo>
                <a:cubicBezTo>
                  <a:pt x="16035" y="4235"/>
                  <a:pt x="16124" y="4206"/>
                  <a:pt x="16197" y="4192"/>
                </a:cubicBezTo>
                <a:cubicBezTo>
                  <a:pt x="16214" y="4192"/>
                  <a:pt x="16230" y="4192"/>
                  <a:pt x="16247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6"/>
          <p:cNvSpPr/>
          <p:nvPr/>
        </p:nvSpPr>
        <p:spPr>
          <a:xfrm>
            <a:off x="6107040" y="1670040"/>
            <a:ext cx="733320" cy="312840"/>
          </a:xfrm>
          <a:custGeom>
            <a:avLst/>
            <a:gdLst/>
            <a:ahLst/>
            <a:rect l="l" t="t" r="r" b="b"/>
            <a:pathLst>
              <a:path w="2035" h="870">
                <a:moveTo>
                  <a:pt x="16966" y="4638"/>
                </a:moveTo>
                <a:cubicBezTo>
                  <a:pt x="17014" y="4686"/>
                  <a:pt x="17084" y="4752"/>
                  <a:pt x="17115" y="4812"/>
                </a:cubicBezTo>
                <a:cubicBezTo>
                  <a:pt x="17177" y="4932"/>
                  <a:pt x="17238" y="5051"/>
                  <a:pt x="17314" y="5159"/>
                </a:cubicBezTo>
                <a:cubicBezTo>
                  <a:pt x="17376" y="5247"/>
                  <a:pt x="17422" y="5324"/>
                  <a:pt x="17512" y="5383"/>
                </a:cubicBezTo>
                <a:cubicBezTo>
                  <a:pt x="17573" y="5423"/>
                  <a:pt x="17645" y="5441"/>
                  <a:pt x="17686" y="5383"/>
                </a:cubicBezTo>
                <a:cubicBezTo>
                  <a:pt x="17686" y="5375"/>
                  <a:pt x="17686" y="5366"/>
                  <a:pt x="17686" y="5358"/>
                </a:cubicBezTo>
              </a:path>
              <a:path w="2035" h="870">
                <a:moveTo>
                  <a:pt x="17587" y="4713"/>
                </a:moveTo>
                <a:cubicBezTo>
                  <a:pt x="17519" y="4856"/>
                  <a:pt x="17450" y="4974"/>
                  <a:pt x="17363" y="5110"/>
                </a:cubicBezTo>
                <a:cubicBezTo>
                  <a:pt x="17304" y="5203"/>
                  <a:pt x="17228" y="5271"/>
                  <a:pt x="17165" y="5358"/>
                </a:cubicBezTo>
                <a:cubicBezTo>
                  <a:pt x="17130" y="5407"/>
                  <a:pt x="16998" y="5524"/>
                  <a:pt x="17041" y="5482"/>
                </a:cubicBezTo>
                <a:cubicBezTo>
                  <a:pt x="17066" y="5457"/>
                  <a:pt x="17074" y="5449"/>
                  <a:pt x="17090" y="5432"/>
                </a:cubicBezTo>
              </a:path>
              <a:path w="2035" h="870">
                <a:moveTo>
                  <a:pt x="18256" y="4762"/>
                </a:moveTo>
                <a:cubicBezTo>
                  <a:pt x="18232" y="4850"/>
                  <a:pt x="18231" y="4919"/>
                  <a:pt x="18231" y="5011"/>
                </a:cubicBezTo>
                <a:cubicBezTo>
                  <a:pt x="18231" y="5107"/>
                  <a:pt x="18234" y="5131"/>
                  <a:pt x="18281" y="5209"/>
                </a:cubicBezTo>
                <a:cubicBezTo>
                  <a:pt x="18310" y="5257"/>
                  <a:pt x="18312" y="5286"/>
                  <a:pt x="18355" y="5308"/>
                </a:cubicBezTo>
              </a:path>
              <a:path w="2035" h="870">
                <a:moveTo>
                  <a:pt x="18058" y="4986"/>
                </a:moveTo>
                <a:cubicBezTo>
                  <a:pt x="18141" y="5018"/>
                  <a:pt x="18215" y="5011"/>
                  <a:pt x="18306" y="5011"/>
                </a:cubicBezTo>
                <a:cubicBezTo>
                  <a:pt x="18388" y="5011"/>
                  <a:pt x="18497" y="5001"/>
                  <a:pt x="18579" y="4986"/>
                </a:cubicBezTo>
                <a:cubicBezTo>
                  <a:pt x="18604" y="4978"/>
                  <a:pt x="18628" y="4969"/>
                  <a:pt x="18653" y="4961"/>
                </a:cubicBezTo>
              </a:path>
              <a:path w="2035" h="870">
                <a:moveTo>
                  <a:pt x="19000" y="4663"/>
                </a:moveTo>
                <a:cubicBezTo>
                  <a:pt x="18978" y="4833"/>
                  <a:pt x="18954" y="4988"/>
                  <a:pt x="18951" y="5159"/>
                </a:cubicBezTo>
                <a:cubicBezTo>
                  <a:pt x="18949" y="5263"/>
                  <a:pt x="18968" y="5363"/>
                  <a:pt x="18926" y="5457"/>
                </a:cubicBezTo>
                <a:cubicBezTo>
                  <a:pt x="18918" y="5474"/>
                  <a:pt x="18909" y="5490"/>
                  <a:pt x="1890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7"/>
          <p:cNvSpPr/>
          <p:nvPr/>
        </p:nvSpPr>
        <p:spPr>
          <a:xfrm>
            <a:off x="3643200" y="2268360"/>
            <a:ext cx="1590840" cy="330480"/>
          </a:xfrm>
          <a:custGeom>
            <a:avLst/>
            <a:gdLst/>
            <a:ahLst/>
            <a:rect l="l" t="t" r="r" b="b"/>
            <a:pathLst>
              <a:path w="4417" h="919">
                <a:moveTo>
                  <a:pt x="10120" y="6623"/>
                </a:moveTo>
                <a:cubicBezTo>
                  <a:pt x="10130" y="6691"/>
                  <a:pt x="10161" y="6709"/>
                  <a:pt x="10195" y="6772"/>
                </a:cubicBezTo>
                <a:cubicBezTo>
                  <a:pt x="10237" y="6851"/>
                  <a:pt x="10259" y="6938"/>
                  <a:pt x="10294" y="7020"/>
                </a:cubicBezTo>
                <a:cubicBezTo>
                  <a:pt x="10316" y="7071"/>
                  <a:pt x="10356" y="7128"/>
                  <a:pt x="10393" y="7169"/>
                </a:cubicBezTo>
                <a:cubicBezTo>
                  <a:pt x="10433" y="7213"/>
                  <a:pt x="10461" y="7240"/>
                  <a:pt x="10492" y="7193"/>
                </a:cubicBezTo>
              </a:path>
              <a:path w="4417" h="919">
                <a:moveTo>
                  <a:pt x="10492" y="6648"/>
                </a:moveTo>
                <a:cubicBezTo>
                  <a:pt x="10424" y="6749"/>
                  <a:pt x="10362" y="6846"/>
                  <a:pt x="10294" y="6945"/>
                </a:cubicBezTo>
                <a:cubicBezTo>
                  <a:pt x="10254" y="7003"/>
                  <a:pt x="10213" y="7063"/>
                  <a:pt x="10170" y="7119"/>
                </a:cubicBezTo>
                <a:cubicBezTo>
                  <a:pt x="10162" y="7127"/>
                  <a:pt x="10153" y="7136"/>
                  <a:pt x="10145" y="7144"/>
                </a:cubicBezTo>
              </a:path>
              <a:path w="4417" h="919">
                <a:moveTo>
                  <a:pt x="10691" y="6375"/>
                </a:moveTo>
                <a:cubicBezTo>
                  <a:pt x="10813" y="6353"/>
                  <a:pt x="10844" y="6372"/>
                  <a:pt x="10790" y="6499"/>
                </a:cubicBezTo>
                <a:cubicBezTo>
                  <a:pt x="10761" y="6567"/>
                  <a:pt x="10717" y="6577"/>
                  <a:pt x="10666" y="6623"/>
                </a:cubicBezTo>
                <a:cubicBezTo>
                  <a:pt x="10598" y="6685"/>
                  <a:pt x="10786" y="6633"/>
                  <a:pt x="10815" y="6623"/>
                </a:cubicBezTo>
              </a:path>
              <a:path w="4417" h="919">
                <a:moveTo>
                  <a:pt x="11088" y="6548"/>
                </a:moveTo>
                <a:cubicBezTo>
                  <a:pt x="11068" y="6647"/>
                  <a:pt x="11043" y="6747"/>
                  <a:pt x="11038" y="6846"/>
                </a:cubicBezTo>
                <a:cubicBezTo>
                  <a:pt x="11035" y="6899"/>
                  <a:pt x="11052" y="6902"/>
                  <a:pt x="11063" y="6945"/>
                </a:cubicBezTo>
              </a:path>
              <a:path w="4417" h="919">
                <a:moveTo>
                  <a:pt x="10889" y="6796"/>
                </a:moveTo>
                <a:cubicBezTo>
                  <a:pt x="10978" y="6796"/>
                  <a:pt x="11055" y="6802"/>
                  <a:pt x="11137" y="6772"/>
                </a:cubicBezTo>
              </a:path>
              <a:path w="4417" h="919">
                <a:moveTo>
                  <a:pt x="11361" y="6524"/>
                </a:moveTo>
                <a:cubicBezTo>
                  <a:pt x="11439" y="6502"/>
                  <a:pt x="11514" y="6474"/>
                  <a:pt x="11584" y="6524"/>
                </a:cubicBezTo>
                <a:cubicBezTo>
                  <a:pt x="11637" y="6562"/>
                  <a:pt x="11598" y="6660"/>
                  <a:pt x="11559" y="6697"/>
                </a:cubicBezTo>
                <a:cubicBezTo>
                  <a:pt x="11482" y="6771"/>
                  <a:pt x="11396" y="6750"/>
                  <a:pt x="11460" y="6772"/>
                </a:cubicBezTo>
                <a:cubicBezTo>
                  <a:pt x="11525" y="6795"/>
                  <a:pt x="11580" y="6798"/>
                  <a:pt x="11633" y="6846"/>
                </a:cubicBezTo>
                <a:cubicBezTo>
                  <a:pt x="11681" y="6889"/>
                  <a:pt x="11658" y="6938"/>
                  <a:pt x="11609" y="6970"/>
                </a:cubicBezTo>
                <a:cubicBezTo>
                  <a:pt x="11527" y="7023"/>
                  <a:pt x="11452" y="7038"/>
                  <a:pt x="11361" y="6995"/>
                </a:cubicBezTo>
                <a:cubicBezTo>
                  <a:pt x="11326" y="6960"/>
                  <a:pt x="11322" y="6938"/>
                  <a:pt x="11361" y="6896"/>
                </a:cubicBezTo>
              </a:path>
              <a:path w="4417" h="919">
                <a:moveTo>
                  <a:pt x="11857" y="6623"/>
                </a:moveTo>
                <a:cubicBezTo>
                  <a:pt x="11875" y="6664"/>
                  <a:pt x="11933" y="6876"/>
                  <a:pt x="11981" y="6921"/>
                </a:cubicBezTo>
                <a:cubicBezTo>
                  <a:pt x="12039" y="6975"/>
                  <a:pt x="12104" y="6988"/>
                  <a:pt x="12179" y="6995"/>
                </a:cubicBezTo>
              </a:path>
              <a:path w="4417" h="919">
                <a:moveTo>
                  <a:pt x="12129" y="6573"/>
                </a:moveTo>
                <a:cubicBezTo>
                  <a:pt x="12008" y="6694"/>
                  <a:pt x="11898" y="6821"/>
                  <a:pt x="11782" y="6945"/>
                </a:cubicBezTo>
                <a:cubicBezTo>
                  <a:pt x="11745" y="6984"/>
                  <a:pt x="11697" y="7024"/>
                  <a:pt x="11683" y="6995"/>
                </a:cubicBezTo>
              </a:path>
              <a:path w="4417" h="919">
                <a:moveTo>
                  <a:pt x="12129" y="6871"/>
                </a:moveTo>
                <a:cubicBezTo>
                  <a:pt x="12311" y="6871"/>
                  <a:pt x="12373" y="6887"/>
                  <a:pt x="12526" y="6821"/>
                </a:cubicBezTo>
              </a:path>
              <a:path w="4417" h="919">
                <a:moveTo>
                  <a:pt x="12725" y="6524"/>
                </a:moveTo>
                <a:cubicBezTo>
                  <a:pt x="12715" y="6606"/>
                  <a:pt x="12689" y="6641"/>
                  <a:pt x="12725" y="6722"/>
                </a:cubicBezTo>
                <a:cubicBezTo>
                  <a:pt x="12763" y="6807"/>
                  <a:pt x="12792" y="6808"/>
                  <a:pt x="12874" y="6772"/>
                </a:cubicBezTo>
                <a:cubicBezTo>
                  <a:pt x="12917" y="6750"/>
                  <a:pt x="12929" y="6746"/>
                  <a:pt x="12948" y="6722"/>
                </a:cubicBezTo>
              </a:path>
              <a:path w="4417" h="919">
                <a:moveTo>
                  <a:pt x="12998" y="6350"/>
                </a:moveTo>
                <a:cubicBezTo>
                  <a:pt x="12974" y="6437"/>
                  <a:pt x="12948" y="6511"/>
                  <a:pt x="12923" y="6598"/>
                </a:cubicBezTo>
                <a:cubicBezTo>
                  <a:pt x="12899" y="6679"/>
                  <a:pt x="12898" y="6739"/>
                  <a:pt x="12898" y="6821"/>
                </a:cubicBezTo>
              </a:path>
              <a:path w="4417" h="919">
                <a:moveTo>
                  <a:pt x="12923" y="6648"/>
                </a:moveTo>
                <a:cubicBezTo>
                  <a:pt x="12913" y="6733"/>
                  <a:pt x="12898" y="6808"/>
                  <a:pt x="12898" y="6896"/>
                </a:cubicBezTo>
                <a:cubicBezTo>
                  <a:pt x="12898" y="6968"/>
                  <a:pt x="12875" y="7112"/>
                  <a:pt x="12923" y="7144"/>
                </a:cubicBezTo>
              </a:path>
              <a:path w="4417" h="919">
                <a:moveTo>
                  <a:pt x="13221" y="6648"/>
                </a:moveTo>
                <a:cubicBezTo>
                  <a:pt x="13320" y="6648"/>
                  <a:pt x="13420" y="6648"/>
                  <a:pt x="13519" y="6648"/>
                </a:cubicBezTo>
              </a:path>
              <a:path w="4417" h="919">
                <a:moveTo>
                  <a:pt x="13271" y="6821"/>
                </a:moveTo>
                <a:cubicBezTo>
                  <a:pt x="13355" y="6839"/>
                  <a:pt x="13455" y="6863"/>
                  <a:pt x="13543" y="6846"/>
                </a:cubicBezTo>
                <a:cubicBezTo>
                  <a:pt x="13568" y="6838"/>
                  <a:pt x="13593" y="6829"/>
                  <a:pt x="13618" y="6821"/>
                </a:cubicBezTo>
              </a:path>
              <a:path w="4417" h="919">
                <a:moveTo>
                  <a:pt x="14015" y="6400"/>
                </a:moveTo>
                <a:cubicBezTo>
                  <a:pt x="13976" y="6476"/>
                  <a:pt x="13928" y="6562"/>
                  <a:pt x="13915" y="6648"/>
                </a:cubicBezTo>
                <a:cubicBezTo>
                  <a:pt x="13903" y="6729"/>
                  <a:pt x="13919" y="6804"/>
                  <a:pt x="13965" y="6871"/>
                </a:cubicBezTo>
                <a:cubicBezTo>
                  <a:pt x="14002" y="6925"/>
                  <a:pt x="14080" y="6942"/>
                  <a:pt x="14139" y="6945"/>
                </a:cubicBezTo>
                <a:cubicBezTo>
                  <a:pt x="14251" y="6951"/>
                  <a:pt x="14296" y="6869"/>
                  <a:pt x="14362" y="6796"/>
                </a:cubicBezTo>
                <a:cubicBezTo>
                  <a:pt x="14454" y="6695"/>
                  <a:pt x="14525" y="6598"/>
                  <a:pt x="14511" y="6474"/>
                </a:cubicBezTo>
                <a:cubicBezTo>
                  <a:pt x="14501" y="6380"/>
                  <a:pt x="14383" y="6315"/>
                  <a:pt x="14288" y="6300"/>
                </a:cubicBezTo>
                <a:cubicBezTo>
                  <a:pt x="14222" y="6290"/>
                  <a:pt x="14155" y="6319"/>
                  <a:pt x="14089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8"/>
          <p:cNvSpPr/>
          <p:nvPr/>
        </p:nvSpPr>
        <p:spPr>
          <a:xfrm>
            <a:off x="5464080" y="2125800"/>
            <a:ext cx="1046160" cy="303120"/>
          </a:xfrm>
          <a:custGeom>
            <a:avLst/>
            <a:gdLst/>
            <a:ahLst/>
            <a:rect l="l" t="t" r="r" b="b"/>
            <a:pathLst>
              <a:path w="2904" h="844">
                <a:moveTo>
                  <a:pt x="15304" y="6226"/>
                </a:moveTo>
                <a:cubicBezTo>
                  <a:pt x="15323" y="6293"/>
                  <a:pt x="15369" y="6343"/>
                  <a:pt x="15404" y="6424"/>
                </a:cubicBezTo>
                <a:cubicBezTo>
                  <a:pt x="15428" y="6480"/>
                  <a:pt x="15486" y="6607"/>
                  <a:pt x="15528" y="6648"/>
                </a:cubicBezTo>
                <a:cubicBezTo>
                  <a:pt x="15562" y="6682"/>
                  <a:pt x="15632" y="6713"/>
                  <a:pt x="15677" y="6722"/>
                </a:cubicBezTo>
              </a:path>
              <a:path w="2904" h="844">
                <a:moveTo>
                  <a:pt x="15503" y="6127"/>
                </a:moveTo>
                <a:cubicBezTo>
                  <a:pt x="15448" y="6244"/>
                  <a:pt x="15421" y="6366"/>
                  <a:pt x="15354" y="6474"/>
                </a:cubicBezTo>
                <a:cubicBezTo>
                  <a:pt x="15309" y="6548"/>
                  <a:pt x="15251" y="6603"/>
                  <a:pt x="15205" y="6672"/>
                </a:cubicBezTo>
                <a:cubicBezTo>
                  <a:pt x="15185" y="6713"/>
                  <a:pt x="15176" y="6719"/>
                  <a:pt x="15180" y="6747"/>
                </a:cubicBezTo>
              </a:path>
              <a:path w="2904" h="844">
                <a:moveTo>
                  <a:pt x="15652" y="6325"/>
                </a:moveTo>
                <a:cubicBezTo>
                  <a:pt x="15743" y="6325"/>
                  <a:pt x="15834" y="6325"/>
                  <a:pt x="15925" y="6325"/>
                </a:cubicBezTo>
              </a:path>
              <a:path w="2904" h="844">
                <a:moveTo>
                  <a:pt x="15776" y="6474"/>
                </a:moveTo>
                <a:cubicBezTo>
                  <a:pt x="15839" y="6498"/>
                  <a:pt x="15881" y="6499"/>
                  <a:pt x="15949" y="6499"/>
                </a:cubicBezTo>
              </a:path>
              <a:path w="2904" h="844">
                <a:moveTo>
                  <a:pt x="16148" y="6251"/>
                </a:moveTo>
                <a:cubicBezTo>
                  <a:pt x="16246" y="6257"/>
                  <a:pt x="16304" y="6268"/>
                  <a:pt x="16396" y="6276"/>
                </a:cubicBezTo>
              </a:path>
              <a:path w="2904" h="844">
                <a:moveTo>
                  <a:pt x="16594" y="6152"/>
                </a:moveTo>
                <a:cubicBezTo>
                  <a:pt x="16541" y="6219"/>
                  <a:pt x="16536" y="6246"/>
                  <a:pt x="16570" y="6325"/>
                </a:cubicBezTo>
                <a:cubicBezTo>
                  <a:pt x="16610" y="6418"/>
                  <a:pt x="16663" y="6405"/>
                  <a:pt x="16743" y="6375"/>
                </a:cubicBezTo>
              </a:path>
              <a:path w="2904" h="844">
                <a:moveTo>
                  <a:pt x="16818" y="6003"/>
                </a:moveTo>
                <a:cubicBezTo>
                  <a:pt x="16751" y="6069"/>
                  <a:pt x="16722" y="6103"/>
                  <a:pt x="16718" y="6201"/>
                </a:cubicBezTo>
                <a:cubicBezTo>
                  <a:pt x="16715" y="6284"/>
                  <a:pt x="16683" y="6368"/>
                  <a:pt x="16718" y="6449"/>
                </a:cubicBezTo>
                <a:cubicBezTo>
                  <a:pt x="16740" y="6500"/>
                  <a:pt x="16743" y="6535"/>
                  <a:pt x="16743" y="6598"/>
                </a:cubicBezTo>
              </a:path>
              <a:path w="2904" h="844">
                <a:moveTo>
                  <a:pt x="16966" y="6499"/>
                </a:moveTo>
                <a:cubicBezTo>
                  <a:pt x="16957" y="6561"/>
                  <a:pt x="16944" y="6611"/>
                  <a:pt x="16917" y="6672"/>
                </a:cubicBezTo>
                <a:cubicBezTo>
                  <a:pt x="16897" y="6713"/>
                  <a:pt x="16888" y="6719"/>
                  <a:pt x="16892" y="6747"/>
                </a:cubicBezTo>
              </a:path>
              <a:path w="2904" h="844">
                <a:moveTo>
                  <a:pt x="17239" y="6152"/>
                </a:moveTo>
                <a:cubicBezTo>
                  <a:pt x="17212" y="6231"/>
                  <a:pt x="17158" y="6320"/>
                  <a:pt x="17140" y="6400"/>
                </a:cubicBezTo>
                <a:cubicBezTo>
                  <a:pt x="17132" y="6436"/>
                  <a:pt x="17175" y="6534"/>
                  <a:pt x="17214" y="6548"/>
                </a:cubicBezTo>
                <a:cubicBezTo>
                  <a:pt x="17296" y="6577"/>
                  <a:pt x="17357" y="6482"/>
                  <a:pt x="17388" y="6424"/>
                </a:cubicBezTo>
                <a:cubicBezTo>
                  <a:pt x="17425" y="6355"/>
                  <a:pt x="17477" y="6256"/>
                  <a:pt x="17462" y="6176"/>
                </a:cubicBezTo>
                <a:cubicBezTo>
                  <a:pt x="17453" y="6126"/>
                  <a:pt x="17387" y="6064"/>
                  <a:pt x="17338" y="6052"/>
                </a:cubicBezTo>
                <a:cubicBezTo>
                  <a:pt x="17282" y="6039"/>
                  <a:pt x="17203" y="6077"/>
                  <a:pt x="17140" y="6077"/>
                </a:cubicBezTo>
              </a:path>
              <a:path w="2904" h="844">
                <a:moveTo>
                  <a:pt x="16272" y="5953"/>
                </a:moveTo>
                <a:cubicBezTo>
                  <a:pt x="16203" y="6056"/>
                  <a:pt x="16171" y="6139"/>
                  <a:pt x="16123" y="6251"/>
                </a:cubicBezTo>
                <a:cubicBezTo>
                  <a:pt x="16084" y="6341"/>
                  <a:pt x="16089" y="6431"/>
                  <a:pt x="16123" y="6524"/>
                </a:cubicBezTo>
                <a:cubicBezTo>
                  <a:pt x="16160" y="6626"/>
                  <a:pt x="16255" y="6659"/>
                  <a:pt x="16346" y="6697"/>
                </a:cubicBezTo>
              </a:path>
              <a:path w="2904" h="844">
                <a:moveTo>
                  <a:pt x="17686" y="5904"/>
                </a:moveTo>
                <a:cubicBezTo>
                  <a:pt x="17725" y="6050"/>
                  <a:pt x="17752" y="6197"/>
                  <a:pt x="17735" y="6350"/>
                </a:cubicBezTo>
                <a:cubicBezTo>
                  <a:pt x="17722" y="6471"/>
                  <a:pt x="17663" y="6583"/>
                  <a:pt x="17587" y="6672"/>
                </a:cubicBezTo>
                <a:cubicBezTo>
                  <a:pt x="17557" y="6707"/>
                  <a:pt x="17529" y="6737"/>
                  <a:pt x="17487" y="6747"/>
                </a:cubicBezTo>
              </a:path>
              <a:path w="2904" h="844">
                <a:moveTo>
                  <a:pt x="18008" y="5904"/>
                </a:moveTo>
                <a:cubicBezTo>
                  <a:pt x="17958" y="6012"/>
                  <a:pt x="17900" y="6115"/>
                  <a:pt x="17859" y="6226"/>
                </a:cubicBezTo>
                <a:cubicBezTo>
                  <a:pt x="17827" y="6313"/>
                  <a:pt x="17822" y="6391"/>
                  <a:pt x="17859" y="6474"/>
                </a:cubicBezTo>
                <a:cubicBezTo>
                  <a:pt x="17885" y="6534"/>
                  <a:pt x="17915" y="6600"/>
                  <a:pt x="17959" y="6648"/>
                </a:cubicBezTo>
                <a:cubicBezTo>
                  <a:pt x="18004" y="6696"/>
                  <a:pt x="18028" y="6715"/>
                  <a:pt x="18083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9"/>
          <p:cNvSpPr/>
          <p:nvPr/>
        </p:nvSpPr>
        <p:spPr>
          <a:xfrm>
            <a:off x="6626160" y="21160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8479" y="6052"/>
                </a:moveTo>
                <a:cubicBezTo>
                  <a:pt x="18472" y="6188"/>
                  <a:pt x="18443" y="6314"/>
                  <a:pt x="18430" y="6449"/>
                </a:cubicBezTo>
                <a:cubicBezTo>
                  <a:pt x="18422" y="6528"/>
                  <a:pt x="18391" y="6583"/>
                  <a:pt x="18430" y="6648"/>
                </a:cubicBezTo>
              </a:path>
              <a:path w="770" h="894">
                <a:moveTo>
                  <a:pt x="18579" y="6499"/>
                </a:moveTo>
                <a:cubicBezTo>
                  <a:pt x="18560" y="6593"/>
                  <a:pt x="18540" y="6680"/>
                  <a:pt x="18529" y="6772"/>
                </a:cubicBezTo>
              </a:path>
              <a:path w="770" h="894">
                <a:moveTo>
                  <a:pt x="18852" y="6127"/>
                </a:moveTo>
                <a:cubicBezTo>
                  <a:pt x="18813" y="6225"/>
                  <a:pt x="18738" y="6349"/>
                  <a:pt x="18728" y="6449"/>
                </a:cubicBezTo>
                <a:cubicBezTo>
                  <a:pt x="18719" y="6540"/>
                  <a:pt x="18783" y="6596"/>
                  <a:pt x="18876" y="6573"/>
                </a:cubicBezTo>
                <a:cubicBezTo>
                  <a:pt x="18921" y="6562"/>
                  <a:pt x="18971" y="6410"/>
                  <a:pt x="18976" y="6375"/>
                </a:cubicBezTo>
                <a:cubicBezTo>
                  <a:pt x="18986" y="6312"/>
                  <a:pt x="18989" y="6199"/>
                  <a:pt x="18951" y="6152"/>
                </a:cubicBezTo>
                <a:cubicBezTo>
                  <a:pt x="18872" y="6055"/>
                  <a:pt x="18825" y="6112"/>
                  <a:pt x="18728" y="6077"/>
                </a:cubicBezTo>
                <a:cubicBezTo>
                  <a:pt x="18700" y="6049"/>
                  <a:pt x="18686" y="6040"/>
                  <a:pt x="18653" y="6052"/>
                </a:cubicBezTo>
              </a:path>
              <a:path w="770" h="894">
                <a:moveTo>
                  <a:pt x="19050" y="5879"/>
                </a:moveTo>
                <a:cubicBezTo>
                  <a:pt x="19104" y="6026"/>
                  <a:pt x="19183" y="6191"/>
                  <a:pt x="19174" y="6350"/>
                </a:cubicBezTo>
                <a:cubicBezTo>
                  <a:pt x="19170" y="6415"/>
                  <a:pt x="19155" y="6572"/>
                  <a:pt x="19100" y="6623"/>
                </a:cubicBezTo>
                <a:cubicBezTo>
                  <a:pt x="19083" y="6631"/>
                  <a:pt x="19067" y="6640"/>
                  <a:pt x="19050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10"/>
          <p:cNvSpPr/>
          <p:nvPr/>
        </p:nvSpPr>
        <p:spPr>
          <a:xfrm>
            <a:off x="3456000" y="2527200"/>
            <a:ext cx="1330200" cy="303480"/>
          </a:xfrm>
          <a:custGeom>
            <a:avLst/>
            <a:gdLst/>
            <a:ahLst/>
            <a:rect l="l" t="t" r="r" b="b"/>
            <a:pathLst>
              <a:path w="3697" h="844">
                <a:moveTo>
                  <a:pt x="9847" y="7020"/>
                </a:moveTo>
                <a:cubicBezTo>
                  <a:pt x="9811" y="7084"/>
                  <a:pt x="9763" y="7133"/>
                  <a:pt x="9723" y="7193"/>
                </a:cubicBezTo>
                <a:cubicBezTo>
                  <a:pt x="9678" y="7261"/>
                  <a:pt x="9613" y="7359"/>
                  <a:pt x="9599" y="7441"/>
                </a:cubicBezTo>
                <a:cubicBezTo>
                  <a:pt x="9581" y="7551"/>
                  <a:pt x="9603" y="7634"/>
                  <a:pt x="9674" y="7714"/>
                </a:cubicBezTo>
                <a:cubicBezTo>
                  <a:pt x="9727" y="7774"/>
                  <a:pt x="9782" y="7816"/>
                  <a:pt x="9847" y="7863"/>
                </a:cubicBezTo>
              </a:path>
              <a:path w="3697" h="844">
                <a:moveTo>
                  <a:pt x="11733" y="7144"/>
                </a:moveTo>
                <a:cubicBezTo>
                  <a:pt x="11792" y="7204"/>
                  <a:pt x="11804" y="7229"/>
                  <a:pt x="11807" y="7317"/>
                </a:cubicBezTo>
                <a:cubicBezTo>
                  <a:pt x="11810" y="7403"/>
                  <a:pt x="11780" y="7541"/>
                  <a:pt x="11733" y="7615"/>
                </a:cubicBezTo>
                <a:cubicBezTo>
                  <a:pt x="11701" y="7666"/>
                  <a:pt x="11652" y="7720"/>
                  <a:pt x="11609" y="7764"/>
                </a:cubicBezTo>
                <a:cubicBezTo>
                  <a:pt x="11587" y="7786"/>
                  <a:pt x="11578" y="7791"/>
                  <a:pt x="11584" y="7813"/>
                </a:cubicBezTo>
              </a:path>
              <a:path w="3697" h="844">
                <a:moveTo>
                  <a:pt x="12105" y="7193"/>
                </a:moveTo>
                <a:cubicBezTo>
                  <a:pt x="12011" y="7287"/>
                  <a:pt x="11938" y="7331"/>
                  <a:pt x="11931" y="7466"/>
                </a:cubicBezTo>
                <a:cubicBezTo>
                  <a:pt x="11927" y="7550"/>
                  <a:pt x="11933" y="7610"/>
                  <a:pt x="12005" y="7665"/>
                </a:cubicBezTo>
                <a:cubicBezTo>
                  <a:pt x="12091" y="7730"/>
                  <a:pt x="12167" y="7753"/>
                  <a:pt x="12278" y="7764"/>
                </a:cubicBezTo>
                <a:cubicBezTo>
                  <a:pt x="12303" y="7764"/>
                  <a:pt x="12328" y="7764"/>
                  <a:pt x="12353" y="7764"/>
                </a:cubicBezTo>
              </a:path>
              <a:path w="3697" h="844">
                <a:moveTo>
                  <a:pt x="9922" y="7293"/>
                </a:moveTo>
                <a:cubicBezTo>
                  <a:pt x="9966" y="7337"/>
                  <a:pt x="10012" y="7390"/>
                  <a:pt x="10046" y="7441"/>
                </a:cubicBezTo>
                <a:cubicBezTo>
                  <a:pt x="10097" y="7517"/>
                  <a:pt x="10155" y="7574"/>
                  <a:pt x="10220" y="7640"/>
                </a:cubicBezTo>
                <a:cubicBezTo>
                  <a:pt x="10249" y="7670"/>
                  <a:pt x="10260" y="7684"/>
                  <a:pt x="10269" y="7714"/>
                </a:cubicBezTo>
              </a:path>
              <a:path w="3697" h="844">
                <a:moveTo>
                  <a:pt x="10294" y="7144"/>
                </a:moveTo>
                <a:cubicBezTo>
                  <a:pt x="10227" y="7235"/>
                  <a:pt x="10159" y="7322"/>
                  <a:pt x="10096" y="7417"/>
                </a:cubicBezTo>
                <a:cubicBezTo>
                  <a:pt x="10041" y="7500"/>
                  <a:pt x="9975" y="7582"/>
                  <a:pt x="9922" y="7665"/>
                </a:cubicBezTo>
                <a:cubicBezTo>
                  <a:pt x="9897" y="7714"/>
                  <a:pt x="9889" y="7731"/>
                  <a:pt x="9922" y="7764"/>
                </a:cubicBezTo>
              </a:path>
              <a:path w="3697" h="844">
                <a:moveTo>
                  <a:pt x="12179" y="7243"/>
                </a:moveTo>
                <a:cubicBezTo>
                  <a:pt x="12225" y="7300"/>
                  <a:pt x="12251" y="7362"/>
                  <a:pt x="12303" y="7417"/>
                </a:cubicBezTo>
                <a:cubicBezTo>
                  <a:pt x="12376" y="7494"/>
                  <a:pt x="12446" y="7533"/>
                  <a:pt x="12526" y="7590"/>
                </a:cubicBezTo>
                <a:cubicBezTo>
                  <a:pt x="12598" y="7641"/>
                  <a:pt x="12587" y="7640"/>
                  <a:pt x="12675" y="7640"/>
                </a:cubicBezTo>
              </a:path>
              <a:path w="3697" h="844">
                <a:moveTo>
                  <a:pt x="12353" y="7193"/>
                </a:moveTo>
                <a:cubicBezTo>
                  <a:pt x="12230" y="7299"/>
                  <a:pt x="12127" y="7417"/>
                  <a:pt x="12005" y="7516"/>
                </a:cubicBezTo>
              </a:path>
              <a:path w="3697" h="844">
                <a:moveTo>
                  <a:pt x="10641" y="7317"/>
                </a:moveTo>
                <a:cubicBezTo>
                  <a:pt x="10676" y="7434"/>
                  <a:pt x="10691" y="7445"/>
                  <a:pt x="10691" y="7541"/>
                </a:cubicBezTo>
              </a:path>
              <a:path w="3697" h="844">
                <a:moveTo>
                  <a:pt x="10492" y="7317"/>
                </a:moveTo>
                <a:cubicBezTo>
                  <a:pt x="10609" y="7337"/>
                  <a:pt x="10723" y="7363"/>
                  <a:pt x="10840" y="7367"/>
                </a:cubicBezTo>
                <a:cubicBezTo>
                  <a:pt x="10865" y="7367"/>
                  <a:pt x="10889" y="7367"/>
                  <a:pt x="10914" y="7367"/>
                </a:cubicBezTo>
              </a:path>
              <a:path w="3697" h="844">
                <a:moveTo>
                  <a:pt x="11336" y="7094"/>
                </a:moveTo>
                <a:cubicBezTo>
                  <a:pt x="11342" y="7223"/>
                  <a:pt x="11361" y="7337"/>
                  <a:pt x="11361" y="7466"/>
                </a:cubicBezTo>
                <a:cubicBezTo>
                  <a:pt x="11361" y="7524"/>
                  <a:pt x="11361" y="7582"/>
                  <a:pt x="11361" y="7640"/>
                </a:cubicBezTo>
              </a:path>
              <a:path w="3697" h="844">
                <a:moveTo>
                  <a:pt x="11088" y="7094"/>
                </a:moveTo>
                <a:cubicBezTo>
                  <a:pt x="11088" y="7143"/>
                  <a:pt x="11074" y="7245"/>
                  <a:pt x="11137" y="7268"/>
                </a:cubicBezTo>
                <a:cubicBezTo>
                  <a:pt x="11218" y="7297"/>
                  <a:pt x="11357" y="7264"/>
                  <a:pt x="11435" y="7243"/>
                </a:cubicBezTo>
              </a:path>
              <a:path w="3697" h="844">
                <a:moveTo>
                  <a:pt x="12675" y="7342"/>
                </a:moveTo>
                <a:cubicBezTo>
                  <a:pt x="12791" y="7342"/>
                  <a:pt x="12906" y="7342"/>
                  <a:pt x="13022" y="7342"/>
                </a:cubicBezTo>
              </a:path>
              <a:path w="3697" h="844">
                <a:moveTo>
                  <a:pt x="13271" y="7045"/>
                </a:moveTo>
                <a:cubicBezTo>
                  <a:pt x="13296" y="7172"/>
                  <a:pt x="13284" y="7244"/>
                  <a:pt x="13271" y="7367"/>
                </a:cubicBezTo>
                <a:cubicBezTo>
                  <a:pt x="13264" y="7432"/>
                  <a:pt x="13288" y="7479"/>
                  <a:pt x="13295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1"/>
          <p:cNvSpPr/>
          <p:nvPr/>
        </p:nvSpPr>
        <p:spPr>
          <a:xfrm>
            <a:off x="5000760" y="2500200"/>
            <a:ext cx="71280" cy="26856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13891" y="6945"/>
                </a:moveTo>
                <a:cubicBezTo>
                  <a:pt x="13962" y="7018"/>
                  <a:pt x="14005" y="7094"/>
                  <a:pt x="14039" y="7193"/>
                </a:cubicBezTo>
                <a:cubicBezTo>
                  <a:pt x="14084" y="7326"/>
                  <a:pt x="14089" y="7451"/>
                  <a:pt x="14089" y="7590"/>
                </a:cubicBezTo>
                <a:cubicBezTo>
                  <a:pt x="14089" y="7696"/>
                  <a:pt x="14031" y="7682"/>
                  <a:pt x="13940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2"/>
          <p:cNvSpPr/>
          <p:nvPr/>
        </p:nvSpPr>
        <p:spPr>
          <a:xfrm>
            <a:off x="6018120" y="1054080"/>
            <a:ext cx="1455840" cy="411120"/>
          </a:xfrm>
          <a:custGeom>
            <a:avLst/>
            <a:gdLst/>
            <a:ahLst/>
            <a:rect l="l" t="t" r="r" b="b"/>
            <a:pathLst>
              <a:path w="4045" h="1142">
                <a:moveTo>
                  <a:pt x="16793" y="3274"/>
                </a:moveTo>
                <a:cubicBezTo>
                  <a:pt x="16837" y="3372"/>
                  <a:pt x="16881" y="3470"/>
                  <a:pt x="16917" y="3572"/>
                </a:cubicBezTo>
                <a:cubicBezTo>
                  <a:pt x="16950" y="3667"/>
                  <a:pt x="17009" y="3740"/>
                  <a:pt x="17066" y="3820"/>
                </a:cubicBezTo>
                <a:cubicBezTo>
                  <a:pt x="17132" y="3913"/>
                  <a:pt x="17175" y="3934"/>
                  <a:pt x="17264" y="3994"/>
                </a:cubicBezTo>
                <a:cubicBezTo>
                  <a:pt x="17320" y="4032"/>
                  <a:pt x="17344" y="4043"/>
                  <a:pt x="17413" y="4043"/>
                </a:cubicBezTo>
              </a:path>
              <a:path w="4045" h="1142">
                <a:moveTo>
                  <a:pt x="17239" y="3175"/>
                </a:moveTo>
                <a:cubicBezTo>
                  <a:pt x="17195" y="3279"/>
                  <a:pt x="17140" y="3376"/>
                  <a:pt x="17090" y="3473"/>
                </a:cubicBezTo>
                <a:cubicBezTo>
                  <a:pt x="17036" y="3577"/>
                  <a:pt x="16964" y="3703"/>
                  <a:pt x="16892" y="3795"/>
                </a:cubicBezTo>
                <a:cubicBezTo>
                  <a:pt x="16837" y="3866"/>
                  <a:pt x="16820" y="3944"/>
                  <a:pt x="16768" y="4018"/>
                </a:cubicBezTo>
                <a:cubicBezTo>
                  <a:pt x="16729" y="4073"/>
                  <a:pt x="16730" y="4080"/>
                  <a:pt x="16718" y="4018"/>
                </a:cubicBezTo>
              </a:path>
              <a:path w="4045" h="1142">
                <a:moveTo>
                  <a:pt x="17438" y="2977"/>
                </a:moveTo>
                <a:cubicBezTo>
                  <a:pt x="17550" y="2915"/>
                  <a:pt x="17565" y="2913"/>
                  <a:pt x="17661" y="3001"/>
                </a:cubicBezTo>
                <a:cubicBezTo>
                  <a:pt x="17704" y="3040"/>
                  <a:pt x="17698" y="3155"/>
                  <a:pt x="17661" y="3200"/>
                </a:cubicBezTo>
                <a:cubicBezTo>
                  <a:pt x="17625" y="3244"/>
                  <a:pt x="17566" y="3293"/>
                  <a:pt x="17512" y="3324"/>
                </a:cubicBezTo>
                <a:cubicBezTo>
                  <a:pt x="17599" y="3376"/>
                  <a:pt x="17662" y="3339"/>
                  <a:pt x="17760" y="3299"/>
                </a:cubicBezTo>
                <a:cubicBezTo>
                  <a:pt x="17777" y="3291"/>
                  <a:pt x="17793" y="3282"/>
                  <a:pt x="17810" y="3274"/>
                </a:cubicBezTo>
              </a:path>
              <a:path w="4045" h="1142">
                <a:moveTo>
                  <a:pt x="18033" y="3299"/>
                </a:moveTo>
                <a:cubicBezTo>
                  <a:pt x="17997" y="3435"/>
                  <a:pt x="17983" y="3493"/>
                  <a:pt x="17983" y="3621"/>
                </a:cubicBezTo>
                <a:cubicBezTo>
                  <a:pt x="17983" y="3678"/>
                  <a:pt x="17984" y="3747"/>
                  <a:pt x="18008" y="3795"/>
                </a:cubicBezTo>
                <a:cubicBezTo>
                  <a:pt x="18016" y="3803"/>
                  <a:pt x="18025" y="3812"/>
                  <a:pt x="18033" y="3820"/>
                </a:cubicBezTo>
              </a:path>
              <a:path w="4045" h="1142">
                <a:moveTo>
                  <a:pt x="17760" y="3597"/>
                </a:moveTo>
                <a:cubicBezTo>
                  <a:pt x="17858" y="3597"/>
                  <a:pt x="17963" y="3590"/>
                  <a:pt x="18058" y="3572"/>
                </a:cubicBezTo>
                <a:cubicBezTo>
                  <a:pt x="18127" y="3559"/>
                  <a:pt x="18191" y="3544"/>
                  <a:pt x="18256" y="3522"/>
                </a:cubicBezTo>
              </a:path>
              <a:path w="4045" h="1142">
                <a:moveTo>
                  <a:pt x="18479" y="3150"/>
                </a:moveTo>
                <a:cubicBezTo>
                  <a:pt x="18575" y="3084"/>
                  <a:pt x="18692" y="2978"/>
                  <a:pt x="18827" y="3026"/>
                </a:cubicBezTo>
                <a:cubicBezTo>
                  <a:pt x="18887" y="3047"/>
                  <a:pt x="18893" y="3113"/>
                  <a:pt x="18876" y="3150"/>
                </a:cubicBezTo>
                <a:cubicBezTo>
                  <a:pt x="18836" y="3238"/>
                  <a:pt x="18799" y="3265"/>
                  <a:pt x="18728" y="3324"/>
                </a:cubicBezTo>
                <a:cubicBezTo>
                  <a:pt x="18665" y="3376"/>
                  <a:pt x="18601" y="3410"/>
                  <a:pt x="18529" y="3448"/>
                </a:cubicBezTo>
                <a:cubicBezTo>
                  <a:pt x="18512" y="3456"/>
                  <a:pt x="18496" y="3465"/>
                  <a:pt x="18479" y="3473"/>
                </a:cubicBezTo>
                <a:cubicBezTo>
                  <a:pt x="18525" y="3445"/>
                  <a:pt x="18571" y="3426"/>
                  <a:pt x="18628" y="3423"/>
                </a:cubicBezTo>
                <a:cubicBezTo>
                  <a:pt x="18697" y="3420"/>
                  <a:pt x="18796" y="3447"/>
                  <a:pt x="18827" y="3522"/>
                </a:cubicBezTo>
                <a:cubicBezTo>
                  <a:pt x="18856" y="3593"/>
                  <a:pt x="18839" y="3624"/>
                  <a:pt x="18827" y="3696"/>
                </a:cubicBezTo>
                <a:cubicBezTo>
                  <a:pt x="18811" y="3793"/>
                  <a:pt x="18792" y="3800"/>
                  <a:pt x="18703" y="3845"/>
                </a:cubicBezTo>
                <a:cubicBezTo>
                  <a:pt x="18643" y="3875"/>
                  <a:pt x="18570" y="3890"/>
                  <a:pt x="18504" y="3894"/>
                </a:cubicBezTo>
                <a:cubicBezTo>
                  <a:pt x="18434" y="3898"/>
                  <a:pt x="18370" y="3866"/>
                  <a:pt x="18405" y="3795"/>
                </a:cubicBezTo>
                <a:cubicBezTo>
                  <a:pt x="18413" y="3787"/>
                  <a:pt x="18422" y="3778"/>
                  <a:pt x="18430" y="3770"/>
                </a:cubicBezTo>
              </a:path>
              <a:path w="4045" h="1142">
                <a:moveTo>
                  <a:pt x="19075" y="3448"/>
                </a:moveTo>
                <a:cubicBezTo>
                  <a:pt x="19100" y="3555"/>
                  <a:pt x="19126" y="3647"/>
                  <a:pt x="19174" y="3746"/>
                </a:cubicBezTo>
                <a:cubicBezTo>
                  <a:pt x="19205" y="3811"/>
                  <a:pt x="19252" y="3891"/>
                  <a:pt x="19323" y="3919"/>
                </a:cubicBezTo>
                <a:cubicBezTo>
                  <a:pt x="19413" y="3954"/>
                  <a:pt x="19494" y="3945"/>
                  <a:pt x="19571" y="3894"/>
                </a:cubicBezTo>
              </a:path>
              <a:path w="4045" h="1142">
                <a:moveTo>
                  <a:pt x="19472" y="3423"/>
                </a:moveTo>
                <a:cubicBezTo>
                  <a:pt x="19362" y="3548"/>
                  <a:pt x="19245" y="3686"/>
                  <a:pt x="19124" y="3795"/>
                </a:cubicBezTo>
                <a:cubicBezTo>
                  <a:pt x="19062" y="3851"/>
                  <a:pt x="18891" y="4027"/>
                  <a:pt x="18951" y="3969"/>
                </a:cubicBezTo>
                <a:cubicBezTo>
                  <a:pt x="18959" y="3961"/>
                  <a:pt x="18968" y="3952"/>
                  <a:pt x="18976" y="3944"/>
                </a:cubicBezTo>
              </a:path>
              <a:path w="4045" h="1142">
                <a:moveTo>
                  <a:pt x="19621" y="3522"/>
                </a:moveTo>
                <a:cubicBezTo>
                  <a:pt x="19777" y="3522"/>
                  <a:pt x="19971" y="3552"/>
                  <a:pt x="20117" y="3497"/>
                </a:cubicBezTo>
              </a:path>
              <a:path w="4045" h="1142">
                <a:moveTo>
                  <a:pt x="20265" y="3125"/>
                </a:moveTo>
                <a:cubicBezTo>
                  <a:pt x="20265" y="3223"/>
                  <a:pt x="20260" y="3242"/>
                  <a:pt x="20216" y="3324"/>
                </a:cubicBezTo>
                <a:cubicBezTo>
                  <a:pt x="20176" y="3399"/>
                  <a:pt x="20175" y="3462"/>
                  <a:pt x="20265" y="3473"/>
                </a:cubicBezTo>
                <a:cubicBezTo>
                  <a:pt x="20368" y="3485"/>
                  <a:pt x="20464" y="3462"/>
                  <a:pt x="20563" y="3448"/>
                </a:cubicBezTo>
                <a:cubicBezTo>
                  <a:pt x="20620" y="3448"/>
                  <a:pt x="20641" y="3443"/>
                  <a:pt x="20662" y="3398"/>
                </a:cubicBezTo>
              </a:path>
              <a:path w="4045" h="1142">
                <a:moveTo>
                  <a:pt x="20762" y="2977"/>
                </a:moveTo>
                <a:cubicBezTo>
                  <a:pt x="20730" y="3030"/>
                  <a:pt x="20718" y="3133"/>
                  <a:pt x="20712" y="3200"/>
                </a:cubicBezTo>
                <a:cubicBezTo>
                  <a:pt x="20696" y="3366"/>
                  <a:pt x="20717" y="3538"/>
                  <a:pt x="20737" y="3696"/>
                </a:cubicBezTo>
                <a:cubicBezTo>
                  <a:pt x="20747" y="3774"/>
                  <a:pt x="20762" y="3839"/>
                  <a:pt x="20762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3"/>
          <p:cNvSpPr/>
          <p:nvPr/>
        </p:nvSpPr>
        <p:spPr>
          <a:xfrm>
            <a:off x="5018040" y="2776680"/>
            <a:ext cx="393840" cy="411120"/>
          </a:xfrm>
          <a:custGeom>
            <a:avLst/>
            <a:gdLst/>
            <a:ahLst/>
            <a:rect l="l" t="t" r="r" b="b"/>
            <a:pathLst>
              <a:path w="1093" h="1142">
                <a:moveTo>
                  <a:pt x="13990" y="8260"/>
                </a:moveTo>
                <a:cubicBezTo>
                  <a:pt x="13973" y="8260"/>
                  <a:pt x="13957" y="8260"/>
                  <a:pt x="13940" y="8260"/>
                </a:cubicBezTo>
                <a:cubicBezTo>
                  <a:pt x="14022" y="8260"/>
                  <a:pt x="14085" y="8276"/>
                  <a:pt x="14163" y="8285"/>
                </a:cubicBezTo>
                <a:cubicBezTo>
                  <a:pt x="14255" y="8296"/>
                  <a:pt x="14326" y="8265"/>
                  <a:pt x="14412" y="8260"/>
                </a:cubicBezTo>
                <a:cubicBezTo>
                  <a:pt x="14488" y="8256"/>
                  <a:pt x="14539" y="8262"/>
                  <a:pt x="14610" y="8235"/>
                </a:cubicBezTo>
              </a:path>
              <a:path w="1093" h="1142">
                <a:moveTo>
                  <a:pt x="15032" y="7714"/>
                </a:moveTo>
                <a:cubicBezTo>
                  <a:pt x="15024" y="7789"/>
                  <a:pt x="15025" y="7889"/>
                  <a:pt x="15007" y="7962"/>
                </a:cubicBezTo>
                <a:cubicBezTo>
                  <a:pt x="14987" y="8047"/>
                  <a:pt x="14982" y="8118"/>
                  <a:pt x="14982" y="8210"/>
                </a:cubicBezTo>
                <a:cubicBezTo>
                  <a:pt x="14982" y="8422"/>
                  <a:pt x="14956" y="8651"/>
                  <a:pt x="15007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14"/>
          <p:cNvSpPr/>
          <p:nvPr/>
        </p:nvSpPr>
        <p:spPr>
          <a:xfrm>
            <a:off x="4749840" y="3357720"/>
            <a:ext cx="1768320" cy="1071360"/>
          </a:xfrm>
          <a:custGeom>
            <a:avLst/>
            <a:gdLst/>
            <a:ahLst/>
            <a:rect l="l" t="t" r="r" b="b"/>
            <a:pathLst>
              <a:path w="4912" h="2977">
                <a:moveTo>
                  <a:pt x="15429" y="9674"/>
                </a:moveTo>
                <a:cubicBezTo>
                  <a:pt x="15438" y="9757"/>
                  <a:pt x="15453" y="9796"/>
                  <a:pt x="15453" y="9897"/>
                </a:cubicBezTo>
                <a:cubicBezTo>
                  <a:pt x="15453" y="10103"/>
                  <a:pt x="15463" y="10326"/>
                  <a:pt x="15429" y="10517"/>
                </a:cubicBezTo>
                <a:cubicBezTo>
                  <a:pt x="15429" y="10534"/>
                  <a:pt x="15429" y="10550"/>
                  <a:pt x="15429" y="10567"/>
                </a:cubicBezTo>
                <a:cubicBezTo>
                  <a:pt x="15382" y="10520"/>
                  <a:pt x="15419" y="10425"/>
                  <a:pt x="15404" y="10344"/>
                </a:cubicBezTo>
                <a:cubicBezTo>
                  <a:pt x="15382" y="10224"/>
                  <a:pt x="15389" y="10170"/>
                  <a:pt x="15404" y="10046"/>
                </a:cubicBezTo>
                <a:cubicBezTo>
                  <a:pt x="15413" y="9968"/>
                  <a:pt x="15408" y="9899"/>
                  <a:pt x="15429" y="9823"/>
                </a:cubicBezTo>
                <a:cubicBezTo>
                  <a:pt x="15450" y="9747"/>
                  <a:pt x="15496" y="9630"/>
                  <a:pt x="15577" y="9599"/>
                </a:cubicBezTo>
                <a:cubicBezTo>
                  <a:pt x="15665" y="9566"/>
                  <a:pt x="15685" y="9619"/>
                  <a:pt x="15726" y="9674"/>
                </a:cubicBezTo>
                <a:cubicBezTo>
                  <a:pt x="15785" y="9753"/>
                  <a:pt x="15786" y="9829"/>
                  <a:pt x="15801" y="9922"/>
                </a:cubicBezTo>
                <a:cubicBezTo>
                  <a:pt x="15819" y="10036"/>
                  <a:pt x="15825" y="10158"/>
                  <a:pt x="15850" y="10269"/>
                </a:cubicBezTo>
                <a:cubicBezTo>
                  <a:pt x="15877" y="10391"/>
                  <a:pt x="15890" y="10516"/>
                  <a:pt x="15900" y="10641"/>
                </a:cubicBezTo>
              </a:path>
              <a:path w="4912" h="2977">
                <a:moveTo>
                  <a:pt x="16247" y="9624"/>
                </a:moveTo>
                <a:cubicBezTo>
                  <a:pt x="16219" y="9687"/>
                  <a:pt x="16159" y="9787"/>
                  <a:pt x="16148" y="9847"/>
                </a:cubicBezTo>
                <a:cubicBezTo>
                  <a:pt x="16125" y="9970"/>
                  <a:pt x="16136" y="10155"/>
                  <a:pt x="16173" y="10269"/>
                </a:cubicBezTo>
                <a:cubicBezTo>
                  <a:pt x="16202" y="10357"/>
                  <a:pt x="16225" y="10455"/>
                  <a:pt x="16321" y="10492"/>
                </a:cubicBezTo>
                <a:cubicBezTo>
                  <a:pt x="16395" y="10521"/>
                  <a:pt x="16491" y="10461"/>
                  <a:pt x="16545" y="10418"/>
                </a:cubicBezTo>
                <a:cubicBezTo>
                  <a:pt x="16628" y="10352"/>
                  <a:pt x="16676" y="10248"/>
                  <a:pt x="16694" y="10145"/>
                </a:cubicBezTo>
                <a:cubicBezTo>
                  <a:pt x="16709" y="10061"/>
                  <a:pt x="16699" y="9898"/>
                  <a:pt x="16669" y="9823"/>
                </a:cubicBezTo>
                <a:cubicBezTo>
                  <a:pt x="16639" y="9747"/>
                  <a:pt x="16583" y="9624"/>
                  <a:pt x="16495" y="9599"/>
                </a:cubicBezTo>
                <a:cubicBezTo>
                  <a:pt x="16401" y="9572"/>
                  <a:pt x="16262" y="9612"/>
                  <a:pt x="16173" y="9624"/>
                </a:cubicBezTo>
                <a:cubicBezTo>
                  <a:pt x="16165" y="9624"/>
                  <a:pt x="16156" y="9624"/>
                  <a:pt x="16148" y="9624"/>
                </a:cubicBezTo>
              </a:path>
              <a:path w="4912" h="2977">
                <a:moveTo>
                  <a:pt x="16768" y="9500"/>
                </a:moveTo>
                <a:cubicBezTo>
                  <a:pt x="16768" y="9709"/>
                  <a:pt x="16768" y="9920"/>
                  <a:pt x="16793" y="10120"/>
                </a:cubicBezTo>
                <a:cubicBezTo>
                  <a:pt x="16804" y="10206"/>
                  <a:pt x="16795" y="10258"/>
                  <a:pt x="16818" y="10344"/>
                </a:cubicBezTo>
                <a:cubicBezTo>
                  <a:pt x="16792" y="10242"/>
                  <a:pt x="16793" y="10152"/>
                  <a:pt x="16793" y="10046"/>
                </a:cubicBezTo>
                <a:cubicBezTo>
                  <a:pt x="16793" y="9942"/>
                  <a:pt x="16805" y="9837"/>
                  <a:pt x="16818" y="9748"/>
                </a:cubicBezTo>
                <a:cubicBezTo>
                  <a:pt x="16829" y="9676"/>
                  <a:pt x="16830" y="9593"/>
                  <a:pt x="16867" y="9525"/>
                </a:cubicBezTo>
                <a:cubicBezTo>
                  <a:pt x="16908" y="9449"/>
                  <a:pt x="16934" y="9451"/>
                  <a:pt x="17016" y="9451"/>
                </a:cubicBezTo>
                <a:cubicBezTo>
                  <a:pt x="17152" y="9451"/>
                  <a:pt x="17126" y="9511"/>
                  <a:pt x="17165" y="9624"/>
                </a:cubicBezTo>
                <a:cubicBezTo>
                  <a:pt x="17198" y="9718"/>
                  <a:pt x="17210" y="9820"/>
                  <a:pt x="17214" y="9922"/>
                </a:cubicBezTo>
                <a:cubicBezTo>
                  <a:pt x="17218" y="10038"/>
                  <a:pt x="17192" y="10162"/>
                  <a:pt x="17239" y="10269"/>
                </a:cubicBezTo>
              </a:path>
              <a:path w="4912" h="2977">
                <a:moveTo>
                  <a:pt x="17289" y="9599"/>
                </a:moveTo>
                <a:cubicBezTo>
                  <a:pt x="17366" y="9610"/>
                  <a:pt x="17384" y="9665"/>
                  <a:pt x="17462" y="9674"/>
                </a:cubicBezTo>
                <a:cubicBezTo>
                  <a:pt x="17582" y="9687"/>
                  <a:pt x="17835" y="9711"/>
                  <a:pt x="17909" y="9599"/>
                </a:cubicBezTo>
                <a:cubicBezTo>
                  <a:pt x="17974" y="9500"/>
                  <a:pt x="17892" y="9433"/>
                  <a:pt x="17859" y="9376"/>
                </a:cubicBezTo>
                <a:cubicBezTo>
                  <a:pt x="17799" y="9270"/>
                  <a:pt x="17761" y="9351"/>
                  <a:pt x="17686" y="9376"/>
                </a:cubicBezTo>
                <a:cubicBezTo>
                  <a:pt x="17603" y="9403"/>
                  <a:pt x="17559" y="9348"/>
                  <a:pt x="17512" y="9451"/>
                </a:cubicBezTo>
                <a:cubicBezTo>
                  <a:pt x="17462" y="9560"/>
                  <a:pt x="17397" y="9727"/>
                  <a:pt x="17413" y="9847"/>
                </a:cubicBezTo>
                <a:cubicBezTo>
                  <a:pt x="17429" y="9970"/>
                  <a:pt x="17471" y="10091"/>
                  <a:pt x="17537" y="10195"/>
                </a:cubicBezTo>
                <a:cubicBezTo>
                  <a:pt x="17571" y="10249"/>
                  <a:pt x="17709" y="10395"/>
                  <a:pt x="17760" y="10418"/>
                </a:cubicBezTo>
                <a:cubicBezTo>
                  <a:pt x="17843" y="10456"/>
                  <a:pt x="17926" y="10403"/>
                  <a:pt x="17983" y="10368"/>
                </a:cubicBezTo>
                <a:cubicBezTo>
                  <a:pt x="18048" y="10337"/>
                  <a:pt x="18076" y="10317"/>
                  <a:pt x="18107" y="10269"/>
                </a:cubicBezTo>
              </a:path>
              <a:path w="4912" h="2977">
                <a:moveTo>
                  <a:pt x="13370" y="10889"/>
                </a:moveTo>
                <a:cubicBezTo>
                  <a:pt x="13396" y="10979"/>
                  <a:pt x="13354" y="11071"/>
                  <a:pt x="13345" y="11187"/>
                </a:cubicBezTo>
                <a:cubicBezTo>
                  <a:pt x="13322" y="11480"/>
                  <a:pt x="13403" y="11832"/>
                  <a:pt x="13320" y="12105"/>
                </a:cubicBezTo>
                <a:cubicBezTo>
                  <a:pt x="13320" y="12113"/>
                  <a:pt x="13320" y="12121"/>
                  <a:pt x="13320" y="12129"/>
                </a:cubicBezTo>
              </a:path>
              <a:path w="4912" h="2977">
                <a:moveTo>
                  <a:pt x="13618" y="11137"/>
                </a:moveTo>
                <a:cubicBezTo>
                  <a:pt x="13697" y="11194"/>
                  <a:pt x="13702" y="11246"/>
                  <a:pt x="13742" y="11336"/>
                </a:cubicBezTo>
                <a:cubicBezTo>
                  <a:pt x="13788" y="11439"/>
                  <a:pt x="13815" y="11559"/>
                  <a:pt x="13866" y="11658"/>
                </a:cubicBezTo>
                <a:cubicBezTo>
                  <a:pt x="13915" y="11754"/>
                  <a:pt x="13984" y="11843"/>
                  <a:pt x="14039" y="11931"/>
                </a:cubicBezTo>
                <a:cubicBezTo>
                  <a:pt x="14068" y="11977"/>
                  <a:pt x="14090" y="12031"/>
                  <a:pt x="14114" y="12080"/>
                </a:cubicBezTo>
                <a:cubicBezTo>
                  <a:pt x="14162" y="12056"/>
                  <a:pt x="14178" y="12049"/>
                  <a:pt x="14163" y="12005"/>
                </a:cubicBezTo>
              </a:path>
              <a:path w="4912" h="2977">
                <a:moveTo>
                  <a:pt x="14064" y="10988"/>
                </a:moveTo>
                <a:cubicBezTo>
                  <a:pt x="14017" y="11047"/>
                  <a:pt x="13987" y="11113"/>
                  <a:pt x="13965" y="11187"/>
                </a:cubicBezTo>
                <a:cubicBezTo>
                  <a:pt x="13930" y="11307"/>
                  <a:pt x="13877" y="11416"/>
                  <a:pt x="13841" y="11534"/>
                </a:cubicBezTo>
                <a:cubicBezTo>
                  <a:pt x="13806" y="11649"/>
                  <a:pt x="13792" y="11767"/>
                  <a:pt x="13767" y="11881"/>
                </a:cubicBezTo>
                <a:cubicBezTo>
                  <a:pt x="13751" y="11951"/>
                  <a:pt x="13710" y="12020"/>
                  <a:pt x="13692" y="12080"/>
                </a:cubicBezTo>
                <a:cubicBezTo>
                  <a:pt x="13692" y="12088"/>
                  <a:pt x="13692" y="12097"/>
                  <a:pt x="13692" y="12105"/>
                </a:cubicBezTo>
              </a:path>
              <a:path w="4912" h="2977">
                <a:moveTo>
                  <a:pt x="14511" y="10988"/>
                </a:moveTo>
                <a:cubicBezTo>
                  <a:pt x="14545" y="11056"/>
                  <a:pt x="14536" y="11131"/>
                  <a:pt x="14536" y="11212"/>
                </a:cubicBezTo>
                <a:cubicBezTo>
                  <a:pt x="14536" y="11325"/>
                  <a:pt x="14547" y="11428"/>
                  <a:pt x="14560" y="11534"/>
                </a:cubicBezTo>
                <a:cubicBezTo>
                  <a:pt x="14569" y="11610"/>
                  <a:pt x="14579" y="11683"/>
                  <a:pt x="14585" y="11757"/>
                </a:cubicBezTo>
                <a:cubicBezTo>
                  <a:pt x="14585" y="11765"/>
                  <a:pt x="14585" y="11774"/>
                  <a:pt x="14585" y="11782"/>
                </a:cubicBezTo>
              </a:path>
              <a:path w="4912" h="2977">
                <a:moveTo>
                  <a:pt x="14337" y="11286"/>
                </a:moveTo>
                <a:cubicBezTo>
                  <a:pt x="14428" y="11261"/>
                  <a:pt x="14515" y="11240"/>
                  <a:pt x="14610" y="11237"/>
                </a:cubicBezTo>
                <a:cubicBezTo>
                  <a:pt x="14704" y="11234"/>
                  <a:pt x="14791" y="11210"/>
                  <a:pt x="14883" y="11187"/>
                </a:cubicBezTo>
              </a:path>
              <a:path w="4912" h="2977">
                <a:moveTo>
                  <a:pt x="15255" y="10840"/>
                </a:moveTo>
                <a:cubicBezTo>
                  <a:pt x="15246" y="10909"/>
                  <a:pt x="15234" y="10974"/>
                  <a:pt x="15205" y="11038"/>
                </a:cubicBezTo>
                <a:cubicBezTo>
                  <a:pt x="15177" y="11101"/>
                  <a:pt x="15157" y="11181"/>
                  <a:pt x="15131" y="11237"/>
                </a:cubicBezTo>
                <a:cubicBezTo>
                  <a:pt x="15111" y="11281"/>
                  <a:pt x="15076" y="11343"/>
                  <a:pt x="15131" y="11385"/>
                </a:cubicBezTo>
                <a:cubicBezTo>
                  <a:pt x="15200" y="11438"/>
                  <a:pt x="15323" y="11410"/>
                  <a:pt x="15404" y="11410"/>
                </a:cubicBezTo>
                <a:cubicBezTo>
                  <a:pt x="15471" y="11410"/>
                  <a:pt x="15688" y="11445"/>
                  <a:pt x="15726" y="11385"/>
                </a:cubicBezTo>
                <a:cubicBezTo>
                  <a:pt x="15726" y="11377"/>
                  <a:pt x="15726" y="11369"/>
                  <a:pt x="15726" y="11361"/>
                </a:cubicBezTo>
              </a:path>
              <a:path w="4912" h="2977">
                <a:moveTo>
                  <a:pt x="15528" y="10864"/>
                </a:moveTo>
                <a:cubicBezTo>
                  <a:pt x="15528" y="10969"/>
                  <a:pt x="15533" y="11061"/>
                  <a:pt x="15503" y="11162"/>
                </a:cubicBezTo>
                <a:cubicBezTo>
                  <a:pt x="15472" y="11265"/>
                  <a:pt x="15456" y="11378"/>
                  <a:pt x="15453" y="11485"/>
                </a:cubicBezTo>
                <a:cubicBezTo>
                  <a:pt x="15449" y="11612"/>
                  <a:pt x="15432" y="11731"/>
                  <a:pt x="15429" y="11857"/>
                </a:cubicBezTo>
                <a:cubicBezTo>
                  <a:pt x="15426" y="11987"/>
                  <a:pt x="15424" y="12107"/>
                  <a:pt x="15404" y="12229"/>
                </a:cubicBezTo>
                <a:cubicBezTo>
                  <a:pt x="15404" y="12280"/>
                  <a:pt x="15403" y="12295"/>
                  <a:pt x="15379" y="12229"/>
                </a:cubicBezTo>
              </a:path>
              <a:path w="4912" h="2977">
                <a:moveTo>
                  <a:pt x="13196" y="11013"/>
                </a:moveTo>
                <a:cubicBezTo>
                  <a:pt x="13223" y="10971"/>
                  <a:pt x="13244" y="10931"/>
                  <a:pt x="13271" y="10889"/>
                </a:cubicBezTo>
                <a:cubicBezTo>
                  <a:pt x="13261" y="11007"/>
                  <a:pt x="13246" y="11115"/>
                  <a:pt x="13246" y="11237"/>
                </a:cubicBezTo>
                <a:cubicBezTo>
                  <a:pt x="13246" y="11382"/>
                  <a:pt x="13279" y="11500"/>
                  <a:pt x="13320" y="11633"/>
                </a:cubicBezTo>
                <a:cubicBezTo>
                  <a:pt x="13346" y="11719"/>
                  <a:pt x="13372" y="11798"/>
                  <a:pt x="13395" y="11881"/>
                </a:cubicBezTo>
                <a:cubicBezTo>
                  <a:pt x="13429" y="11792"/>
                  <a:pt x="13480" y="11686"/>
                  <a:pt x="13494" y="11584"/>
                </a:cubicBezTo>
                <a:cubicBezTo>
                  <a:pt x="13509" y="11469"/>
                  <a:pt x="13523" y="11318"/>
                  <a:pt x="13568" y="11212"/>
                </a:cubicBezTo>
                <a:cubicBezTo>
                  <a:pt x="13589" y="11162"/>
                  <a:pt x="13615" y="11152"/>
                  <a:pt x="13643" y="11112"/>
                </a:cubicBezTo>
                <a:cubicBezTo>
                  <a:pt x="13660" y="11200"/>
                  <a:pt x="13683" y="11293"/>
                  <a:pt x="13692" y="11385"/>
                </a:cubicBezTo>
                <a:cubicBezTo>
                  <a:pt x="13708" y="11540"/>
                  <a:pt x="13754" y="11645"/>
                  <a:pt x="13841" y="11782"/>
                </a:cubicBezTo>
                <a:cubicBezTo>
                  <a:pt x="13883" y="11824"/>
                  <a:pt x="13891" y="11831"/>
                  <a:pt x="13915" y="11857"/>
                </a:cubicBezTo>
                <a:cubicBezTo>
                  <a:pt x="13992" y="11758"/>
                  <a:pt x="13992" y="11723"/>
                  <a:pt x="14015" y="11584"/>
                </a:cubicBezTo>
                <a:cubicBezTo>
                  <a:pt x="14038" y="11444"/>
                  <a:pt x="14064" y="11331"/>
                  <a:pt x="14064" y="11187"/>
                </a:cubicBezTo>
                <a:cubicBezTo>
                  <a:pt x="14064" y="11112"/>
                  <a:pt x="14064" y="11088"/>
                  <a:pt x="14064" y="11038"/>
                </a:cubicBezTo>
                <a:cubicBezTo>
                  <a:pt x="14077" y="11150"/>
                  <a:pt x="14107" y="11153"/>
                  <a:pt x="14139" y="11261"/>
                </a:cubicBezTo>
                <a:cubicBezTo>
                  <a:pt x="14181" y="11401"/>
                  <a:pt x="14215" y="11540"/>
                  <a:pt x="14312" y="11658"/>
                </a:cubicBezTo>
                <a:cubicBezTo>
                  <a:pt x="14375" y="11735"/>
                  <a:pt x="14520" y="11885"/>
                  <a:pt x="14635" y="11832"/>
                </a:cubicBezTo>
                <a:cubicBezTo>
                  <a:pt x="14786" y="11763"/>
                  <a:pt x="14854" y="11604"/>
                  <a:pt x="14908" y="11460"/>
                </a:cubicBezTo>
                <a:cubicBezTo>
                  <a:pt x="14954" y="11337"/>
                  <a:pt x="14924" y="11265"/>
                  <a:pt x="14883" y="11162"/>
                </a:cubicBezTo>
                <a:cubicBezTo>
                  <a:pt x="14893" y="11279"/>
                  <a:pt x="14917" y="11422"/>
                  <a:pt x="14957" y="11534"/>
                </a:cubicBezTo>
                <a:cubicBezTo>
                  <a:pt x="14980" y="11596"/>
                  <a:pt x="15082" y="11812"/>
                  <a:pt x="15156" y="11832"/>
                </a:cubicBezTo>
                <a:cubicBezTo>
                  <a:pt x="15253" y="11858"/>
                  <a:pt x="15298" y="11840"/>
                  <a:pt x="15354" y="11757"/>
                </a:cubicBezTo>
                <a:cubicBezTo>
                  <a:pt x="15405" y="11682"/>
                  <a:pt x="15379" y="11546"/>
                  <a:pt x="15379" y="11460"/>
                </a:cubicBezTo>
                <a:cubicBezTo>
                  <a:pt x="15412" y="11574"/>
                  <a:pt x="15430" y="11574"/>
                  <a:pt x="15478" y="11683"/>
                </a:cubicBezTo>
                <a:cubicBezTo>
                  <a:pt x="15542" y="11829"/>
                  <a:pt x="15595" y="11981"/>
                  <a:pt x="15652" y="12129"/>
                </a:cubicBezTo>
                <a:cubicBezTo>
                  <a:pt x="15678" y="12195"/>
                  <a:pt x="15677" y="12450"/>
                  <a:pt x="15677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15"/>
          <p:cNvSpPr/>
          <p:nvPr/>
        </p:nvSpPr>
        <p:spPr>
          <a:xfrm>
            <a:off x="7500960" y="1973160"/>
            <a:ext cx="1081080" cy="1143000"/>
          </a:xfrm>
          <a:custGeom>
            <a:avLst/>
            <a:gdLst/>
            <a:ahLst/>
            <a:rect l="l" t="t" r="r" b="b"/>
            <a:pathLst>
              <a:path w="3002" h="3176">
                <a:moveTo>
                  <a:pt x="20836" y="5854"/>
                </a:moveTo>
                <a:cubicBezTo>
                  <a:pt x="20897" y="5984"/>
                  <a:pt x="20935" y="6095"/>
                  <a:pt x="21034" y="6201"/>
                </a:cubicBezTo>
                <a:cubicBezTo>
                  <a:pt x="21123" y="6296"/>
                  <a:pt x="21191" y="6410"/>
                  <a:pt x="21258" y="6524"/>
                </a:cubicBezTo>
                <a:cubicBezTo>
                  <a:pt x="21291" y="6580"/>
                  <a:pt x="21293" y="6632"/>
                  <a:pt x="21357" y="6648"/>
                </a:cubicBezTo>
              </a:path>
              <a:path w="3002" h="3176">
                <a:moveTo>
                  <a:pt x="21382" y="5606"/>
                </a:moveTo>
                <a:cubicBezTo>
                  <a:pt x="21335" y="5594"/>
                  <a:pt x="21291" y="5684"/>
                  <a:pt x="21258" y="5755"/>
                </a:cubicBezTo>
                <a:cubicBezTo>
                  <a:pt x="21179" y="5922"/>
                  <a:pt x="21088" y="6084"/>
                  <a:pt x="21010" y="6251"/>
                </a:cubicBezTo>
                <a:cubicBezTo>
                  <a:pt x="20966" y="6346"/>
                  <a:pt x="20927" y="6468"/>
                  <a:pt x="20861" y="6548"/>
                </a:cubicBezTo>
                <a:cubicBezTo>
                  <a:pt x="20853" y="6556"/>
                  <a:pt x="20844" y="6565"/>
                  <a:pt x="20836" y="6573"/>
                </a:cubicBezTo>
              </a:path>
              <a:path w="3002" h="3176">
                <a:moveTo>
                  <a:pt x="21605" y="5631"/>
                </a:moveTo>
                <a:cubicBezTo>
                  <a:pt x="21566" y="5695"/>
                  <a:pt x="21580" y="5774"/>
                  <a:pt x="21580" y="5854"/>
                </a:cubicBezTo>
                <a:cubicBezTo>
                  <a:pt x="21580" y="5988"/>
                  <a:pt x="21605" y="6115"/>
                  <a:pt x="21605" y="6251"/>
                </a:cubicBezTo>
                <a:cubicBezTo>
                  <a:pt x="21605" y="6324"/>
                  <a:pt x="21625" y="6424"/>
                  <a:pt x="21605" y="6474"/>
                </a:cubicBezTo>
              </a:path>
              <a:path w="3002" h="3176">
                <a:moveTo>
                  <a:pt x="21357" y="6028"/>
                </a:moveTo>
                <a:cubicBezTo>
                  <a:pt x="21453" y="6028"/>
                  <a:pt x="21536" y="6006"/>
                  <a:pt x="21630" y="6003"/>
                </a:cubicBezTo>
                <a:cubicBezTo>
                  <a:pt x="21722" y="6003"/>
                  <a:pt x="21748" y="6005"/>
                  <a:pt x="21803" y="5978"/>
                </a:cubicBezTo>
              </a:path>
              <a:path w="3002" h="3176">
                <a:moveTo>
                  <a:pt x="22051" y="5804"/>
                </a:moveTo>
                <a:cubicBezTo>
                  <a:pt x="22134" y="5835"/>
                  <a:pt x="22208" y="5829"/>
                  <a:pt x="22299" y="5829"/>
                </a:cubicBezTo>
                <a:cubicBezTo>
                  <a:pt x="22374" y="5829"/>
                  <a:pt x="22398" y="5829"/>
                  <a:pt x="22448" y="5829"/>
                </a:cubicBezTo>
              </a:path>
              <a:path w="3002" h="3176">
                <a:moveTo>
                  <a:pt x="22076" y="6102"/>
                </a:moveTo>
                <a:cubicBezTo>
                  <a:pt x="22160" y="6169"/>
                  <a:pt x="22199" y="6149"/>
                  <a:pt x="22299" y="6127"/>
                </a:cubicBezTo>
                <a:cubicBezTo>
                  <a:pt x="22411" y="6104"/>
                  <a:pt x="22442" y="6103"/>
                  <a:pt x="22498" y="6052"/>
                </a:cubicBezTo>
              </a:path>
              <a:path w="3002" h="3176">
                <a:moveTo>
                  <a:pt x="21853" y="5482"/>
                </a:moveTo>
                <a:cubicBezTo>
                  <a:pt x="21853" y="5749"/>
                  <a:pt x="21853" y="6012"/>
                  <a:pt x="21878" y="6276"/>
                </a:cubicBezTo>
                <a:cubicBezTo>
                  <a:pt x="21886" y="6356"/>
                  <a:pt x="21893" y="6422"/>
                  <a:pt x="21903" y="6499"/>
                </a:cubicBezTo>
              </a:path>
              <a:path w="3002" h="3176">
                <a:moveTo>
                  <a:pt x="22870" y="5606"/>
                </a:moveTo>
                <a:cubicBezTo>
                  <a:pt x="22794" y="5649"/>
                  <a:pt x="22782" y="5687"/>
                  <a:pt x="22771" y="5779"/>
                </a:cubicBezTo>
                <a:cubicBezTo>
                  <a:pt x="22756" y="5912"/>
                  <a:pt x="22746" y="6041"/>
                  <a:pt x="22746" y="6176"/>
                </a:cubicBezTo>
                <a:cubicBezTo>
                  <a:pt x="22746" y="6267"/>
                  <a:pt x="22733" y="6311"/>
                  <a:pt x="22796" y="6375"/>
                </a:cubicBezTo>
                <a:cubicBezTo>
                  <a:pt x="22857" y="6438"/>
                  <a:pt x="22895" y="6426"/>
                  <a:pt x="22969" y="6400"/>
                </a:cubicBezTo>
                <a:cubicBezTo>
                  <a:pt x="23055" y="6370"/>
                  <a:pt x="23124" y="6309"/>
                  <a:pt x="23168" y="6226"/>
                </a:cubicBezTo>
                <a:cubicBezTo>
                  <a:pt x="23213" y="6142"/>
                  <a:pt x="23232" y="6022"/>
                  <a:pt x="23217" y="5928"/>
                </a:cubicBezTo>
                <a:cubicBezTo>
                  <a:pt x="23200" y="5822"/>
                  <a:pt x="23152" y="5721"/>
                  <a:pt x="23044" y="5680"/>
                </a:cubicBezTo>
                <a:cubicBezTo>
                  <a:pt x="22991" y="5660"/>
                  <a:pt x="22910" y="5681"/>
                  <a:pt x="22870" y="5705"/>
                </a:cubicBezTo>
              </a:path>
              <a:path w="3002" h="3176">
                <a:moveTo>
                  <a:pt x="21332" y="7094"/>
                </a:moveTo>
                <a:cubicBezTo>
                  <a:pt x="21422" y="7094"/>
                  <a:pt x="21520" y="7132"/>
                  <a:pt x="21605" y="7119"/>
                </a:cubicBezTo>
                <a:cubicBezTo>
                  <a:pt x="21678" y="7094"/>
                  <a:pt x="21702" y="7086"/>
                  <a:pt x="21754" y="7094"/>
                </a:cubicBezTo>
              </a:path>
              <a:path w="3002" h="3176">
                <a:moveTo>
                  <a:pt x="21903" y="6846"/>
                </a:moveTo>
                <a:cubicBezTo>
                  <a:pt x="21903" y="7002"/>
                  <a:pt x="21903" y="7163"/>
                  <a:pt x="21927" y="7317"/>
                </a:cubicBezTo>
                <a:cubicBezTo>
                  <a:pt x="21935" y="7350"/>
                  <a:pt x="21944" y="7384"/>
                  <a:pt x="21952" y="7417"/>
                </a:cubicBezTo>
              </a:path>
              <a:path w="3002" h="3176">
                <a:moveTo>
                  <a:pt x="22448" y="6995"/>
                </a:moveTo>
                <a:cubicBezTo>
                  <a:pt x="22556" y="7024"/>
                  <a:pt x="22611" y="6999"/>
                  <a:pt x="22721" y="6995"/>
                </a:cubicBezTo>
                <a:cubicBezTo>
                  <a:pt x="22816" y="6995"/>
                  <a:pt x="22859" y="6988"/>
                  <a:pt x="22920" y="6945"/>
                </a:cubicBezTo>
              </a:path>
              <a:path w="3002" h="3176">
                <a:moveTo>
                  <a:pt x="23118" y="6573"/>
                </a:moveTo>
                <a:cubicBezTo>
                  <a:pt x="23118" y="6670"/>
                  <a:pt x="23121" y="6750"/>
                  <a:pt x="23143" y="6846"/>
                </a:cubicBezTo>
                <a:cubicBezTo>
                  <a:pt x="23170" y="6963"/>
                  <a:pt x="23188" y="7079"/>
                  <a:pt x="23217" y="7193"/>
                </a:cubicBezTo>
              </a:path>
              <a:path w="3002" h="3176">
                <a:moveTo>
                  <a:pt x="21654" y="7938"/>
                </a:moveTo>
                <a:cubicBezTo>
                  <a:pt x="21701" y="8059"/>
                  <a:pt x="21757" y="8193"/>
                  <a:pt x="21853" y="8285"/>
                </a:cubicBezTo>
                <a:cubicBezTo>
                  <a:pt x="21932" y="8361"/>
                  <a:pt x="22022" y="8429"/>
                  <a:pt x="22101" y="8508"/>
                </a:cubicBezTo>
              </a:path>
              <a:path w="3002" h="3176">
                <a:moveTo>
                  <a:pt x="22002" y="7863"/>
                </a:moveTo>
                <a:cubicBezTo>
                  <a:pt x="21881" y="8056"/>
                  <a:pt x="21782" y="8212"/>
                  <a:pt x="21729" y="8434"/>
                </a:cubicBezTo>
                <a:cubicBezTo>
                  <a:pt x="21707" y="8527"/>
                  <a:pt x="21704" y="8583"/>
                  <a:pt x="21654" y="8657"/>
                </a:cubicBezTo>
              </a:path>
              <a:path w="3002" h="3176">
                <a:moveTo>
                  <a:pt x="22374" y="8037"/>
                </a:moveTo>
                <a:cubicBezTo>
                  <a:pt x="22475" y="8028"/>
                  <a:pt x="22573" y="8016"/>
                  <a:pt x="22671" y="7987"/>
                </a:cubicBezTo>
                <a:cubicBezTo>
                  <a:pt x="22696" y="7979"/>
                  <a:pt x="22721" y="7970"/>
                  <a:pt x="22746" y="7962"/>
                </a:cubicBezTo>
              </a:path>
              <a:path w="3002" h="3176">
                <a:moveTo>
                  <a:pt x="22498" y="8210"/>
                </a:moveTo>
                <a:cubicBezTo>
                  <a:pt x="22557" y="8258"/>
                  <a:pt x="22615" y="8298"/>
                  <a:pt x="22696" y="8285"/>
                </a:cubicBezTo>
                <a:cubicBezTo>
                  <a:pt x="22778" y="8258"/>
                  <a:pt x="22811" y="8247"/>
                  <a:pt x="22870" y="8235"/>
                </a:cubicBezTo>
              </a:path>
              <a:path w="3002" h="3176">
                <a:moveTo>
                  <a:pt x="23143" y="8037"/>
                </a:moveTo>
                <a:cubicBezTo>
                  <a:pt x="23313" y="8096"/>
                  <a:pt x="23325" y="8076"/>
                  <a:pt x="23490" y="8012"/>
                </a:cubicBezTo>
              </a:path>
              <a:path w="3002" h="3176">
                <a:moveTo>
                  <a:pt x="23788" y="7516"/>
                </a:moveTo>
                <a:cubicBezTo>
                  <a:pt x="23765" y="7729"/>
                  <a:pt x="23773" y="7900"/>
                  <a:pt x="23788" y="8111"/>
                </a:cubicBezTo>
                <a:cubicBezTo>
                  <a:pt x="23795" y="8219"/>
                  <a:pt x="23797" y="8342"/>
                  <a:pt x="23837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16"/>
          <p:cNvSpPr/>
          <p:nvPr/>
        </p:nvSpPr>
        <p:spPr>
          <a:xfrm>
            <a:off x="4786200" y="4670280"/>
            <a:ext cx="1027080" cy="588960"/>
          </a:xfrm>
          <a:custGeom>
            <a:avLst/>
            <a:gdLst/>
            <a:ahLst/>
            <a:rect l="l" t="t" r="r" b="b"/>
            <a:pathLst>
              <a:path w="2854" h="1638">
                <a:moveTo>
                  <a:pt x="13295" y="13022"/>
                </a:moveTo>
                <a:cubicBezTo>
                  <a:pt x="13328" y="13152"/>
                  <a:pt x="13360" y="13286"/>
                  <a:pt x="13444" y="13395"/>
                </a:cubicBezTo>
                <a:cubicBezTo>
                  <a:pt x="13519" y="13493"/>
                  <a:pt x="13569" y="13596"/>
                  <a:pt x="13643" y="13692"/>
                </a:cubicBezTo>
                <a:cubicBezTo>
                  <a:pt x="13679" y="13739"/>
                  <a:pt x="13713" y="13803"/>
                  <a:pt x="13767" y="13816"/>
                </a:cubicBezTo>
              </a:path>
              <a:path w="2854" h="1638">
                <a:moveTo>
                  <a:pt x="13791" y="13072"/>
                </a:moveTo>
                <a:cubicBezTo>
                  <a:pt x="13821" y="13163"/>
                  <a:pt x="13828" y="13271"/>
                  <a:pt x="13816" y="13370"/>
                </a:cubicBezTo>
                <a:cubicBezTo>
                  <a:pt x="13789" y="13583"/>
                  <a:pt x="13772" y="13800"/>
                  <a:pt x="13767" y="14015"/>
                </a:cubicBezTo>
                <a:cubicBezTo>
                  <a:pt x="13764" y="14167"/>
                  <a:pt x="13786" y="14310"/>
                  <a:pt x="13791" y="14461"/>
                </a:cubicBezTo>
                <a:cubicBezTo>
                  <a:pt x="13792" y="14481"/>
                  <a:pt x="13781" y="14655"/>
                  <a:pt x="13816" y="14585"/>
                </a:cubicBezTo>
              </a:path>
              <a:path w="2854" h="1638">
                <a:moveTo>
                  <a:pt x="14015" y="13320"/>
                </a:moveTo>
                <a:cubicBezTo>
                  <a:pt x="14102" y="13285"/>
                  <a:pt x="14176" y="13251"/>
                  <a:pt x="14263" y="13246"/>
                </a:cubicBezTo>
                <a:cubicBezTo>
                  <a:pt x="14304" y="13246"/>
                  <a:pt x="14312" y="13246"/>
                  <a:pt x="14337" y="13246"/>
                </a:cubicBezTo>
              </a:path>
              <a:path w="2854" h="1638">
                <a:moveTo>
                  <a:pt x="14064" y="13494"/>
                </a:moveTo>
                <a:cubicBezTo>
                  <a:pt x="14194" y="13539"/>
                  <a:pt x="14180" y="13558"/>
                  <a:pt x="14288" y="13519"/>
                </a:cubicBezTo>
              </a:path>
              <a:path w="2854" h="1638">
                <a:moveTo>
                  <a:pt x="14436" y="13047"/>
                </a:moveTo>
                <a:cubicBezTo>
                  <a:pt x="14487" y="13178"/>
                  <a:pt x="14529" y="13303"/>
                  <a:pt x="14610" y="13419"/>
                </a:cubicBezTo>
                <a:cubicBezTo>
                  <a:pt x="14680" y="13520"/>
                  <a:pt x="14749" y="13628"/>
                  <a:pt x="14833" y="13717"/>
                </a:cubicBezTo>
                <a:cubicBezTo>
                  <a:pt x="14879" y="13763"/>
                  <a:pt x="14891" y="13777"/>
                  <a:pt x="14932" y="13791"/>
                </a:cubicBezTo>
              </a:path>
              <a:path w="2854" h="1638">
                <a:moveTo>
                  <a:pt x="14833" y="12973"/>
                </a:moveTo>
                <a:cubicBezTo>
                  <a:pt x="14737" y="13078"/>
                  <a:pt x="14694" y="13166"/>
                  <a:pt x="14635" y="13295"/>
                </a:cubicBezTo>
                <a:cubicBezTo>
                  <a:pt x="14583" y="13409"/>
                  <a:pt x="14529" y="13542"/>
                  <a:pt x="14511" y="13667"/>
                </a:cubicBezTo>
                <a:cubicBezTo>
                  <a:pt x="14504" y="13713"/>
                  <a:pt x="14511" y="13768"/>
                  <a:pt x="14511" y="13816"/>
                </a:cubicBezTo>
              </a:path>
              <a:path w="2854" h="1638">
                <a:moveTo>
                  <a:pt x="15056" y="13146"/>
                </a:moveTo>
                <a:cubicBezTo>
                  <a:pt x="15084" y="13279"/>
                  <a:pt x="15094" y="13415"/>
                  <a:pt x="15131" y="13543"/>
                </a:cubicBezTo>
                <a:cubicBezTo>
                  <a:pt x="15151" y="13612"/>
                  <a:pt x="15189" y="13680"/>
                  <a:pt x="15205" y="13742"/>
                </a:cubicBezTo>
              </a:path>
              <a:path w="2854" h="1638">
                <a:moveTo>
                  <a:pt x="14957" y="13395"/>
                </a:moveTo>
                <a:cubicBezTo>
                  <a:pt x="15046" y="13395"/>
                  <a:pt x="15119" y="13380"/>
                  <a:pt x="15205" y="13370"/>
                </a:cubicBezTo>
              </a:path>
              <a:path w="2854" h="1638">
                <a:moveTo>
                  <a:pt x="15528" y="13072"/>
                </a:moveTo>
                <a:cubicBezTo>
                  <a:pt x="15661" y="13056"/>
                  <a:pt x="15758" y="13048"/>
                  <a:pt x="15825" y="13196"/>
                </a:cubicBezTo>
                <a:cubicBezTo>
                  <a:pt x="15863" y="13279"/>
                  <a:pt x="15918" y="13506"/>
                  <a:pt x="15875" y="13593"/>
                </a:cubicBezTo>
                <a:cubicBezTo>
                  <a:pt x="15836" y="13674"/>
                  <a:pt x="15754" y="13848"/>
                  <a:pt x="15652" y="13767"/>
                </a:cubicBezTo>
                <a:cubicBezTo>
                  <a:pt x="15606" y="13731"/>
                  <a:pt x="15610" y="13722"/>
                  <a:pt x="15602" y="13667"/>
                </a:cubicBezTo>
                <a:cubicBezTo>
                  <a:pt x="15648" y="13622"/>
                  <a:pt x="15682" y="13603"/>
                  <a:pt x="15751" y="13618"/>
                </a:cubicBezTo>
                <a:cubicBezTo>
                  <a:pt x="15859" y="13642"/>
                  <a:pt x="15934" y="13697"/>
                  <a:pt x="16024" y="13742"/>
                </a:cubicBezTo>
                <a:cubicBezTo>
                  <a:pt x="16091" y="13765"/>
                  <a:pt x="16109" y="13770"/>
                  <a:pt x="16148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17"/>
          <p:cNvSpPr/>
          <p:nvPr/>
        </p:nvSpPr>
        <p:spPr>
          <a:xfrm>
            <a:off x="5823000" y="4027320"/>
            <a:ext cx="955800" cy="46548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6470" y="11832"/>
                </a:moveTo>
                <a:cubicBezTo>
                  <a:pt x="16544" y="11788"/>
                  <a:pt x="16590" y="11822"/>
                  <a:pt x="16669" y="11832"/>
                </a:cubicBezTo>
                <a:cubicBezTo>
                  <a:pt x="16743" y="11832"/>
                  <a:pt x="16768" y="11832"/>
                  <a:pt x="16818" y="11832"/>
                </a:cubicBezTo>
              </a:path>
              <a:path w="2655" h="1291">
                <a:moveTo>
                  <a:pt x="17289" y="11485"/>
                </a:moveTo>
                <a:cubicBezTo>
                  <a:pt x="17284" y="11599"/>
                  <a:pt x="17243" y="11742"/>
                  <a:pt x="17264" y="11857"/>
                </a:cubicBezTo>
                <a:cubicBezTo>
                  <a:pt x="17276" y="11924"/>
                  <a:pt x="17265" y="12044"/>
                  <a:pt x="17289" y="12105"/>
                </a:cubicBezTo>
                <a:cubicBezTo>
                  <a:pt x="17297" y="12113"/>
                  <a:pt x="17306" y="12121"/>
                  <a:pt x="17314" y="12129"/>
                </a:cubicBezTo>
              </a:path>
              <a:path w="2655" h="1291">
                <a:moveTo>
                  <a:pt x="17636" y="11187"/>
                </a:moveTo>
                <a:cubicBezTo>
                  <a:pt x="17667" y="11279"/>
                  <a:pt x="17661" y="11361"/>
                  <a:pt x="17661" y="11460"/>
                </a:cubicBezTo>
                <a:cubicBezTo>
                  <a:pt x="17661" y="11596"/>
                  <a:pt x="17682" y="11722"/>
                  <a:pt x="17686" y="11857"/>
                </a:cubicBezTo>
                <a:cubicBezTo>
                  <a:pt x="17689" y="11967"/>
                  <a:pt x="17692" y="12096"/>
                  <a:pt x="17711" y="12204"/>
                </a:cubicBezTo>
                <a:cubicBezTo>
                  <a:pt x="17723" y="12273"/>
                  <a:pt x="17762" y="12379"/>
                  <a:pt x="17735" y="12452"/>
                </a:cubicBezTo>
                <a:cubicBezTo>
                  <a:pt x="17727" y="12460"/>
                  <a:pt x="17719" y="12469"/>
                  <a:pt x="17711" y="12477"/>
                </a:cubicBezTo>
                <a:cubicBezTo>
                  <a:pt x="17645" y="12440"/>
                  <a:pt x="17591" y="12390"/>
                  <a:pt x="17512" y="12378"/>
                </a:cubicBezTo>
                <a:cubicBezTo>
                  <a:pt x="17426" y="12365"/>
                  <a:pt x="17323" y="12361"/>
                  <a:pt x="17239" y="12353"/>
                </a:cubicBezTo>
                <a:cubicBezTo>
                  <a:pt x="17124" y="12342"/>
                  <a:pt x="16206" y="12286"/>
                  <a:pt x="16173" y="12378"/>
                </a:cubicBezTo>
                <a:cubicBezTo>
                  <a:pt x="16189" y="12378"/>
                  <a:pt x="16206" y="12378"/>
                  <a:pt x="16222" y="12378"/>
                </a:cubicBezTo>
              </a:path>
              <a:path w="2655" h="1291">
                <a:moveTo>
                  <a:pt x="18728" y="11361"/>
                </a:moveTo>
                <a:cubicBezTo>
                  <a:pt x="18767" y="11301"/>
                  <a:pt x="18771" y="11289"/>
                  <a:pt x="18802" y="11261"/>
                </a:cubicBezTo>
                <a:cubicBezTo>
                  <a:pt x="18842" y="11341"/>
                  <a:pt x="18806" y="11395"/>
                  <a:pt x="18802" y="11485"/>
                </a:cubicBezTo>
                <a:cubicBezTo>
                  <a:pt x="18798" y="11586"/>
                  <a:pt x="18795" y="11707"/>
                  <a:pt x="18777" y="11807"/>
                </a:cubicBezTo>
                <a:cubicBezTo>
                  <a:pt x="18755" y="11931"/>
                  <a:pt x="18777" y="12050"/>
                  <a:pt x="18777" y="12179"/>
                </a:cubicBezTo>
                <a:cubicBezTo>
                  <a:pt x="18777" y="12237"/>
                  <a:pt x="18774" y="12257"/>
                  <a:pt x="18802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18"/>
          <p:cNvSpPr/>
          <p:nvPr/>
        </p:nvSpPr>
        <p:spPr>
          <a:xfrm>
            <a:off x="6510240" y="3956040"/>
            <a:ext cx="1643040" cy="1554120"/>
          </a:xfrm>
          <a:custGeom>
            <a:avLst/>
            <a:gdLst/>
            <a:ahLst/>
            <a:rect l="l" t="t" r="r" b="b"/>
            <a:pathLst>
              <a:path w="4565" h="4317">
                <a:moveTo>
                  <a:pt x="20340" y="11237"/>
                </a:moveTo>
                <a:cubicBezTo>
                  <a:pt x="20423" y="11205"/>
                  <a:pt x="20459" y="11213"/>
                  <a:pt x="20538" y="11261"/>
                </a:cubicBezTo>
                <a:cubicBezTo>
                  <a:pt x="20638" y="11322"/>
                  <a:pt x="20650" y="11346"/>
                  <a:pt x="20712" y="11435"/>
                </a:cubicBezTo>
                <a:cubicBezTo>
                  <a:pt x="20760" y="11504"/>
                  <a:pt x="20674" y="11550"/>
                  <a:pt x="20613" y="11584"/>
                </a:cubicBezTo>
                <a:cubicBezTo>
                  <a:pt x="20549" y="11620"/>
                  <a:pt x="20473" y="11631"/>
                  <a:pt x="20414" y="11658"/>
                </a:cubicBezTo>
                <a:cubicBezTo>
                  <a:pt x="20406" y="11666"/>
                  <a:pt x="20397" y="11675"/>
                  <a:pt x="20389" y="11683"/>
                </a:cubicBezTo>
                <a:cubicBezTo>
                  <a:pt x="20509" y="11723"/>
                  <a:pt x="20645" y="11765"/>
                  <a:pt x="20737" y="11857"/>
                </a:cubicBezTo>
                <a:cubicBezTo>
                  <a:pt x="20794" y="11914"/>
                  <a:pt x="20859" y="12072"/>
                  <a:pt x="20836" y="12154"/>
                </a:cubicBezTo>
                <a:cubicBezTo>
                  <a:pt x="20799" y="12286"/>
                  <a:pt x="20761" y="12270"/>
                  <a:pt x="20662" y="12303"/>
                </a:cubicBezTo>
                <a:cubicBezTo>
                  <a:pt x="20591" y="12327"/>
                  <a:pt x="20535" y="12347"/>
                  <a:pt x="20464" y="12303"/>
                </a:cubicBezTo>
                <a:cubicBezTo>
                  <a:pt x="20427" y="12280"/>
                  <a:pt x="20421" y="12241"/>
                  <a:pt x="20414" y="12204"/>
                </a:cubicBezTo>
              </a:path>
              <a:path w="4565" h="4317">
                <a:moveTo>
                  <a:pt x="21679" y="11708"/>
                </a:moveTo>
                <a:cubicBezTo>
                  <a:pt x="21809" y="11708"/>
                  <a:pt x="21905" y="11711"/>
                  <a:pt x="22027" y="11683"/>
                </a:cubicBezTo>
              </a:path>
              <a:path w="4565" h="4317">
                <a:moveTo>
                  <a:pt x="22299" y="11361"/>
                </a:moveTo>
                <a:cubicBezTo>
                  <a:pt x="22288" y="11449"/>
                  <a:pt x="22270" y="11537"/>
                  <a:pt x="22349" y="11609"/>
                </a:cubicBezTo>
                <a:cubicBezTo>
                  <a:pt x="22390" y="11646"/>
                  <a:pt x="22448" y="11652"/>
                  <a:pt x="22498" y="11658"/>
                </a:cubicBezTo>
              </a:path>
              <a:path w="4565" h="4317">
                <a:moveTo>
                  <a:pt x="22622" y="10988"/>
                </a:moveTo>
                <a:cubicBezTo>
                  <a:pt x="22611" y="11286"/>
                  <a:pt x="22624" y="11502"/>
                  <a:pt x="22647" y="11782"/>
                </a:cubicBezTo>
                <a:cubicBezTo>
                  <a:pt x="22655" y="11880"/>
                  <a:pt x="22644" y="11962"/>
                  <a:pt x="22622" y="12055"/>
                </a:cubicBezTo>
              </a:path>
              <a:path w="4565" h="4317">
                <a:moveTo>
                  <a:pt x="18083" y="13915"/>
                </a:moveTo>
                <a:cubicBezTo>
                  <a:pt x="18129" y="13966"/>
                  <a:pt x="18179" y="14050"/>
                  <a:pt x="18231" y="14089"/>
                </a:cubicBezTo>
                <a:cubicBezTo>
                  <a:pt x="18291" y="14134"/>
                  <a:pt x="18383" y="14153"/>
                  <a:pt x="18455" y="14163"/>
                </a:cubicBezTo>
                <a:cubicBezTo>
                  <a:pt x="18613" y="14186"/>
                  <a:pt x="18770" y="14169"/>
                  <a:pt x="18926" y="14163"/>
                </a:cubicBezTo>
                <a:cubicBezTo>
                  <a:pt x="19181" y="14154"/>
                  <a:pt x="19440" y="14155"/>
                  <a:pt x="19695" y="14139"/>
                </a:cubicBezTo>
                <a:cubicBezTo>
                  <a:pt x="20058" y="14116"/>
                  <a:pt x="20423" y="14116"/>
                  <a:pt x="20786" y="14089"/>
                </a:cubicBezTo>
                <a:cubicBezTo>
                  <a:pt x="21067" y="14068"/>
                  <a:pt x="21350" y="14085"/>
                  <a:pt x="21630" y="14064"/>
                </a:cubicBezTo>
                <a:cubicBezTo>
                  <a:pt x="21814" y="14050"/>
                  <a:pt x="22048" y="14072"/>
                  <a:pt x="22225" y="14015"/>
                </a:cubicBezTo>
                <a:cubicBezTo>
                  <a:pt x="22305" y="13989"/>
                  <a:pt x="22465" y="13954"/>
                  <a:pt x="22498" y="13866"/>
                </a:cubicBezTo>
                <a:cubicBezTo>
                  <a:pt x="22498" y="13808"/>
                  <a:pt x="22498" y="13783"/>
                  <a:pt x="22498" y="13742"/>
                </a:cubicBezTo>
              </a:path>
              <a:path w="4565" h="4317">
                <a:moveTo>
                  <a:pt x="18802" y="12973"/>
                </a:moveTo>
                <a:cubicBezTo>
                  <a:pt x="18809" y="13126"/>
                  <a:pt x="18832" y="13248"/>
                  <a:pt x="18876" y="13395"/>
                </a:cubicBezTo>
                <a:cubicBezTo>
                  <a:pt x="18912" y="13515"/>
                  <a:pt x="18945" y="13629"/>
                  <a:pt x="19000" y="13742"/>
                </a:cubicBezTo>
              </a:path>
              <a:path w="4565" h="4317">
                <a:moveTo>
                  <a:pt x="18604" y="13543"/>
                </a:moveTo>
                <a:cubicBezTo>
                  <a:pt x="18632" y="13623"/>
                  <a:pt x="18665" y="13691"/>
                  <a:pt x="18728" y="13742"/>
                </a:cubicBezTo>
                <a:cubicBezTo>
                  <a:pt x="18780" y="13784"/>
                  <a:pt x="18862" y="13812"/>
                  <a:pt x="18926" y="13816"/>
                </a:cubicBezTo>
                <a:cubicBezTo>
                  <a:pt x="18999" y="13820"/>
                  <a:pt x="19045" y="13817"/>
                  <a:pt x="19100" y="13767"/>
                </a:cubicBezTo>
                <a:cubicBezTo>
                  <a:pt x="19140" y="13730"/>
                  <a:pt x="19182" y="13704"/>
                  <a:pt x="19224" y="13667"/>
                </a:cubicBezTo>
              </a:path>
              <a:path w="4565" h="4317">
                <a:moveTo>
                  <a:pt x="19224" y="14362"/>
                </a:moveTo>
                <a:cubicBezTo>
                  <a:pt x="19242" y="14526"/>
                  <a:pt x="19246" y="14697"/>
                  <a:pt x="19273" y="14858"/>
                </a:cubicBezTo>
                <a:cubicBezTo>
                  <a:pt x="19294" y="14982"/>
                  <a:pt x="19318" y="15105"/>
                  <a:pt x="19323" y="15230"/>
                </a:cubicBezTo>
                <a:cubicBezTo>
                  <a:pt x="19323" y="15255"/>
                  <a:pt x="19323" y="15279"/>
                  <a:pt x="19323" y="15304"/>
                </a:cubicBezTo>
              </a:path>
              <a:path w="4565" h="4317">
                <a:moveTo>
                  <a:pt x="19993" y="13122"/>
                </a:moveTo>
                <a:cubicBezTo>
                  <a:pt x="20112" y="13130"/>
                  <a:pt x="20223" y="13156"/>
                  <a:pt x="20340" y="13171"/>
                </a:cubicBezTo>
                <a:cubicBezTo>
                  <a:pt x="20356" y="13171"/>
                  <a:pt x="20373" y="13171"/>
                  <a:pt x="20389" y="13171"/>
                </a:cubicBezTo>
              </a:path>
              <a:path w="4565" h="4317">
                <a:moveTo>
                  <a:pt x="20687" y="12700"/>
                </a:moveTo>
                <a:cubicBezTo>
                  <a:pt x="20711" y="12844"/>
                  <a:pt x="20729" y="12983"/>
                  <a:pt x="20762" y="13122"/>
                </a:cubicBezTo>
                <a:cubicBezTo>
                  <a:pt x="20787" y="13228"/>
                  <a:pt x="20806" y="13337"/>
                  <a:pt x="20811" y="13444"/>
                </a:cubicBezTo>
                <a:cubicBezTo>
                  <a:pt x="20811" y="13461"/>
                  <a:pt x="20811" y="13477"/>
                  <a:pt x="20811" y="13494"/>
                </a:cubicBezTo>
              </a:path>
              <a:path w="4565" h="4317">
                <a:moveTo>
                  <a:pt x="20662" y="14461"/>
                </a:moveTo>
                <a:cubicBezTo>
                  <a:pt x="20672" y="14395"/>
                  <a:pt x="20689" y="14385"/>
                  <a:pt x="20737" y="14337"/>
                </a:cubicBezTo>
                <a:cubicBezTo>
                  <a:pt x="20792" y="14282"/>
                  <a:pt x="20822" y="14224"/>
                  <a:pt x="20910" y="14238"/>
                </a:cubicBezTo>
                <a:cubicBezTo>
                  <a:pt x="21001" y="14253"/>
                  <a:pt x="21028" y="14308"/>
                  <a:pt x="21059" y="14387"/>
                </a:cubicBezTo>
                <a:cubicBezTo>
                  <a:pt x="21092" y="14470"/>
                  <a:pt x="21101" y="14595"/>
                  <a:pt x="21084" y="14684"/>
                </a:cubicBezTo>
                <a:cubicBezTo>
                  <a:pt x="21063" y="14798"/>
                  <a:pt x="21009" y="14908"/>
                  <a:pt x="20935" y="14982"/>
                </a:cubicBezTo>
                <a:cubicBezTo>
                  <a:pt x="20883" y="15034"/>
                  <a:pt x="20857" y="15052"/>
                  <a:pt x="20786" y="15007"/>
                </a:cubicBezTo>
                <a:cubicBezTo>
                  <a:pt x="20736" y="14976"/>
                  <a:pt x="20722" y="14914"/>
                  <a:pt x="20737" y="14858"/>
                </a:cubicBezTo>
                <a:cubicBezTo>
                  <a:pt x="20745" y="14841"/>
                  <a:pt x="20754" y="14825"/>
                  <a:pt x="20762" y="14808"/>
                </a:cubicBezTo>
                <a:cubicBezTo>
                  <a:pt x="20855" y="14820"/>
                  <a:pt x="20886" y="14854"/>
                  <a:pt x="20960" y="14908"/>
                </a:cubicBezTo>
                <a:cubicBezTo>
                  <a:pt x="21026" y="14957"/>
                  <a:pt x="21089" y="15015"/>
                  <a:pt x="21158" y="15056"/>
                </a:cubicBezTo>
                <a:cubicBezTo>
                  <a:pt x="21170" y="15063"/>
                  <a:pt x="21302" y="15157"/>
                  <a:pt x="21307" y="15156"/>
                </a:cubicBezTo>
                <a:cubicBezTo>
                  <a:pt x="21315" y="15148"/>
                  <a:pt x="21324" y="15139"/>
                  <a:pt x="21332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19"/>
          <p:cNvSpPr/>
          <p:nvPr/>
        </p:nvSpPr>
        <p:spPr>
          <a:xfrm>
            <a:off x="7875720" y="4537080"/>
            <a:ext cx="447480" cy="812880"/>
          </a:xfrm>
          <a:custGeom>
            <a:avLst/>
            <a:gdLst/>
            <a:ahLst/>
            <a:rect l="l" t="t" r="r" b="b"/>
            <a:pathLst>
              <a:path w="1241" h="2258">
                <a:moveTo>
                  <a:pt x="21878" y="12998"/>
                </a:moveTo>
                <a:cubicBezTo>
                  <a:pt x="22006" y="12998"/>
                  <a:pt x="22084" y="13000"/>
                  <a:pt x="22200" y="12948"/>
                </a:cubicBezTo>
              </a:path>
              <a:path w="1241" h="2258">
                <a:moveTo>
                  <a:pt x="22349" y="12675"/>
                </a:moveTo>
                <a:cubicBezTo>
                  <a:pt x="22428" y="12624"/>
                  <a:pt x="22520" y="12539"/>
                  <a:pt x="22597" y="12650"/>
                </a:cubicBezTo>
                <a:cubicBezTo>
                  <a:pt x="22667" y="12751"/>
                  <a:pt x="22662" y="12892"/>
                  <a:pt x="22597" y="12998"/>
                </a:cubicBezTo>
                <a:cubicBezTo>
                  <a:pt x="22538" y="13094"/>
                  <a:pt x="22454" y="13127"/>
                  <a:pt x="22374" y="13196"/>
                </a:cubicBezTo>
                <a:cubicBezTo>
                  <a:pt x="22346" y="13224"/>
                  <a:pt x="22332" y="13233"/>
                  <a:pt x="22299" y="13221"/>
                </a:cubicBezTo>
                <a:cubicBezTo>
                  <a:pt x="22275" y="13195"/>
                  <a:pt x="22391" y="13160"/>
                  <a:pt x="22448" y="13171"/>
                </a:cubicBezTo>
                <a:cubicBezTo>
                  <a:pt x="22533" y="13187"/>
                  <a:pt x="22595" y="13252"/>
                  <a:pt x="22671" y="13271"/>
                </a:cubicBezTo>
              </a:path>
              <a:path w="1241" h="2258">
                <a:moveTo>
                  <a:pt x="22349" y="14288"/>
                </a:moveTo>
                <a:cubicBezTo>
                  <a:pt x="22401" y="14288"/>
                  <a:pt x="22419" y="14287"/>
                  <a:pt x="22448" y="14263"/>
                </a:cubicBezTo>
              </a:path>
              <a:path w="1241" h="2258">
                <a:moveTo>
                  <a:pt x="22622" y="14139"/>
                </a:moveTo>
                <a:cubicBezTo>
                  <a:pt x="22570" y="14228"/>
                  <a:pt x="22526" y="14303"/>
                  <a:pt x="22547" y="14412"/>
                </a:cubicBezTo>
                <a:cubicBezTo>
                  <a:pt x="22566" y="14508"/>
                  <a:pt x="22622" y="14583"/>
                  <a:pt x="22671" y="14660"/>
                </a:cubicBezTo>
                <a:cubicBezTo>
                  <a:pt x="22728" y="14750"/>
                  <a:pt x="22764" y="14767"/>
                  <a:pt x="22870" y="14734"/>
                </a:cubicBezTo>
                <a:cubicBezTo>
                  <a:pt x="22944" y="14711"/>
                  <a:pt x="22991" y="14684"/>
                  <a:pt x="22994" y="14610"/>
                </a:cubicBezTo>
                <a:cubicBezTo>
                  <a:pt x="22999" y="14511"/>
                  <a:pt x="22964" y="14491"/>
                  <a:pt x="22870" y="14486"/>
                </a:cubicBezTo>
                <a:cubicBezTo>
                  <a:pt x="22779" y="14481"/>
                  <a:pt x="22737" y="14536"/>
                  <a:pt x="22696" y="14610"/>
                </a:cubicBezTo>
                <a:cubicBezTo>
                  <a:pt x="22661" y="14681"/>
                  <a:pt x="22648" y="14721"/>
                  <a:pt x="22647" y="14784"/>
                </a:cubicBezTo>
              </a:path>
              <a:path w="1241" h="2258">
                <a:moveTo>
                  <a:pt x="22101" y="13915"/>
                </a:moveTo>
                <a:cubicBezTo>
                  <a:pt x="22278" y="14029"/>
                  <a:pt x="22400" y="14205"/>
                  <a:pt x="22547" y="14362"/>
                </a:cubicBezTo>
                <a:cubicBezTo>
                  <a:pt x="22687" y="14511"/>
                  <a:pt x="22808" y="14683"/>
                  <a:pt x="22969" y="14808"/>
                </a:cubicBezTo>
                <a:cubicBezTo>
                  <a:pt x="23040" y="14855"/>
                  <a:pt x="23059" y="14872"/>
                  <a:pt x="23118" y="14858"/>
                </a:cubicBezTo>
              </a:path>
              <a:path w="1241" h="2258">
                <a:moveTo>
                  <a:pt x="22994" y="14114"/>
                </a:moveTo>
                <a:cubicBezTo>
                  <a:pt x="22797" y="14274"/>
                  <a:pt x="22590" y="14421"/>
                  <a:pt x="22399" y="14585"/>
                </a:cubicBezTo>
                <a:cubicBezTo>
                  <a:pt x="22303" y="14680"/>
                  <a:pt x="22273" y="14709"/>
                  <a:pt x="22225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20"/>
          <p:cNvSpPr/>
          <p:nvPr/>
        </p:nvSpPr>
        <p:spPr>
          <a:xfrm>
            <a:off x="5938920" y="1482840"/>
            <a:ext cx="1643040" cy="71280"/>
          </a:xfrm>
          <a:custGeom>
            <a:avLst/>
            <a:gdLst/>
            <a:ahLst/>
            <a:rect l="l" t="t" r="r" b="b"/>
            <a:pathLst>
              <a:path w="4565" h="199">
                <a:moveTo>
                  <a:pt x="16495" y="4118"/>
                </a:moveTo>
                <a:cubicBezTo>
                  <a:pt x="16564" y="4131"/>
                  <a:pt x="16620" y="4140"/>
                  <a:pt x="16694" y="4142"/>
                </a:cubicBezTo>
                <a:cubicBezTo>
                  <a:pt x="17512" y="4168"/>
                  <a:pt x="18333" y="4108"/>
                  <a:pt x="19149" y="4167"/>
                </a:cubicBezTo>
                <a:cubicBezTo>
                  <a:pt x="19438" y="4188"/>
                  <a:pt x="19729" y="4193"/>
                  <a:pt x="20017" y="4217"/>
                </a:cubicBezTo>
                <a:cubicBezTo>
                  <a:pt x="20249" y="4237"/>
                  <a:pt x="20480" y="4277"/>
                  <a:pt x="20712" y="4291"/>
                </a:cubicBezTo>
                <a:cubicBezTo>
                  <a:pt x="20822" y="4298"/>
                  <a:pt x="20925" y="4311"/>
                  <a:pt x="21034" y="4316"/>
                </a:cubicBezTo>
                <a:cubicBezTo>
                  <a:pt x="21042" y="4316"/>
                  <a:pt x="21051" y="4316"/>
                  <a:pt x="21059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dfaf"/>
              </a:solidFill>
              <a:latin typeface="Arial"/>
            </a:endParaRPr>
          </a:p>
        </p:txBody>
      </p:sp>
      <p:pic>
        <p:nvPicPr>
          <p:cNvPr id="205" name="Picture 3" descr="Graph_paper_xy_axis%20(large)"/>
          <p:cNvPicPr/>
          <p:nvPr/>
        </p:nvPicPr>
        <p:blipFill>
          <a:blip r:embed="rId1"/>
          <a:stretch/>
        </p:blipFill>
        <p:spPr>
          <a:xfrm>
            <a:off x="2743200" y="106668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206" name="Ink 4"/>
          <p:cNvSpPr/>
          <p:nvPr/>
        </p:nvSpPr>
        <p:spPr>
          <a:xfrm>
            <a:off x="1847880" y="5464080"/>
            <a:ext cx="19080" cy="1800"/>
          </a:xfrm>
          <a:custGeom>
            <a:avLst/>
            <a:gdLst/>
            <a:ahLst/>
            <a:rect l="l" t="t" r="r" b="b"/>
            <a:pathLst>
              <a:path w="50" h="1">
                <a:moveTo>
                  <a:pt x="5184" y="15180"/>
                </a:moveTo>
                <a:lnTo>
                  <a:pt x="5184" y="15180"/>
                </a:lnTo>
              </a:path>
              <a:path w="50" h="1">
                <a:moveTo>
                  <a:pt x="5135" y="15180"/>
                </a:moveTo>
                <a:lnTo>
                  <a:pt x="5135" y="1518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Ink 5"/>
          <p:cNvSpPr/>
          <p:nvPr/>
        </p:nvSpPr>
        <p:spPr>
          <a:xfrm>
            <a:off x="4589640" y="2089080"/>
            <a:ext cx="1760400" cy="3251160"/>
          </a:xfrm>
          <a:custGeom>
            <a:avLst/>
            <a:gdLst/>
            <a:ahLst/>
            <a:rect l="l" t="t" r="r" b="b"/>
            <a:pathLst>
              <a:path w="4887" h="9030">
                <a:moveTo>
                  <a:pt x="13395" y="13643"/>
                </a:moveTo>
                <a:cubicBezTo>
                  <a:pt x="13374" y="13684"/>
                  <a:pt x="13428" y="13761"/>
                  <a:pt x="13469" y="13692"/>
                </a:cubicBezTo>
                <a:cubicBezTo>
                  <a:pt x="13510" y="13623"/>
                  <a:pt x="13460" y="13565"/>
                  <a:pt x="13395" y="13618"/>
                </a:cubicBezTo>
                <a:cubicBezTo>
                  <a:pt x="13349" y="13655"/>
                  <a:pt x="13398" y="13698"/>
                  <a:pt x="13419" y="13742"/>
                </a:cubicBezTo>
                <a:cubicBezTo>
                  <a:pt x="13486" y="13782"/>
                  <a:pt x="13514" y="13775"/>
                  <a:pt x="13519" y="13692"/>
                </a:cubicBezTo>
                <a:cubicBezTo>
                  <a:pt x="13526" y="13578"/>
                  <a:pt x="13457" y="13558"/>
                  <a:pt x="13370" y="13568"/>
                </a:cubicBezTo>
                <a:cubicBezTo>
                  <a:pt x="13345" y="13610"/>
                  <a:pt x="13318" y="13677"/>
                  <a:pt x="13370" y="13717"/>
                </a:cubicBezTo>
                <a:cubicBezTo>
                  <a:pt x="13426" y="13760"/>
                  <a:pt x="13502" y="13750"/>
                  <a:pt x="13543" y="13692"/>
                </a:cubicBezTo>
                <a:cubicBezTo>
                  <a:pt x="13574" y="13649"/>
                  <a:pt x="13554" y="13540"/>
                  <a:pt x="13494" y="13519"/>
                </a:cubicBezTo>
                <a:cubicBezTo>
                  <a:pt x="13451" y="13504"/>
                  <a:pt x="13339" y="13516"/>
                  <a:pt x="13320" y="13568"/>
                </a:cubicBezTo>
                <a:cubicBezTo>
                  <a:pt x="13304" y="13613"/>
                  <a:pt x="13350" y="13657"/>
                  <a:pt x="13370" y="13692"/>
                </a:cubicBezTo>
                <a:cubicBezTo>
                  <a:pt x="13439" y="13734"/>
                  <a:pt x="13487" y="13710"/>
                  <a:pt x="13519" y="13618"/>
                </a:cubicBezTo>
                <a:cubicBezTo>
                  <a:pt x="13548" y="13536"/>
                  <a:pt x="13448" y="13522"/>
                  <a:pt x="13395" y="13519"/>
                </a:cubicBezTo>
                <a:cubicBezTo>
                  <a:pt x="13350" y="13519"/>
                  <a:pt x="13337" y="13515"/>
                  <a:pt x="13320" y="13543"/>
                </a:cubicBezTo>
                <a:cubicBezTo>
                  <a:pt x="13283" y="13605"/>
                  <a:pt x="13294" y="13635"/>
                  <a:pt x="13345" y="13692"/>
                </a:cubicBezTo>
                <a:cubicBezTo>
                  <a:pt x="13388" y="13740"/>
                  <a:pt x="13475" y="13728"/>
                  <a:pt x="13519" y="13692"/>
                </a:cubicBezTo>
                <a:cubicBezTo>
                  <a:pt x="13602" y="13624"/>
                  <a:pt x="13505" y="13589"/>
                  <a:pt x="13469" y="13568"/>
                </a:cubicBezTo>
                <a:cubicBezTo>
                  <a:pt x="13447" y="13555"/>
                  <a:pt x="13340" y="13522"/>
                  <a:pt x="13345" y="13593"/>
                </a:cubicBezTo>
                <a:cubicBezTo>
                  <a:pt x="13350" y="13657"/>
                  <a:pt x="13378" y="13683"/>
                  <a:pt x="13419" y="13717"/>
                </a:cubicBezTo>
                <a:cubicBezTo>
                  <a:pt x="13450" y="13714"/>
                  <a:pt x="13563" y="13716"/>
                  <a:pt x="13543" y="13643"/>
                </a:cubicBezTo>
                <a:cubicBezTo>
                  <a:pt x="13525" y="13578"/>
                  <a:pt x="13473" y="13570"/>
                  <a:pt x="13419" y="13543"/>
                </a:cubicBezTo>
              </a:path>
              <a:path w="4887" h="9030">
                <a:moveTo>
                  <a:pt x="14114" y="9227"/>
                </a:moveTo>
                <a:cubicBezTo>
                  <a:pt x="14144" y="9239"/>
                  <a:pt x="14263" y="9255"/>
                  <a:pt x="14263" y="9178"/>
                </a:cubicBezTo>
                <a:cubicBezTo>
                  <a:pt x="14255" y="9170"/>
                  <a:pt x="14246" y="9161"/>
                  <a:pt x="14238" y="9153"/>
                </a:cubicBezTo>
                <a:cubicBezTo>
                  <a:pt x="14185" y="9153"/>
                  <a:pt x="14106" y="9137"/>
                  <a:pt x="14064" y="9178"/>
                </a:cubicBezTo>
                <a:cubicBezTo>
                  <a:pt x="14008" y="9233"/>
                  <a:pt x="14049" y="9308"/>
                  <a:pt x="14114" y="9327"/>
                </a:cubicBezTo>
                <a:cubicBezTo>
                  <a:pt x="14243" y="9365"/>
                  <a:pt x="14222" y="9286"/>
                  <a:pt x="14263" y="9227"/>
                </a:cubicBezTo>
                <a:cubicBezTo>
                  <a:pt x="14271" y="9227"/>
                  <a:pt x="14280" y="9227"/>
                  <a:pt x="14288" y="9227"/>
                </a:cubicBezTo>
                <a:cubicBezTo>
                  <a:pt x="14251" y="9161"/>
                  <a:pt x="14180" y="9095"/>
                  <a:pt x="14089" y="9178"/>
                </a:cubicBezTo>
                <a:cubicBezTo>
                  <a:pt x="14034" y="9228"/>
                  <a:pt x="14030" y="9261"/>
                  <a:pt x="14064" y="9327"/>
                </a:cubicBezTo>
                <a:cubicBezTo>
                  <a:pt x="14095" y="9387"/>
                  <a:pt x="14136" y="9431"/>
                  <a:pt x="14213" y="9401"/>
                </a:cubicBezTo>
                <a:cubicBezTo>
                  <a:pt x="14268" y="9380"/>
                  <a:pt x="14258" y="9297"/>
                  <a:pt x="14263" y="9252"/>
                </a:cubicBezTo>
                <a:cubicBezTo>
                  <a:pt x="14221" y="9227"/>
                  <a:pt x="14154" y="9200"/>
                  <a:pt x="14114" y="9252"/>
                </a:cubicBezTo>
                <a:cubicBezTo>
                  <a:pt x="14061" y="9321"/>
                  <a:pt x="14075" y="9282"/>
                  <a:pt x="14064" y="9376"/>
                </a:cubicBezTo>
                <a:cubicBezTo>
                  <a:pt x="14169" y="9402"/>
                  <a:pt x="14074" y="9462"/>
                  <a:pt x="14188" y="9401"/>
                </a:cubicBezTo>
                <a:cubicBezTo>
                  <a:pt x="14227" y="9380"/>
                  <a:pt x="14346" y="9268"/>
                  <a:pt x="14263" y="9227"/>
                </a:cubicBezTo>
                <a:cubicBezTo>
                  <a:pt x="14218" y="9205"/>
                  <a:pt x="14152" y="9237"/>
                  <a:pt x="14114" y="9252"/>
                </a:cubicBezTo>
                <a:cubicBezTo>
                  <a:pt x="14094" y="9298"/>
                  <a:pt x="14065" y="9401"/>
                  <a:pt x="14163" y="9401"/>
                </a:cubicBezTo>
                <a:cubicBezTo>
                  <a:pt x="14216" y="9401"/>
                  <a:pt x="14269" y="9345"/>
                  <a:pt x="14288" y="9302"/>
                </a:cubicBezTo>
                <a:cubicBezTo>
                  <a:pt x="14318" y="9235"/>
                  <a:pt x="14282" y="9107"/>
                  <a:pt x="14188" y="9178"/>
                </a:cubicBezTo>
                <a:cubicBezTo>
                  <a:pt x="14166" y="9195"/>
                  <a:pt x="14145" y="9235"/>
                  <a:pt x="14139" y="9252"/>
                </a:cubicBezTo>
              </a:path>
              <a:path w="4887" h="9030">
                <a:moveTo>
                  <a:pt x="13072" y="14635"/>
                </a:moveTo>
                <a:cubicBezTo>
                  <a:pt x="13096" y="14682"/>
                  <a:pt x="13102" y="14699"/>
                  <a:pt x="13146" y="14684"/>
                </a:cubicBezTo>
                <a:cubicBezTo>
                  <a:pt x="13146" y="14344"/>
                  <a:pt x="13181" y="14012"/>
                  <a:pt x="13196" y="13692"/>
                </a:cubicBezTo>
                <a:cubicBezTo>
                  <a:pt x="13208" y="13448"/>
                  <a:pt x="13196" y="13211"/>
                  <a:pt x="13221" y="12973"/>
                </a:cubicBezTo>
                <a:cubicBezTo>
                  <a:pt x="13228" y="12905"/>
                  <a:pt x="13238" y="12844"/>
                  <a:pt x="13246" y="12774"/>
                </a:cubicBezTo>
                <a:cubicBezTo>
                  <a:pt x="13255" y="12694"/>
                  <a:pt x="13257" y="12606"/>
                  <a:pt x="13271" y="12526"/>
                </a:cubicBezTo>
                <a:cubicBezTo>
                  <a:pt x="13285" y="12445"/>
                  <a:pt x="13303" y="12359"/>
                  <a:pt x="13320" y="12278"/>
                </a:cubicBezTo>
                <a:cubicBezTo>
                  <a:pt x="13338" y="12189"/>
                  <a:pt x="13354" y="12097"/>
                  <a:pt x="13370" y="12005"/>
                </a:cubicBezTo>
                <a:cubicBezTo>
                  <a:pt x="13386" y="11910"/>
                  <a:pt x="13401" y="11806"/>
                  <a:pt x="13419" y="11708"/>
                </a:cubicBezTo>
                <a:cubicBezTo>
                  <a:pt x="13432" y="11634"/>
                  <a:pt x="13457" y="11561"/>
                  <a:pt x="13469" y="11485"/>
                </a:cubicBezTo>
                <a:cubicBezTo>
                  <a:pt x="13486" y="11375"/>
                  <a:pt x="13497" y="11267"/>
                  <a:pt x="13519" y="11162"/>
                </a:cubicBezTo>
                <a:cubicBezTo>
                  <a:pt x="13538" y="11069"/>
                  <a:pt x="13549" y="10980"/>
                  <a:pt x="13568" y="10889"/>
                </a:cubicBezTo>
                <a:cubicBezTo>
                  <a:pt x="13590" y="10786"/>
                  <a:pt x="13600" y="10694"/>
                  <a:pt x="13618" y="10592"/>
                </a:cubicBezTo>
                <a:cubicBezTo>
                  <a:pt x="13630" y="10526"/>
                  <a:pt x="13649" y="10418"/>
                  <a:pt x="13667" y="10344"/>
                </a:cubicBezTo>
                <a:cubicBezTo>
                  <a:pt x="13696" y="10227"/>
                  <a:pt x="13734" y="10107"/>
                  <a:pt x="13767" y="9996"/>
                </a:cubicBezTo>
                <a:cubicBezTo>
                  <a:pt x="13807" y="9860"/>
                  <a:pt x="13869" y="9727"/>
                  <a:pt x="13915" y="9599"/>
                </a:cubicBezTo>
                <a:cubicBezTo>
                  <a:pt x="13953" y="9494"/>
                  <a:pt x="13979" y="9406"/>
                  <a:pt x="14015" y="9302"/>
                </a:cubicBezTo>
                <a:cubicBezTo>
                  <a:pt x="14074" y="9132"/>
                  <a:pt x="14137" y="8967"/>
                  <a:pt x="14213" y="8806"/>
                </a:cubicBezTo>
                <a:cubicBezTo>
                  <a:pt x="14290" y="8642"/>
                  <a:pt x="14360" y="8485"/>
                  <a:pt x="14461" y="8334"/>
                </a:cubicBezTo>
                <a:cubicBezTo>
                  <a:pt x="14628" y="8085"/>
                  <a:pt x="14770" y="7903"/>
                  <a:pt x="14957" y="7689"/>
                </a:cubicBezTo>
                <a:cubicBezTo>
                  <a:pt x="15099" y="7526"/>
                  <a:pt x="15246" y="7389"/>
                  <a:pt x="15404" y="7243"/>
                </a:cubicBezTo>
                <a:cubicBezTo>
                  <a:pt x="15674" y="6994"/>
                  <a:pt x="15970" y="6782"/>
                  <a:pt x="16272" y="6573"/>
                </a:cubicBezTo>
                <a:cubicBezTo>
                  <a:pt x="16449" y="6450"/>
                  <a:pt x="16634" y="6309"/>
                  <a:pt x="16818" y="6201"/>
                </a:cubicBezTo>
                <a:cubicBezTo>
                  <a:pt x="16955" y="6121"/>
                  <a:pt x="17117" y="6042"/>
                  <a:pt x="17264" y="5978"/>
                </a:cubicBezTo>
                <a:cubicBezTo>
                  <a:pt x="17362" y="5936"/>
                  <a:pt x="17471" y="5895"/>
                  <a:pt x="17562" y="5854"/>
                </a:cubicBezTo>
              </a:path>
              <a:path w="4887" h="9030">
                <a:moveTo>
                  <a:pt x="17363" y="5804"/>
                </a:moveTo>
                <a:cubicBezTo>
                  <a:pt x="17347" y="5804"/>
                  <a:pt x="17330" y="5804"/>
                  <a:pt x="17314" y="5804"/>
                </a:cubicBezTo>
                <a:cubicBezTo>
                  <a:pt x="17373" y="5865"/>
                  <a:pt x="17446" y="5899"/>
                  <a:pt x="17512" y="5953"/>
                </a:cubicBezTo>
                <a:cubicBezTo>
                  <a:pt x="17597" y="6022"/>
                  <a:pt x="17661" y="6138"/>
                  <a:pt x="17636" y="6251"/>
                </a:cubicBezTo>
                <a:cubicBezTo>
                  <a:pt x="17599" y="6416"/>
                  <a:pt x="17485" y="6596"/>
                  <a:pt x="17413" y="6747"/>
                </a:cubicBezTo>
              </a:path>
              <a:path w="4887" h="9030">
                <a:moveTo>
                  <a:pt x="12774" y="14015"/>
                </a:moveTo>
                <a:cubicBezTo>
                  <a:pt x="12766" y="14157"/>
                  <a:pt x="12750" y="14293"/>
                  <a:pt x="12750" y="14436"/>
                </a:cubicBezTo>
                <a:cubicBezTo>
                  <a:pt x="12750" y="14528"/>
                  <a:pt x="12762" y="14626"/>
                  <a:pt x="12799" y="14709"/>
                </a:cubicBezTo>
                <a:cubicBezTo>
                  <a:pt x="12824" y="14765"/>
                  <a:pt x="12875" y="14836"/>
                  <a:pt x="12948" y="14833"/>
                </a:cubicBezTo>
                <a:cubicBezTo>
                  <a:pt x="13064" y="14828"/>
                  <a:pt x="13264" y="14738"/>
                  <a:pt x="13345" y="14660"/>
                </a:cubicBezTo>
                <a:cubicBezTo>
                  <a:pt x="13436" y="14561"/>
                  <a:pt x="13527" y="14461"/>
                  <a:pt x="13618" y="143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Ink 6"/>
          <p:cNvSpPr/>
          <p:nvPr/>
        </p:nvSpPr>
        <p:spPr>
          <a:xfrm>
            <a:off x="2857680" y="1357200"/>
            <a:ext cx="1322280" cy="3090960"/>
          </a:xfrm>
          <a:custGeom>
            <a:avLst/>
            <a:gdLst/>
            <a:ahLst/>
            <a:rect l="l" t="t" r="r" b="b"/>
            <a:pathLst>
              <a:path w="3672" h="8584">
                <a:moveTo>
                  <a:pt x="10393" y="9227"/>
                </a:moveTo>
                <a:cubicBezTo>
                  <a:pt x="10400" y="9259"/>
                  <a:pt x="10445" y="9375"/>
                  <a:pt x="10517" y="9302"/>
                </a:cubicBezTo>
                <a:cubicBezTo>
                  <a:pt x="10564" y="9255"/>
                  <a:pt x="10538" y="9225"/>
                  <a:pt x="10517" y="9178"/>
                </a:cubicBezTo>
                <a:cubicBezTo>
                  <a:pt x="10484" y="9217"/>
                  <a:pt x="10395" y="9232"/>
                  <a:pt x="10418" y="9302"/>
                </a:cubicBezTo>
                <a:cubicBezTo>
                  <a:pt x="10441" y="9370"/>
                  <a:pt x="10479" y="9376"/>
                  <a:pt x="10542" y="9376"/>
                </a:cubicBezTo>
                <a:cubicBezTo>
                  <a:pt x="10594" y="9376"/>
                  <a:pt x="10611" y="9375"/>
                  <a:pt x="10616" y="9327"/>
                </a:cubicBezTo>
                <a:cubicBezTo>
                  <a:pt x="10613" y="9311"/>
                  <a:pt x="10573" y="9172"/>
                  <a:pt x="10542" y="9178"/>
                </a:cubicBezTo>
                <a:cubicBezTo>
                  <a:pt x="10459" y="9195"/>
                  <a:pt x="10367" y="9234"/>
                  <a:pt x="10319" y="9302"/>
                </a:cubicBezTo>
                <a:cubicBezTo>
                  <a:pt x="10365" y="9405"/>
                  <a:pt x="10375" y="9376"/>
                  <a:pt x="10492" y="9376"/>
                </a:cubicBezTo>
                <a:cubicBezTo>
                  <a:pt x="10557" y="9376"/>
                  <a:pt x="10585" y="9282"/>
                  <a:pt x="10567" y="9227"/>
                </a:cubicBezTo>
                <a:cubicBezTo>
                  <a:pt x="10559" y="9211"/>
                  <a:pt x="10550" y="9194"/>
                  <a:pt x="10542" y="9178"/>
                </a:cubicBezTo>
                <a:cubicBezTo>
                  <a:pt x="10498" y="9231"/>
                  <a:pt x="10453" y="9202"/>
                  <a:pt x="10418" y="9252"/>
                </a:cubicBezTo>
                <a:cubicBezTo>
                  <a:pt x="10389" y="9294"/>
                  <a:pt x="10378" y="9378"/>
                  <a:pt x="10443" y="9401"/>
                </a:cubicBezTo>
                <a:cubicBezTo>
                  <a:pt x="10524" y="9430"/>
                  <a:pt x="10616" y="9324"/>
                  <a:pt x="10616" y="9252"/>
                </a:cubicBezTo>
                <a:cubicBezTo>
                  <a:pt x="10608" y="9244"/>
                  <a:pt x="10600" y="9235"/>
                  <a:pt x="10592" y="9227"/>
                </a:cubicBezTo>
                <a:cubicBezTo>
                  <a:pt x="10563" y="9230"/>
                  <a:pt x="10390" y="9237"/>
                  <a:pt x="10443" y="9327"/>
                </a:cubicBezTo>
                <a:cubicBezTo>
                  <a:pt x="10459" y="9343"/>
                  <a:pt x="10476" y="9360"/>
                  <a:pt x="10492" y="9376"/>
                </a:cubicBezTo>
              </a:path>
              <a:path w="3672" h="8584">
                <a:moveTo>
                  <a:pt x="10988" y="3770"/>
                </a:moveTo>
                <a:cubicBezTo>
                  <a:pt x="11060" y="3842"/>
                  <a:pt x="11103" y="3835"/>
                  <a:pt x="11162" y="3919"/>
                </a:cubicBezTo>
                <a:cubicBezTo>
                  <a:pt x="11233" y="4019"/>
                  <a:pt x="11317" y="4185"/>
                  <a:pt x="11361" y="4291"/>
                </a:cubicBezTo>
                <a:cubicBezTo>
                  <a:pt x="11436" y="4470"/>
                  <a:pt x="11465" y="4654"/>
                  <a:pt x="11509" y="4837"/>
                </a:cubicBezTo>
                <a:cubicBezTo>
                  <a:pt x="11541" y="4968"/>
                  <a:pt x="11543" y="5078"/>
                  <a:pt x="11559" y="5209"/>
                </a:cubicBezTo>
                <a:cubicBezTo>
                  <a:pt x="11583" y="5408"/>
                  <a:pt x="11571" y="5603"/>
                  <a:pt x="11584" y="5804"/>
                </a:cubicBezTo>
                <a:cubicBezTo>
                  <a:pt x="11593" y="5943"/>
                  <a:pt x="11588" y="6063"/>
                  <a:pt x="11584" y="6201"/>
                </a:cubicBezTo>
                <a:cubicBezTo>
                  <a:pt x="11580" y="6344"/>
                  <a:pt x="11575" y="6482"/>
                  <a:pt x="11559" y="6623"/>
                </a:cubicBezTo>
                <a:cubicBezTo>
                  <a:pt x="11542" y="6779"/>
                  <a:pt x="11526" y="6940"/>
                  <a:pt x="11509" y="7094"/>
                </a:cubicBezTo>
                <a:cubicBezTo>
                  <a:pt x="11496" y="7216"/>
                  <a:pt x="11466" y="7323"/>
                  <a:pt x="11435" y="7441"/>
                </a:cubicBezTo>
                <a:cubicBezTo>
                  <a:pt x="11386" y="7624"/>
                  <a:pt x="11331" y="7837"/>
                  <a:pt x="11261" y="8012"/>
                </a:cubicBezTo>
                <a:cubicBezTo>
                  <a:pt x="11227" y="8097"/>
                  <a:pt x="11184" y="8179"/>
                  <a:pt x="11137" y="8260"/>
                </a:cubicBezTo>
                <a:cubicBezTo>
                  <a:pt x="11092" y="8338"/>
                  <a:pt x="11030" y="8397"/>
                  <a:pt x="10988" y="8483"/>
                </a:cubicBezTo>
                <a:cubicBezTo>
                  <a:pt x="10940" y="8581"/>
                  <a:pt x="10900" y="8685"/>
                  <a:pt x="10840" y="8781"/>
                </a:cubicBezTo>
                <a:cubicBezTo>
                  <a:pt x="10793" y="8857"/>
                  <a:pt x="10746" y="8924"/>
                  <a:pt x="10691" y="9004"/>
                </a:cubicBezTo>
                <a:cubicBezTo>
                  <a:pt x="10548" y="9211"/>
                  <a:pt x="10392" y="9400"/>
                  <a:pt x="10244" y="9599"/>
                </a:cubicBezTo>
                <a:cubicBezTo>
                  <a:pt x="10134" y="9746"/>
                  <a:pt x="10039" y="9914"/>
                  <a:pt x="9922" y="10046"/>
                </a:cubicBezTo>
                <a:cubicBezTo>
                  <a:pt x="9726" y="10266"/>
                  <a:pt x="9512" y="10479"/>
                  <a:pt x="9327" y="10716"/>
                </a:cubicBezTo>
                <a:cubicBezTo>
                  <a:pt x="9095" y="11013"/>
                  <a:pt x="8859" y="11308"/>
                  <a:pt x="8632" y="11609"/>
                </a:cubicBezTo>
                <a:cubicBezTo>
                  <a:pt x="8489" y="11799"/>
                  <a:pt x="8364" y="12017"/>
                  <a:pt x="8186" y="12179"/>
                </a:cubicBezTo>
                <a:cubicBezTo>
                  <a:pt x="8121" y="12238"/>
                  <a:pt x="8074" y="12253"/>
                  <a:pt x="8012" y="12303"/>
                </a:cubicBezTo>
              </a:path>
              <a:path w="3672" h="8584">
                <a:moveTo>
                  <a:pt x="8012" y="11757"/>
                </a:moveTo>
                <a:cubicBezTo>
                  <a:pt x="8047" y="11758"/>
                  <a:pt x="8008" y="11873"/>
                  <a:pt x="7987" y="11956"/>
                </a:cubicBezTo>
                <a:cubicBezTo>
                  <a:pt x="7961" y="12060"/>
                  <a:pt x="7896" y="12211"/>
                  <a:pt x="7962" y="12303"/>
                </a:cubicBezTo>
                <a:cubicBezTo>
                  <a:pt x="8048" y="12422"/>
                  <a:pt x="8182" y="12305"/>
                  <a:pt x="8260" y="12254"/>
                </a:cubicBezTo>
                <a:cubicBezTo>
                  <a:pt x="8440" y="12136"/>
                  <a:pt x="8530" y="12004"/>
                  <a:pt x="8657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7"/>
          <p:cNvSpPr/>
          <p:nvPr/>
        </p:nvSpPr>
        <p:spPr>
          <a:xfrm>
            <a:off x="4554360" y="1562040"/>
            <a:ext cx="9720" cy="11736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2650" y="4341"/>
                </a:moveTo>
                <a:cubicBezTo>
                  <a:pt x="12677" y="4411"/>
                  <a:pt x="12675" y="4463"/>
                  <a:pt x="12675" y="4539"/>
                </a:cubicBezTo>
                <a:cubicBezTo>
                  <a:pt x="12675" y="4580"/>
                  <a:pt x="12675" y="4622"/>
                  <a:pt x="12675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8"/>
          <p:cNvSpPr/>
          <p:nvPr/>
        </p:nvSpPr>
        <p:spPr>
          <a:xfrm>
            <a:off x="4554360" y="1812960"/>
            <a:ext cx="36720" cy="312840"/>
          </a:xfrm>
          <a:custGeom>
            <a:avLst/>
            <a:gdLst/>
            <a:ahLst/>
            <a:rect l="l" t="t" r="r" b="b"/>
            <a:pathLst>
              <a:path w="101" h="870">
                <a:moveTo>
                  <a:pt x="12650" y="5035"/>
                </a:moveTo>
                <a:cubicBezTo>
                  <a:pt x="12658" y="5091"/>
                  <a:pt x="12657" y="5178"/>
                  <a:pt x="12675" y="5234"/>
                </a:cubicBezTo>
                <a:cubicBezTo>
                  <a:pt x="12693" y="5291"/>
                  <a:pt x="12700" y="5337"/>
                  <a:pt x="12700" y="5407"/>
                </a:cubicBezTo>
              </a:path>
              <a:path w="101" h="870">
                <a:moveTo>
                  <a:pt x="12700" y="5606"/>
                </a:moveTo>
                <a:cubicBezTo>
                  <a:pt x="12700" y="5688"/>
                  <a:pt x="12697" y="5803"/>
                  <a:pt x="12725" y="5879"/>
                </a:cubicBezTo>
                <a:cubicBezTo>
                  <a:pt x="12733" y="5887"/>
                  <a:pt x="12742" y="5896"/>
                  <a:pt x="12750" y="59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9"/>
          <p:cNvSpPr/>
          <p:nvPr/>
        </p:nvSpPr>
        <p:spPr>
          <a:xfrm>
            <a:off x="4572000" y="227664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2725" y="6325"/>
                </a:moveTo>
                <a:cubicBezTo>
                  <a:pt x="12687" y="6389"/>
                  <a:pt x="12716" y="6426"/>
                  <a:pt x="12725" y="6499"/>
                </a:cubicBezTo>
              </a:path>
              <a:path w="51" h="696">
                <a:moveTo>
                  <a:pt x="12750" y="6772"/>
                </a:moveTo>
                <a:cubicBezTo>
                  <a:pt x="12722" y="6863"/>
                  <a:pt x="12700" y="6903"/>
                  <a:pt x="12700" y="6995"/>
                </a:cubicBezTo>
                <a:cubicBezTo>
                  <a:pt x="12700" y="7003"/>
                  <a:pt x="12700" y="7012"/>
                  <a:pt x="12700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10"/>
          <p:cNvSpPr/>
          <p:nvPr/>
        </p:nvSpPr>
        <p:spPr>
          <a:xfrm>
            <a:off x="4562640" y="2678040"/>
            <a:ext cx="9360" cy="907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2700" y="7441"/>
                </a:moveTo>
                <a:cubicBezTo>
                  <a:pt x="12683" y="7636"/>
                  <a:pt x="12675" y="7567"/>
                  <a:pt x="12700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11"/>
          <p:cNvSpPr/>
          <p:nvPr/>
        </p:nvSpPr>
        <p:spPr>
          <a:xfrm>
            <a:off x="4562640" y="291924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8111"/>
                </a:moveTo>
                <a:cubicBezTo>
                  <a:pt x="12678" y="8193"/>
                  <a:pt x="12675" y="8248"/>
                  <a:pt x="12675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12"/>
          <p:cNvSpPr/>
          <p:nvPr/>
        </p:nvSpPr>
        <p:spPr>
          <a:xfrm>
            <a:off x="4562640" y="3133800"/>
            <a:ext cx="9360" cy="81000"/>
          </a:xfrm>
          <a:custGeom>
            <a:avLst/>
            <a:gdLst/>
            <a:ahLst/>
            <a:rect l="l" t="t" r="r" b="b"/>
            <a:pathLst>
              <a:path w="26" h="225">
                <a:moveTo>
                  <a:pt x="12700" y="8706"/>
                </a:moveTo>
                <a:cubicBezTo>
                  <a:pt x="12681" y="8795"/>
                  <a:pt x="12675" y="8841"/>
                  <a:pt x="12675" y="89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3"/>
          <p:cNvSpPr/>
          <p:nvPr/>
        </p:nvSpPr>
        <p:spPr>
          <a:xfrm>
            <a:off x="4562640" y="3384720"/>
            <a:ext cx="9360" cy="8064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9401"/>
                </a:moveTo>
                <a:cubicBezTo>
                  <a:pt x="12684" y="9531"/>
                  <a:pt x="12700" y="9518"/>
                  <a:pt x="12700" y="9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Ink 14"/>
          <p:cNvSpPr/>
          <p:nvPr/>
        </p:nvSpPr>
        <p:spPr>
          <a:xfrm>
            <a:off x="4562640" y="361620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2700" y="10046"/>
                </a:moveTo>
                <a:cubicBezTo>
                  <a:pt x="12692" y="10096"/>
                  <a:pt x="12683" y="10145"/>
                  <a:pt x="12675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Ink 15"/>
          <p:cNvSpPr/>
          <p:nvPr/>
        </p:nvSpPr>
        <p:spPr>
          <a:xfrm>
            <a:off x="4572000" y="3875040"/>
            <a:ext cx="9360" cy="730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12700" y="10765"/>
                </a:moveTo>
                <a:cubicBezTo>
                  <a:pt x="12700" y="10843"/>
                  <a:pt x="12711" y="10892"/>
                  <a:pt x="12725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Ink 16"/>
          <p:cNvSpPr/>
          <p:nvPr/>
        </p:nvSpPr>
        <p:spPr>
          <a:xfrm>
            <a:off x="4581360" y="4125960"/>
            <a:ext cx="1800" cy="61920"/>
          </a:xfrm>
          <a:custGeom>
            <a:avLst/>
            <a:gdLst/>
            <a:ahLst/>
            <a:rect l="l" t="t" r="r" b="b"/>
            <a:pathLst>
              <a:path w="1" h="174">
                <a:moveTo>
                  <a:pt x="12725" y="11460"/>
                </a:moveTo>
                <a:cubicBezTo>
                  <a:pt x="12725" y="11518"/>
                  <a:pt x="12725" y="11575"/>
                  <a:pt x="12725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Ink 17"/>
          <p:cNvSpPr/>
          <p:nvPr/>
        </p:nvSpPr>
        <p:spPr>
          <a:xfrm>
            <a:off x="4562640" y="434016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2700" y="12055"/>
                </a:moveTo>
                <a:cubicBezTo>
                  <a:pt x="12674" y="12148"/>
                  <a:pt x="12666" y="12189"/>
                  <a:pt x="12700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Ink 18"/>
          <p:cNvSpPr/>
          <p:nvPr/>
        </p:nvSpPr>
        <p:spPr>
          <a:xfrm>
            <a:off x="4554360" y="4581360"/>
            <a:ext cx="972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2675" y="12725"/>
                </a:moveTo>
                <a:cubicBezTo>
                  <a:pt x="12652" y="12853"/>
                  <a:pt x="12661" y="12884"/>
                  <a:pt x="12675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Ink 19"/>
          <p:cNvSpPr/>
          <p:nvPr/>
        </p:nvSpPr>
        <p:spPr>
          <a:xfrm>
            <a:off x="4545000" y="484812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12626" y="13469"/>
                </a:moveTo>
                <a:cubicBezTo>
                  <a:pt x="12626" y="13519"/>
                  <a:pt x="12626" y="13568"/>
                  <a:pt x="12626" y="136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Ink 20"/>
          <p:cNvSpPr/>
          <p:nvPr/>
        </p:nvSpPr>
        <p:spPr>
          <a:xfrm>
            <a:off x="4537080" y="5072040"/>
            <a:ext cx="79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2601" y="14089"/>
                </a:moveTo>
                <a:cubicBezTo>
                  <a:pt x="12601" y="14174"/>
                  <a:pt x="12595" y="14194"/>
                  <a:pt x="12626" y="142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Ink 21"/>
          <p:cNvSpPr/>
          <p:nvPr/>
        </p:nvSpPr>
        <p:spPr>
          <a:xfrm>
            <a:off x="4537080" y="5295960"/>
            <a:ext cx="79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2626" y="14709"/>
                </a:moveTo>
                <a:cubicBezTo>
                  <a:pt x="12603" y="14869"/>
                  <a:pt x="12601" y="15017"/>
                  <a:pt x="12601" y="151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Ink 22"/>
          <p:cNvSpPr/>
          <p:nvPr/>
        </p:nvSpPr>
        <p:spPr>
          <a:xfrm>
            <a:off x="5491080" y="1000080"/>
            <a:ext cx="509760" cy="492120"/>
          </a:xfrm>
          <a:custGeom>
            <a:avLst/>
            <a:gdLst/>
            <a:ahLst/>
            <a:rect l="l" t="t" r="r" b="b"/>
            <a:pathLst>
              <a:path w="1415" h="1365">
                <a:moveTo>
                  <a:pt x="15602" y="3746"/>
                </a:moveTo>
                <a:cubicBezTo>
                  <a:pt x="15578" y="3794"/>
                  <a:pt x="15569" y="3808"/>
                  <a:pt x="15577" y="3845"/>
                </a:cubicBezTo>
                <a:cubicBezTo>
                  <a:pt x="15607" y="3863"/>
                  <a:pt x="15703" y="3906"/>
                  <a:pt x="15726" y="3845"/>
                </a:cubicBezTo>
                <a:cubicBezTo>
                  <a:pt x="15726" y="3795"/>
                  <a:pt x="15726" y="3779"/>
                  <a:pt x="15726" y="3746"/>
                </a:cubicBezTo>
                <a:cubicBezTo>
                  <a:pt x="15652" y="3746"/>
                  <a:pt x="15629" y="3742"/>
                  <a:pt x="15577" y="3795"/>
                </a:cubicBezTo>
                <a:cubicBezTo>
                  <a:pt x="15519" y="3855"/>
                  <a:pt x="15534" y="3825"/>
                  <a:pt x="15553" y="3919"/>
                </a:cubicBezTo>
              </a:path>
              <a:path w="1415" h="1365">
                <a:moveTo>
                  <a:pt x="16247" y="3026"/>
                </a:moveTo>
                <a:cubicBezTo>
                  <a:pt x="16180" y="3100"/>
                  <a:pt x="16139" y="3177"/>
                  <a:pt x="16073" y="3249"/>
                </a:cubicBezTo>
                <a:cubicBezTo>
                  <a:pt x="16034" y="3291"/>
                  <a:pt x="16045" y="3328"/>
                  <a:pt x="15999" y="3373"/>
                </a:cubicBezTo>
              </a:path>
              <a:path w="1415" h="1365">
                <a:moveTo>
                  <a:pt x="15726" y="3497"/>
                </a:moveTo>
                <a:cubicBezTo>
                  <a:pt x="15718" y="3514"/>
                  <a:pt x="15709" y="3530"/>
                  <a:pt x="15701" y="3547"/>
                </a:cubicBezTo>
              </a:path>
              <a:path w="1415" h="1365">
                <a:moveTo>
                  <a:pt x="15577" y="3770"/>
                </a:moveTo>
                <a:cubicBezTo>
                  <a:pt x="15561" y="3778"/>
                  <a:pt x="15544" y="3787"/>
                  <a:pt x="15528" y="3795"/>
                </a:cubicBezTo>
              </a:path>
              <a:path w="1415" h="1365">
                <a:moveTo>
                  <a:pt x="15379" y="4018"/>
                </a:moveTo>
                <a:cubicBezTo>
                  <a:pt x="15313" y="4084"/>
                  <a:pt x="15296" y="4101"/>
                  <a:pt x="15255" y="4142"/>
                </a:cubicBezTo>
              </a:path>
              <a:path w="1415" h="1365">
                <a:moveTo>
                  <a:pt x="15379" y="3299"/>
                </a:moveTo>
                <a:cubicBezTo>
                  <a:pt x="15429" y="3255"/>
                  <a:pt x="15480" y="3219"/>
                  <a:pt x="15528" y="3175"/>
                </a:cubicBezTo>
                <a:cubicBezTo>
                  <a:pt x="15577" y="3131"/>
                  <a:pt x="15617" y="3106"/>
                  <a:pt x="15677" y="3076"/>
                </a:cubicBezTo>
                <a:cubicBezTo>
                  <a:pt x="15763" y="3033"/>
                  <a:pt x="15838" y="2986"/>
                  <a:pt x="15925" y="2952"/>
                </a:cubicBezTo>
                <a:cubicBezTo>
                  <a:pt x="16006" y="2921"/>
                  <a:pt x="16099" y="2876"/>
                  <a:pt x="16173" y="2828"/>
                </a:cubicBezTo>
                <a:cubicBezTo>
                  <a:pt x="16210" y="2804"/>
                  <a:pt x="16234" y="2801"/>
                  <a:pt x="16272" y="2778"/>
                </a:cubicBezTo>
                <a:cubicBezTo>
                  <a:pt x="16314" y="2848"/>
                  <a:pt x="16282" y="2918"/>
                  <a:pt x="16297" y="3001"/>
                </a:cubicBezTo>
                <a:cubicBezTo>
                  <a:pt x="16322" y="3143"/>
                  <a:pt x="16405" y="3320"/>
                  <a:pt x="16470" y="3448"/>
                </a:cubicBezTo>
                <a:cubicBezTo>
                  <a:pt x="16564" y="3603"/>
                  <a:pt x="16607" y="3677"/>
                  <a:pt x="16669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Ink 23"/>
          <p:cNvSpPr/>
          <p:nvPr/>
        </p:nvSpPr>
        <p:spPr>
          <a:xfrm>
            <a:off x="5010120" y="1589040"/>
            <a:ext cx="438120" cy="723960"/>
          </a:xfrm>
          <a:custGeom>
            <a:avLst/>
            <a:gdLst/>
            <a:ahLst/>
            <a:rect l="l" t="t" r="r" b="b"/>
            <a:pathLst>
              <a:path w="1217" h="2010">
                <a:moveTo>
                  <a:pt x="14213" y="5953"/>
                </a:moveTo>
                <a:cubicBezTo>
                  <a:pt x="14213" y="5978"/>
                  <a:pt x="14213" y="6003"/>
                  <a:pt x="14213" y="6028"/>
                </a:cubicBezTo>
                <a:cubicBezTo>
                  <a:pt x="14229" y="5987"/>
                  <a:pt x="14225" y="5904"/>
                  <a:pt x="14163" y="5953"/>
                </a:cubicBezTo>
                <a:cubicBezTo>
                  <a:pt x="14115" y="5991"/>
                  <a:pt x="14027" y="6042"/>
                  <a:pt x="14139" y="6077"/>
                </a:cubicBezTo>
                <a:cubicBezTo>
                  <a:pt x="14215" y="6101"/>
                  <a:pt x="14231" y="6027"/>
                  <a:pt x="14238" y="5978"/>
                </a:cubicBezTo>
                <a:cubicBezTo>
                  <a:pt x="14192" y="5955"/>
                  <a:pt x="14113" y="6040"/>
                  <a:pt x="14163" y="6052"/>
                </a:cubicBezTo>
                <a:cubicBezTo>
                  <a:pt x="14204" y="6032"/>
                  <a:pt x="14221" y="6035"/>
                  <a:pt x="14213" y="6003"/>
                </a:cubicBezTo>
              </a:path>
              <a:path w="1217" h="2010">
                <a:moveTo>
                  <a:pt x="14932" y="4961"/>
                </a:moveTo>
                <a:cubicBezTo>
                  <a:pt x="14990" y="4913"/>
                  <a:pt x="14997" y="4928"/>
                  <a:pt x="14957" y="4862"/>
                </a:cubicBezTo>
                <a:cubicBezTo>
                  <a:pt x="14940" y="4879"/>
                  <a:pt x="14828" y="4962"/>
                  <a:pt x="14908" y="4986"/>
                </a:cubicBezTo>
                <a:cubicBezTo>
                  <a:pt x="14940" y="4995"/>
                  <a:pt x="14990" y="4885"/>
                  <a:pt x="14982" y="4862"/>
                </a:cubicBezTo>
                <a:cubicBezTo>
                  <a:pt x="14974" y="4854"/>
                  <a:pt x="14965" y="4845"/>
                  <a:pt x="14957" y="4837"/>
                </a:cubicBezTo>
                <a:cubicBezTo>
                  <a:pt x="14934" y="4861"/>
                  <a:pt x="14820" y="4952"/>
                  <a:pt x="14908" y="4986"/>
                </a:cubicBezTo>
                <a:cubicBezTo>
                  <a:pt x="14982" y="5015"/>
                  <a:pt x="15001" y="4932"/>
                  <a:pt x="15007" y="4887"/>
                </a:cubicBezTo>
                <a:cubicBezTo>
                  <a:pt x="14961" y="4859"/>
                  <a:pt x="14908" y="4861"/>
                  <a:pt x="14858" y="4887"/>
                </a:cubicBezTo>
                <a:cubicBezTo>
                  <a:pt x="14866" y="4887"/>
                  <a:pt x="14875" y="4887"/>
                  <a:pt x="14883" y="4887"/>
                </a:cubicBezTo>
              </a:path>
              <a:path w="1217" h="2010">
                <a:moveTo>
                  <a:pt x="15131" y="4415"/>
                </a:moveTo>
                <a:cubicBezTo>
                  <a:pt x="15106" y="4465"/>
                  <a:pt x="15098" y="4481"/>
                  <a:pt x="15081" y="4514"/>
                </a:cubicBezTo>
              </a:path>
              <a:path w="1217" h="2010">
                <a:moveTo>
                  <a:pt x="14982" y="4738"/>
                </a:moveTo>
                <a:cubicBezTo>
                  <a:pt x="14930" y="4802"/>
                  <a:pt x="14915" y="4873"/>
                  <a:pt x="14883" y="4936"/>
                </a:cubicBezTo>
                <a:cubicBezTo>
                  <a:pt x="14875" y="4944"/>
                  <a:pt x="14866" y="4953"/>
                  <a:pt x="14858" y="4961"/>
                </a:cubicBezTo>
              </a:path>
              <a:path w="1217" h="2010">
                <a:moveTo>
                  <a:pt x="14784" y="5135"/>
                </a:moveTo>
                <a:cubicBezTo>
                  <a:pt x="14753" y="5179"/>
                  <a:pt x="14697" y="5234"/>
                  <a:pt x="14684" y="5283"/>
                </a:cubicBezTo>
              </a:path>
              <a:path w="1217" h="2010">
                <a:moveTo>
                  <a:pt x="14536" y="5507"/>
                </a:moveTo>
                <a:cubicBezTo>
                  <a:pt x="14501" y="5541"/>
                  <a:pt x="14472" y="5562"/>
                  <a:pt x="14461" y="5606"/>
                </a:cubicBezTo>
              </a:path>
              <a:path w="1217" h="2010">
                <a:moveTo>
                  <a:pt x="14362" y="5755"/>
                </a:moveTo>
                <a:cubicBezTo>
                  <a:pt x="14337" y="5798"/>
                  <a:pt x="14299" y="5834"/>
                  <a:pt x="14288" y="5879"/>
                </a:cubicBezTo>
              </a:path>
              <a:path w="1217" h="2010">
                <a:moveTo>
                  <a:pt x="14188" y="6028"/>
                </a:moveTo>
                <a:cubicBezTo>
                  <a:pt x="14147" y="6069"/>
                  <a:pt x="14126" y="6079"/>
                  <a:pt x="14114" y="6127"/>
                </a:cubicBezTo>
              </a:path>
              <a:path w="1217" h="2010">
                <a:moveTo>
                  <a:pt x="13990" y="6300"/>
                </a:moveTo>
                <a:cubicBezTo>
                  <a:pt x="13959" y="6345"/>
                  <a:pt x="13927" y="6378"/>
                  <a:pt x="13915" y="64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Ink 24"/>
          <p:cNvSpPr/>
          <p:nvPr/>
        </p:nvSpPr>
        <p:spPr>
          <a:xfrm>
            <a:off x="3384720" y="2401920"/>
            <a:ext cx="1544400" cy="2189160"/>
          </a:xfrm>
          <a:custGeom>
            <a:avLst/>
            <a:gdLst/>
            <a:ahLst/>
            <a:rect l="l" t="t" r="r" b="b"/>
            <a:pathLst>
              <a:path w="4292" h="6079">
                <a:moveTo>
                  <a:pt x="13419" y="7094"/>
                </a:moveTo>
                <a:cubicBezTo>
                  <a:pt x="13444" y="7109"/>
                  <a:pt x="13559" y="7133"/>
                  <a:pt x="13568" y="7069"/>
                </a:cubicBezTo>
                <a:cubicBezTo>
                  <a:pt x="13560" y="7053"/>
                  <a:pt x="13551" y="7036"/>
                  <a:pt x="13543" y="7020"/>
                </a:cubicBezTo>
                <a:cubicBezTo>
                  <a:pt x="13472" y="7029"/>
                  <a:pt x="13445" y="7043"/>
                  <a:pt x="13395" y="7094"/>
                </a:cubicBezTo>
                <a:cubicBezTo>
                  <a:pt x="13361" y="7128"/>
                  <a:pt x="13394" y="7204"/>
                  <a:pt x="13444" y="7218"/>
                </a:cubicBezTo>
                <a:cubicBezTo>
                  <a:pt x="13461" y="7218"/>
                  <a:pt x="13477" y="7218"/>
                  <a:pt x="13494" y="7218"/>
                </a:cubicBezTo>
                <a:cubicBezTo>
                  <a:pt x="13531" y="7157"/>
                  <a:pt x="13520" y="7125"/>
                  <a:pt x="13469" y="7069"/>
                </a:cubicBezTo>
                <a:cubicBezTo>
                  <a:pt x="13433" y="7030"/>
                  <a:pt x="13341" y="7036"/>
                  <a:pt x="13320" y="7094"/>
                </a:cubicBezTo>
                <a:cubicBezTo>
                  <a:pt x="13292" y="7172"/>
                  <a:pt x="13360" y="7214"/>
                  <a:pt x="13419" y="7218"/>
                </a:cubicBezTo>
                <a:cubicBezTo>
                  <a:pt x="13495" y="7222"/>
                  <a:pt x="13485" y="7207"/>
                  <a:pt x="13494" y="7144"/>
                </a:cubicBezTo>
                <a:cubicBezTo>
                  <a:pt x="13482" y="7057"/>
                  <a:pt x="13467" y="7065"/>
                  <a:pt x="13395" y="7119"/>
                </a:cubicBezTo>
                <a:cubicBezTo>
                  <a:pt x="13348" y="7154"/>
                  <a:pt x="13349" y="7153"/>
                  <a:pt x="13370" y="7193"/>
                </a:cubicBezTo>
                <a:cubicBezTo>
                  <a:pt x="13414" y="7210"/>
                  <a:pt x="13497" y="7245"/>
                  <a:pt x="13519" y="7169"/>
                </a:cubicBezTo>
                <a:cubicBezTo>
                  <a:pt x="13519" y="7152"/>
                  <a:pt x="13519" y="7136"/>
                  <a:pt x="13519" y="7119"/>
                </a:cubicBezTo>
                <a:cubicBezTo>
                  <a:pt x="13494" y="7043"/>
                  <a:pt x="13464" y="7067"/>
                  <a:pt x="13395" y="7119"/>
                </a:cubicBezTo>
                <a:cubicBezTo>
                  <a:pt x="13342" y="7159"/>
                  <a:pt x="13429" y="7215"/>
                  <a:pt x="13469" y="7193"/>
                </a:cubicBezTo>
                <a:cubicBezTo>
                  <a:pt x="13469" y="7185"/>
                  <a:pt x="13469" y="7177"/>
                  <a:pt x="13469" y="7169"/>
                </a:cubicBezTo>
              </a:path>
              <a:path w="4292" h="6079">
                <a:moveTo>
                  <a:pt x="13692" y="6672"/>
                </a:moveTo>
                <a:cubicBezTo>
                  <a:pt x="13670" y="6716"/>
                  <a:pt x="13667" y="6727"/>
                  <a:pt x="13643" y="6747"/>
                </a:cubicBezTo>
              </a:path>
              <a:path w="4292" h="6079">
                <a:moveTo>
                  <a:pt x="13519" y="6921"/>
                </a:moveTo>
                <a:cubicBezTo>
                  <a:pt x="13493" y="6965"/>
                  <a:pt x="13469" y="7001"/>
                  <a:pt x="13444" y="7045"/>
                </a:cubicBezTo>
              </a:path>
              <a:path w="4292" h="6079">
                <a:moveTo>
                  <a:pt x="13370" y="7193"/>
                </a:moveTo>
                <a:cubicBezTo>
                  <a:pt x="13341" y="7244"/>
                  <a:pt x="13313" y="7275"/>
                  <a:pt x="13271" y="7317"/>
                </a:cubicBezTo>
              </a:path>
              <a:path w="4292" h="6079">
                <a:moveTo>
                  <a:pt x="13146" y="7541"/>
                </a:moveTo>
                <a:cubicBezTo>
                  <a:pt x="13105" y="7582"/>
                  <a:pt x="13063" y="7624"/>
                  <a:pt x="13022" y="7665"/>
                </a:cubicBezTo>
              </a:path>
              <a:path w="4292" h="6079">
                <a:moveTo>
                  <a:pt x="12948" y="7764"/>
                </a:moveTo>
                <a:cubicBezTo>
                  <a:pt x="12922" y="7790"/>
                  <a:pt x="12864" y="7829"/>
                  <a:pt x="12849" y="7863"/>
                </a:cubicBezTo>
                <a:cubicBezTo>
                  <a:pt x="12849" y="7871"/>
                  <a:pt x="12849" y="7880"/>
                  <a:pt x="12849" y="7888"/>
                </a:cubicBezTo>
              </a:path>
              <a:path w="4292" h="6079">
                <a:moveTo>
                  <a:pt x="12750" y="8037"/>
                </a:moveTo>
                <a:cubicBezTo>
                  <a:pt x="12709" y="8077"/>
                  <a:pt x="12663" y="8109"/>
                  <a:pt x="12650" y="8161"/>
                </a:cubicBezTo>
              </a:path>
              <a:path w="4292" h="6079">
                <a:moveTo>
                  <a:pt x="12502" y="8334"/>
                </a:moveTo>
                <a:cubicBezTo>
                  <a:pt x="12451" y="8347"/>
                  <a:pt x="12456" y="8358"/>
                  <a:pt x="12427" y="8409"/>
                </a:cubicBezTo>
              </a:path>
              <a:path w="4292" h="6079">
                <a:moveTo>
                  <a:pt x="12328" y="8582"/>
                </a:moveTo>
                <a:cubicBezTo>
                  <a:pt x="12253" y="8665"/>
                  <a:pt x="12218" y="8692"/>
                  <a:pt x="12179" y="8781"/>
                </a:cubicBezTo>
              </a:path>
              <a:path w="4292" h="6079">
                <a:moveTo>
                  <a:pt x="12080" y="8880"/>
                </a:moveTo>
                <a:cubicBezTo>
                  <a:pt x="12060" y="8912"/>
                  <a:pt x="11964" y="9003"/>
                  <a:pt x="11956" y="9029"/>
                </a:cubicBezTo>
                <a:cubicBezTo>
                  <a:pt x="11956" y="9046"/>
                  <a:pt x="11956" y="9062"/>
                  <a:pt x="11956" y="9079"/>
                </a:cubicBezTo>
              </a:path>
              <a:path w="4292" h="6079">
                <a:moveTo>
                  <a:pt x="11906" y="9227"/>
                </a:moveTo>
                <a:cubicBezTo>
                  <a:pt x="11856" y="9240"/>
                  <a:pt x="11861" y="9251"/>
                  <a:pt x="11832" y="9302"/>
                </a:cubicBezTo>
              </a:path>
              <a:path w="4292" h="6079">
                <a:moveTo>
                  <a:pt x="11733" y="9451"/>
                </a:moveTo>
                <a:cubicBezTo>
                  <a:pt x="11691" y="9523"/>
                  <a:pt x="11692" y="9512"/>
                  <a:pt x="11683" y="9599"/>
                </a:cubicBezTo>
              </a:path>
              <a:path w="4292" h="6079">
                <a:moveTo>
                  <a:pt x="11633" y="9748"/>
                </a:moveTo>
                <a:cubicBezTo>
                  <a:pt x="11568" y="9826"/>
                  <a:pt x="11550" y="9826"/>
                  <a:pt x="11534" y="9922"/>
                </a:cubicBezTo>
              </a:path>
              <a:path w="4292" h="6079">
                <a:moveTo>
                  <a:pt x="11509" y="10071"/>
                </a:moveTo>
                <a:cubicBezTo>
                  <a:pt x="11486" y="10094"/>
                  <a:pt x="11369" y="10182"/>
                  <a:pt x="11361" y="10195"/>
                </a:cubicBezTo>
                <a:cubicBezTo>
                  <a:pt x="11353" y="10220"/>
                  <a:pt x="11344" y="10244"/>
                  <a:pt x="11336" y="10269"/>
                </a:cubicBezTo>
              </a:path>
              <a:path w="4292" h="6079">
                <a:moveTo>
                  <a:pt x="11311" y="10344"/>
                </a:moveTo>
                <a:cubicBezTo>
                  <a:pt x="11265" y="10355"/>
                  <a:pt x="11242" y="10395"/>
                  <a:pt x="11212" y="10418"/>
                </a:cubicBezTo>
                <a:cubicBezTo>
                  <a:pt x="11184" y="10446"/>
                  <a:pt x="11175" y="10459"/>
                  <a:pt x="11187" y="10492"/>
                </a:cubicBezTo>
              </a:path>
              <a:path w="4292" h="6079">
                <a:moveTo>
                  <a:pt x="11088" y="10592"/>
                </a:moveTo>
                <a:cubicBezTo>
                  <a:pt x="11043" y="10650"/>
                  <a:pt x="11013" y="10691"/>
                  <a:pt x="10964" y="10740"/>
                </a:cubicBezTo>
              </a:path>
              <a:path w="4292" h="6079">
                <a:moveTo>
                  <a:pt x="10864" y="10889"/>
                </a:moveTo>
                <a:cubicBezTo>
                  <a:pt x="10814" y="10940"/>
                  <a:pt x="10775" y="10977"/>
                  <a:pt x="10740" y="11038"/>
                </a:cubicBezTo>
              </a:path>
              <a:path w="4292" h="6079">
                <a:moveTo>
                  <a:pt x="10666" y="11162"/>
                </a:moveTo>
                <a:cubicBezTo>
                  <a:pt x="10567" y="11239"/>
                  <a:pt x="10556" y="11216"/>
                  <a:pt x="10542" y="11311"/>
                </a:cubicBezTo>
              </a:path>
              <a:path w="4292" h="6079">
                <a:moveTo>
                  <a:pt x="10443" y="11385"/>
                </a:moveTo>
                <a:cubicBezTo>
                  <a:pt x="10401" y="11427"/>
                  <a:pt x="10393" y="11435"/>
                  <a:pt x="10368" y="11460"/>
                </a:cubicBezTo>
              </a:path>
              <a:path w="4292" h="6079">
                <a:moveTo>
                  <a:pt x="10269" y="11658"/>
                </a:moveTo>
                <a:cubicBezTo>
                  <a:pt x="10249" y="11699"/>
                  <a:pt x="10240" y="11705"/>
                  <a:pt x="10244" y="11733"/>
                </a:cubicBezTo>
              </a:path>
              <a:path w="4292" h="6079">
                <a:moveTo>
                  <a:pt x="10096" y="11906"/>
                </a:moveTo>
                <a:cubicBezTo>
                  <a:pt x="10046" y="11956"/>
                  <a:pt x="9996" y="12005"/>
                  <a:pt x="9947" y="12055"/>
                </a:cubicBezTo>
              </a:path>
              <a:path w="4292" h="6079">
                <a:moveTo>
                  <a:pt x="9897" y="12278"/>
                </a:moveTo>
                <a:cubicBezTo>
                  <a:pt x="9835" y="12329"/>
                  <a:pt x="9803" y="12372"/>
                  <a:pt x="9748" y="12427"/>
                </a:cubicBezTo>
                <a:cubicBezTo>
                  <a:pt x="9723" y="12452"/>
                  <a:pt x="9715" y="12460"/>
                  <a:pt x="9699" y="12477"/>
                </a:cubicBezTo>
              </a:path>
              <a:path w="4292" h="6079">
                <a:moveTo>
                  <a:pt x="9525" y="12675"/>
                </a:moveTo>
                <a:cubicBezTo>
                  <a:pt x="9448" y="12714"/>
                  <a:pt x="9433" y="12713"/>
                  <a:pt x="9401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Ink 25"/>
          <p:cNvSpPr/>
          <p:nvPr/>
        </p:nvSpPr>
        <p:spPr>
          <a:xfrm>
            <a:off x="3098880" y="4680000"/>
            <a:ext cx="223920" cy="330120"/>
          </a:xfrm>
          <a:custGeom>
            <a:avLst/>
            <a:gdLst/>
            <a:ahLst/>
            <a:rect l="l" t="t" r="r" b="b"/>
            <a:pathLst>
              <a:path w="621" h="918">
                <a:moveTo>
                  <a:pt x="9227" y="12998"/>
                </a:moveTo>
                <a:cubicBezTo>
                  <a:pt x="9183" y="13042"/>
                  <a:pt x="9166" y="13052"/>
                  <a:pt x="9178" y="13097"/>
                </a:cubicBezTo>
              </a:path>
              <a:path w="621" h="918">
                <a:moveTo>
                  <a:pt x="9054" y="13246"/>
                </a:moveTo>
                <a:cubicBezTo>
                  <a:pt x="8994" y="13305"/>
                  <a:pt x="8990" y="13295"/>
                  <a:pt x="8979" y="13370"/>
                </a:cubicBezTo>
              </a:path>
              <a:path w="621" h="918">
                <a:moveTo>
                  <a:pt x="9004" y="13444"/>
                </a:moveTo>
                <a:cubicBezTo>
                  <a:pt x="8992" y="13456"/>
                  <a:pt x="8838" y="13572"/>
                  <a:pt x="8830" y="13593"/>
                </a:cubicBezTo>
                <a:cubicBezTo>
                  <a:pt x="8830" y="13610"/>
                  <a:pt x="8830" y="13626"/>
                  <a:pt x="8830" y="13643"/>
                </a:cubicBezTo>
              </a:path>
              <a:path w="621" h="918">
                <a:moveTo>
                  <a:pt x="8806" y="13717"/>
                </a:moveTo>
                <a:cubicBezTo>
                  <a:pt x="8762" y="13748"/>
                  <a:pt x="8664" y="13796"/>
                  <a:pt x="8632" y="13841"/>
                </a:cubicBezTo>
                <a:cubicBezTo>
                  <a:pt x="8612" y="13881"/>
                  <a:pt x="8603" y="13888"/>
                  <a:pt x="8607" y="139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Ink 26"/>
          <p:cNvSpPr/>
          <p:nvPr/>
        </p:nvSpPr>
        <p:spPr>
          <a:xfrm>
            <a:off x="3000240" y="510696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8409" y="14188"/>
                </a:moveTo>
                <a:cubicBezTo>
                  <a:pt x="8378" y="14233"/>
                  <a:pt x="8346" y="14266"/>
                  <a:pt x="8334" y="143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Ink 27"/>
          <p:cNvSpPr/>
          <p:nvPr/>
        </p:nvSpPr>
        <p:spPr>
          <a:xfrm>
            <a:off x="2616120" y="5259240"/>
            <a:ext cx="322200" cy="32256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8161" y="14610"/>
                </a:moveTo>
                <a:cubicBezTo>
                  <a:pt x="8117" y="14758"/>
                  <a:pt x="8121" y="14713"/>
                  <a:pt x="8136" y="14833"/>
                </a:cubicBezTo>
              </a:path>
              <a:path w="894" h="894">
                <a:moveTo>
                  <a:pt x="8136" y="14957"/>
                </a:moveTo>
                <a:cubicBezTo>
                  <a:pt x="8127" y="14964"/>
                  <a:pt x="7934" y="15093"/>
                  <a:pt x="7913" y="15131"/>
                </a:cubicBezTo>
                <a:cubicBezTo>
                  <a:pt x="7913" y="15139"/>
                  <a:pt x="7913" y="15148"/>
                  <a:pt x="7913" y="15156"/>
                </a:cubicBezTo>
              </a:path>
              <a:path w="894" h="894">
                <a:moveTo>
                  <a:pt x="7764" y="15255"/>
                </a:moveTo>
                <a:cubicBezTo>
                  <a:pt x="7700" y="15278"/>
                  <a:pt x="7626" y="15314"/>
                  <a:pt x="7565" y="15329"/>
                </a:cubicBezTo>
              </a:path>
              <a:path w="894" h="894">
                <a:moveTo>
                  <a:pt x="7417" y="15056"/>
                </a:moveTo>
                <a:cubicBezTo>
                  <a:pt x="7351" y="15122"/>
                  <a:pt x="7346" y="15146"/>
                  <a:pt x="7317" y="15230"/>
                </a:cubicBezTo>
                <a:cubicBezTo>
                  <a:pt x="7308" y="15257"/>
                  <a:pt x="7264" y="15411"/>
                  <a:pt x="7268" y="15429"/>
                </a:cubicBezTo>
                <a:cubicBezTo>
                  <a:pt x="7286" y="15516"/>
                  <a:pt x="7398" y="15481"/>
                  <a:pt x="7441" y="15478"/>
                </a:cubicBezTo>
                <a:cubicBezTo>
                  <a:pt x="7598" y="15468"/>
                  <a:pt x="7731" y="15438"/>
                  <a:pt x="7888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Ink 28"/>
          <p:cNvSpPr/>
          <p:nvPr/>
        </p:nvSpPr>
        <p:spPr>
          <a:xfrm>
            <a:off x="3786120" y="1276200"/>
            <a:ext cx="438120" cy="403200"/>
          </a:xfrm>
          <a:custGeom>
            <a:avLst/>
            <a:gdLst/>
            <a:ahLst/>
            <a:rect l="l" t="t" r="r" b="b"/>
            <a:pathLst>
              <a:path w="1217" h="1117">
                <a:moveTo>
                  <a:pt x="10517" y="4663"/>
                </a:moveTo>
                <a:cubicBezTo>
                  <a:pt x="10612" y="4494"/>
                  <a:pt x="10686" y="4385"/>
                  <a:pt x="10691" y="4192"/>
                </a:cubicBezTo>
                <a:cubicBezTo>
                  <a:pt x="10695" y="4046"/>
                  <a:pt x="10678" y="3912"/>
                  <a:pt x="10666" y="3770"/>
                </a:cubicBezTo>
                <a:cubicBezTo>
                  <a:pt x="10664" y="3749"/>
                  <a:pt x="10646" y="3547"/>
                  <a:pt x="10716" y="3547"/>
                </a:cubicBezTo>
                <a:cubicBezTo>
                  <a:pt x="10803" y="3547"/>
                  <a:pt x="10973" y="3619"/>
                  <a:pt x="11063" y="3646"/>
                </a:cubicBezTo>
                <a:cubicBezTo>
                  <a:pt x="11305" y="3718"/>
                  <a:pt x="11518" y="3840"/>
                  <a:pt x="11733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Page 204</a:t>
            </a:r>
            <a:br>
              <a:rPr sz="7500"/>
            </a:br>
            <a:r>
              <a:rPr b="0" lang="en-US" sz="7500" spc="-1" strike="noStrike">
                <a:solidFill>
                  <a:srgbClr val="e1dfaf"/>
                </a:solidFill>
                <a:latin typeface="Arial"/>
              </a:rPr>
              <a:t>#47 &amp; 51</a:t>
            </a:r>
            <a:endParaRPr b="0" lang="en-US" sz="7500" spc="-1" strike="noStrike">
              <a:solidFill>
                <a:srgbClr val="e1d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6:12Z</dcterms:created>
  <dc:creator>jnewman</dc:creator>
  <dc:description/>
  <dc:language>en-US</dc:language>
  <cp:lastModifiedBy>abeason</cp:lastModifiedBy>
  <dcterms:modified xsi:type="dcterms:W3CDTF">2010-05-27T13:42:33Z</dcterms:modified>
  <cp:revision>11</cp:revision>
  <dc:subject/>
  <dc:title>Lesson 2.7 part two</dc:title>
</cp:coreProperties>
</file>